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548-550D-40A5-B41B-4CCA6CC1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541-1E8D-4E3A-A5DA-9654D1BD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DA3-FF66-4CAE-A574-6DCC5D8D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2E1-B585-4C9A-AA8A-66EBDECA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6B8-C476-47CA-9796-45F94423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AC1-4E23-4491-90F9-0182B866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306-B0E6-4B8C-B23E-3DA50DB5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F9A-288B-4AAA-B8D2-516D5A95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28C-D47B-487C-AA7F-582ECF82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F38-E68A-4E91-8C56-E8C480B0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B61-FE87-4722-9104-2F6A9BD4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8E8-B696-4C14-B81C-6B671C6B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F246-0E30-45B2-B784-ECE147F8299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867280" y="2895480"/>
          <a:ext cx="2286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895480"/>
                    <a:ext cx="2286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429000" y="2895480"/>
            <a:ext cx="228600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90720" y="2909880"/>
            <a:ext cx="2286000" cy="96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90792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마케팅기법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STP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전략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tion, Targeting, Position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5562720"/>
            <a:ext cx="6095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시장 포지셔닝 전략</a:t>
            </a:r>
            <a:r>
              <a:rPr b="1" i="1" lang="ko-KR" sz="2000" spc="-1" strike="noStrike">
                <a:solidFill>
                  <a:srgbClr val="cc3300"/>
                </a:solidFill>
                <a:latin typeface="굴림"/>
              </a:rPr>
              <a:t>(Position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비자의 마인드에 제품과 브랜드에 대한 </a:t>
            </a:r>
            <a:r>
              <a:rPr b="1" lang="ko-KR" sz="1400" spc="-1" strike="noStrike">
                <a:solidFill>
                  <a:srgbClr val="cccc00"/>
                </a:solidFill>
                <a:latin typeface="굴림"/>
              </a:rPr>
              <a:t>차별화 된 위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를 차지하게 하는 것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2276640"/>
            <a:ext cx="1656000" cy="927000"/>
          </a:xfrm>
          <a:prstGeom prst="ellipse">
            <a:avLst/>
          </a:prstGeom>
          <a:noFill/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= </a:t>
            </a: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이미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2349360"/>
            <a:ext cx="609480" cy="6955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213372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제품의 포지셔닝 분석은 소비자들의 지각 속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그려져  있는 이미지를 확인하는 작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3860640"/>
            <a:ext cx="1655640" cy="927360"/>
          </a:xfrm>
          <a:prstGeom prst="ellipse">
            <a:avLst/>
          </a:prstGeom>
          <a:noFill/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≠ 이미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3059280" y="3933720"/>
            <a:ext cx="609480" cy="6955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371628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이미지는 제품에 대한 전체적인 인상인데 비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포지셔닝은 경쟁자와 비교된 소비자 마음속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Reference poi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19318200">
            <a:off x="3708360" y="5589360"/>
            <a:ext cx="1143000" cy="533160"/>
          </a:xfrm>
          <a:prstGeom prst="leftArrow">
            <a:avLst>
              <a:gd name="adj1" fmla="val 50000"/>
              <a:gd name="adj2" fmla="val 53596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734080"/>
            <a:ext cx="2590920" cy="96840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221040 h 968400"/>
              <a:gd name="textAreaBottom" fmla="*/ 747360 h 96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전략적 포지셔닝의 중요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5084640"/>
            <a:ext cx="34560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자사의 제품이나 브랜드를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쟁자와 분리시키는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특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포지셔닝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666880"/>
            <a:ext cx="1656000" cy="92736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속성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743200"/>
            <a:ext cx="60984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236232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경쟁제품과 다른 편익이나 속성을 지녔다고 소비자에 인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리 없이 강하다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대우자동차의 레간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한국지형에 강하다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삼성전자의 애니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감각내의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패션내의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좋은 사람들의 내의사장 진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114800"/>
            <a:ext cx="1656000" cy="92700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사용 상황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191120"/>
            <a:ext cx="60984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380988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구하고자 하는 제품의 적절한 사용상황을 묘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맛동산의 즐거운 파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동아 오츠카의 컨피던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486400"/>
            <a:ext cx="1655640" cy="92700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경쟁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5562720"/>
            <a:ext cx="60948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530064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경쟁제품과 비교하여 자사제품만이 줄 수 있는 혜택이나 편익강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즉석카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레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기지국이 많다는 것을 강조한 이동통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사례 </a:t>
            </a: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고정관념에서 벗어난 사례</a:t>
            </a:r>
            <a:r>
              <a:rPr b="1" lang="en-US" sz="1400" spc="-1" strike="noStrike">
                <a:solidFill>
                  <a:srgbClr val="80808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00"/>
                </a:solidFill>
                <a:latin typeface="굴림"/>
              </a:rPr>
              <a:t>에이스 침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886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파크랜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1055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쌍용아파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5435640" y="2492280"/>
            <a:ext cx="304812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침대는 과학입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3733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옷값의 거품을 뺐습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4952880"/>
            <a:ext cx="304776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아내 같은 아파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사례 </a:t>
            </a: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복수경쟁상황에서의 차별화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00"/>
                </a:solidFill>
                <a:latin typeface="굴림"/>
              </a:rPr>
              <a:t>아시아나 항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886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하이트 맥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51055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후지칼라 오토오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2590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일상생활을 통한 접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733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지하 천연 암반수 맥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4952880"/>
            <a:ext cx="304776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자동카메라를 위해 태어났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826920" y="2852640"/>
            <a:ext cx="7561080" cy="681840"/>
            <a:chOff x="826920" y="2852640"/>
            <a:chExt cx="7561080" cy="681840"/>
          </a:xfrm>
        </p:grpSpPr>
        <p:sp>
          <p:nvSpPr>
            <p:cNvPr id="200" name=""/>
            <p:cNvSpPr/>
            <p:nvPr/>
          </p:nvSpPr>
          <p:spPr>
            <a:xfrm>
              <a:off x="1403280" y="2852640"/>
              <a:ext cx="685656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71000" y="2852640"/>
              <a:ext cx="29232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5120" y="2852640"/>
              <a:ext cx="11952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2852640"/>
              <a:ext cx="4644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94560" y="321876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9280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9140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9596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18160" y="3074760"/>
              <a:ext cx="456984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2.  Marketing Mix : 4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47640" y="1125360"/>
            <a:ext cx="5977080" cy="865440"/>
          </a:xfrm>
          <a:prstGeom prst="ellipse">
            <a:avLst/>
          </a:prstGeom>
          <a:solidFill>
            <a:srgbClr val="e6e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arget Mark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49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P Framewo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2565360"/>
            <a:ext cx="172872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71640" y="2565360"/>
            <a:ext cx="172908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2565360"/>
            <a:ext cx="172872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6588000" y="2565360"/>
            <a:ext cx="172908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3284640"/>
            <a:ext cx="1728720" cy="3105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roduct co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ackag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브랜드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/nam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서비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품질보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2700360" y="3284640"/>
            <a:ext cx="1800360" cy="2993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할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격 유연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격 민감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제품수명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타제품 가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결제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716360" y="3284640"/>
            <a:ext cx="1727280" cy="3155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284640"/>
            <a:ext cx="1728720" cy="3221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홍보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광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판매촉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5164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61928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2276640"/>
            <a:ext cx="58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72000" y="206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63528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8000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마케팅의 기본절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마케팅을 진행하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6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단계의 프로세스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003640" y="234936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S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egment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421000"/>
            <a:ext cx="3311640" cy="370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시장의 세분화 토대 마련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검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 세분시장의 특징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세분시장의 측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목표 세분시장의 선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각의 목표 세분시장에 대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포지셔닝 전략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6.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각의 목표 세분시장에 알맞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마케팅 믹스 전략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(Product/Price/Place/Promoti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270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492360" y="278100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3645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76720" y="3789360"/>
            <a:ext cx="151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3357720"/>
            <a:ext cx="1800360" cy="86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T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arge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4365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P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osition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5373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Market</a:t>
            </a:r>
            <a:r>
              <a:rPr b="0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 </a:t>
            </a:r>
            <a:r>
              <a:rPr b="1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157720"/>
            <a:ext cx="1224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2781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3213000"/>
            <a:ext cx="129672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58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5157720"/>
            <a:ext cx="129708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마케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39640" y="1989000"/>
            <a:ext cx="7848360" cy="688320"/>
            <a:chOff x="539640" y="1989000"/>
            <a:chExt cx="7848360" cy="688320"/>
          </a:xfrm>
        </p:grpSpPr>
        <p:sp>
          <p:nvSpPr>
            <p:cNvPr id="68" name=""/>
            <p:cNvSpPr/>
            <p:nvPr/>
          </p:nvSpPr>
          <p:spPr>
            <a:xfrm>
              <a:off x="1148040" y="1989000"/>
              <a:ext cx="723996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56920" y="236988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7040" y="1989000"/>
              <a:ext cx="30888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2880" y="1989000"/>
              <a:ext cx="12600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9640" y="1989000"/>
              <a:ext cx="4932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8324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956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3588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25720" y="2217600"/>
              <a:ext cx="33339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1. STP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의 이해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476280"/>
            <a:ext cx="1066680" cy="77004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476280"/>
            <a:ext cx="7239240" cy="7700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마케팅 전략프로세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마케팅 전략을  세우는 틀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227664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64500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501336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petito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2997360"/>
            <a:ext cx="1800360" cy="86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Segmentation &amp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Target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4365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Positioning &amp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Differenti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2492280"/>
            <a:ext cx="4103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4149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411280" y="5229360"/>
            <a:ext cx="4105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2997360"/>
            <a:ext cx="2089080" cy="21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3573360"/>
            <a:ext cx="1081080" cy="998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7667640" y="2997360"/>
            <a:ext cx="0" cy="57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4581360"/>
            <a:ext cx="0" cy="576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414972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8244000" y="414972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3860640"/>
            <a:ext cx="7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arget mark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33577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7812000" y="3357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732720" y="45086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mo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7740720" y="4508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la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537080" y="1231920"/>
            <a:ext cx="574560" cy="1079280"/>
          </a:xfrm>
          <a:custGeom>
            <a:avLst/>
            <a:gdLst>
              <a:gd name="textAreaLeft" fmla="*/ 0 w 574560"/>
              <a:gd name="textAreaRight" fmla="*/ 574920 w 5745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T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7345440" y="1015560"/>
            <a:ext cx="574560" cy="1511280"/>
          </a:xfrm>
          <a:custGeom>
            <a:avLst/>
            <a:gdLst>
              <a:gd name="textAreaLeft" fmla="*/ 0 w 574560"/>
              <a:gd name="textAreaRight" fmla="*/ 574920 w 5745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ARKET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I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852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123640" y="618840"/>
            <a:ext cx="574560" cy="2305080"/>
          </a:xfrm>
          <a:custGeom>
            <a:avLst/>
            <a:gdLst>
              <a:gd name="textAreaLeft" fmla="*/ 0 w 574560"/>
              <a:gd name="textAreaRight" fmla="*/ 574920 w 57456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굴림"/>
              </a:rPr>
              <a:t>환경분석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3C</a:t>
            </a:r>
            <a:r>
              <a:rPr b="1" lang="zh-CN" sz="14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WO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3789360"/>
            <a:ext cx="936360" cy="719280"/>
          </a:xfrm>
          <a:custGeom>
            <a:avLst/>
            <a:gdLst>
              <a:gd name="textAreaLeft" fmla="*/ 0 w 936360"/>
              <a:gd name="textAreaRight" fmla="*/ 936720 w 936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27" y="0"/>
                </a:lnTo>
                <a:lnTo>
                  <a:pt x="21600" y="10800"/>
                </a:lnTo>
                <a:lnTo>
                  <a:pt x="201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333399"/>
            </a:solidFill>
            <a:miter/>
          </a:ln>
          <a:effectLst>
            <a:outerShdw dist="17819" dir="2700000" blurRad="0" rotWithShape="0">
              <a:srgbClr val="00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굴림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굴림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692280"/>
            <a:ext cx="1066680" cy="115236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692280"/>
            <a:ext cx="7239240" cy="115236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시장에 대한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전략이 왜 중요한가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무작정 제품을 만들거나 파는 것이 아니라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고객의 니즈와 세분화된 시장을 파악하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사에 적합한 시장으로 진입하려는 철저한 전략이 요구됨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2492280"/>
            <a:ext cx="4249440" cy="1008000"/>
          </a:xfrm>
          <a:custGeom>
            <a:avLst/>
            <a:gdLst>
              <a:gd name="textAreaLeft" fmla="*/ 0 w 4249440"/>
              <a:gd name="textAreaRight" fmla="*/ 4249440 w 4249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1" y="0"/>
                </a:lnTo>
                <a:lnTo>
                  <a:pt x="21600" y="10800"/>
                </a:lnTo>
                <a:lnTo>
                  <a:pt x="19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쟁제품 많이 등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쟁자의 시장의 진입 용이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4221000"/>
            <a:ext cx="609840" cy="1152720"/>
          </a:xfrm>
          <a:prstGeom prst="rightArrow">
            <a:avLst>
              <a:gd name="adj1" fmla="val 68269"/>
              <a:gd name="adj2" fmla="val 47333"/>
            </a:avLst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4076640"/>
            <a:ext cx="1655640" cy="158436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65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TP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의  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4221000"/>
            <a:ext cx="4191120" cy="129564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1" y="0"/>
                </a:lnTo>
                <a:lnTo>
                  <a:pt x="21600" y="10800"/>
                </a:lnTo>
                <a:lnTo>
                  <a:pt x="19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대중 고객을 작은 그룹으로 쪼갤수록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품을 좀 더 고객의 니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맞출 수 있게 됨으로써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TP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 발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7164360" y="4292640"/>
            <a:ext cx="1800360" cy="1033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</a:rPr>
              <a:t>비용과 효익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</a:rPr>
              <a:t>차원에서 분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5805360"/>
            <a:ext cx="1676520" cy="906480"/>
          </a:xfrm>
          <a:custGeom>
            <a:avLst/>
            <a:gdLst>
              <a:gd name="textAreaLeft" fmla="*/ 382680 w 1676520"/>
              <a:gd name="textAreaRight" fmla="*/ 1293840 w 1676520"/>
              <a:gd name="textAreaTop" fmla="*/ 207000 h 906480"/>
              <a:gd name="textAreaBottom" fmla="*/ 699480 h 90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고객군을 얼마나 쪼갤 것인가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8028000" y="5445000"/>
            <a:ext cx="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7236000" y="2421000"/>
            <a:ext cx="1368360" cy="1033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larendon Cd (W1)"/>
              </a:rPr>
              <a:t>매스 마케팅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</a:rPr>
              <a:t>종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349360"/>
            <a:ext cx="1655640" cy="151128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매스 마케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2565360"/>
            <a:ext cx="609480" cy="1152720"/>
          </a:xfrm>
          <a:prstGeom prst="rightArrow">
            <a:avLst>
              <a:gd name="adj1" fmla="val 68269"/>
              <a:gd name="adj2" fmla="val 47333"/>
            </a:avLst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</a:t>
            </a:r>
            <a:r>
              <a:rPr b="1" i="1" lang="en-US" sz="2000" spc="-1" strike="noStrike">
                <a:solidFill>
                  <a:srgbClr val="cc3300"/>
                </a:solidFill>
                <a:latin typeface="굴림"/>
              </a:rPr>
              <a:t>(Segmentation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다양한 욕구를 가진 소비자를 유사한 동질적 집단으로 구분하여 제품 공급 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2637000"/>
            <a:ext cx="1873440" cy="1828800"/>
          </a:xfrm>
          <a:prstGeom prst="ellipse">
            <a:avLst/>
          </a:prstGeom>
          <a:solidFill>
            <a:srgbClr val="dddddd"/>
          </a:solidFill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마케팅 기회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포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2565360"/>
            <a:ext cx="1729080" cy="280836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2276640"/>
            <a:ext cx="1441440" cy="114300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구매욕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4149720"/>
            <a:ext cx="1441440" cy="114300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구매동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270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27082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357336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809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3500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다양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소비자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3573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4653000"/>
            <a:ext cx="2971800" cy="1195200"/>
          </a:xfrm>
          <a:prstGeom prst="rect">
            <a:avLst/>
          </a:prstGeom>
          <a:solidFill>
            <a:srgbClr val="ffff00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Clarendon Cd (W1)"/>
                <a:ea typeface="돋움"/>
              </a:rPr>
              <a:t>시장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전체시장을 가장 관련성이 높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중요도에 따라 그룹화하는 과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5734080"/>
            <a:ext cx="2971800" cy="8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포르쉐 자동차의 사례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8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억명의 자동차 시장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만의 특정시장으로 구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의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021280" y="2362320"/>
            <a:ext cx="3208320" cy="396072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98560" y="2362320"/>
            <a:ext cx="3208320" cy="396072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00000"/>
            </a:solidFill>
            <a:miter/>
          </a:ln>
          <a:effectLst>
            <a:outerShdw dist="77353" dir="102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249696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장세분화의 장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143680" y="2460600"/>
            <a:ext cx="27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장 세분화의 단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3124080"/>
            <a:ext cx="25905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시장 세분화를 통하여 시장을 정확히 파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목표시장을 확실히 정할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마케팅 자원을 효과적으로 배분할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기업의 경쟁좌표를 찾을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200400"/>
            <a:ext cx="2590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시장조사 비용의 증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제품 생산원가의 상승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른 특정시장의 희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886200"/>
            <a:ext cx="609840" cy="9144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쟁적 좌표에 의한 세분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구매와 사용주체에 의한 세분화 등 다양한 기준이 있다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경쟁적 좌표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에 의한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057400"/>
            <a:ext cx="2438640" cy="1577880"/>
          </a:xfrm>
          <a:custGeom>
            <a:avLst/>
            <a:gdLst>
              <a:gd name="textAreaLeft" fmla="*/ 556560 w 2438640"/>
              <a:gd name="textAreaRight" fmla="*/ 1882080 w 2438640"/>
              <a:gd name="textAreaTop" fmla="*/ 360000 h 1577880"/>
              <a:gd name="textAreaBottom" fmla="*/ 1217880 h 157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시장 점유율과 제품수명주기에 따라 공격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방어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철수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포기시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400536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개개인의 집합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으로 시장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716280"/>
            <a:ext cx="2286000" cy="1197000"/>
          </a:xfrm>
          <a:custGeom>
            <a:avLst/>
            <a:gdLst>
              <a:gd name="textAreaLeft" fmla="*/ 521640 w 2286000"/>
              <a:gd name="textAreaRight" fmla="*/ 1764360 w 2286000"/>
              <a:gd name="textAreaTop" fmla="*/ 273240 h 1197000"/>
              <a:gd name="textAreaBottom" fmla="*/ 92376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인구통계적 특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생활유형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지리적 변수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개성변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3341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구매행동유형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에 의한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5029200"/>
            <a:ext cx="2361960" cy="1273320"/>
          </a:xfrm>
          <a:custGeom>
            <a:avLst/>
            <a:gdLst>
              <a:gd name="textAreaLeft" fmla="*/ 539280 w 2361960"/>
              <a:gd name="textAreaRight" fmla="*/ 1822680 w 2361960"/>
              <a:gd name="textAreaTop" fmla="*/ 290520 h 1273320"/>
              <a:gd name="textAreaBottom" fmla="*/ 982800 h 127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고관여  및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저관여제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표적시장 선정</a:t>
            </a:r>
            <a:r>
              <a:rPr b="1" i="1" lang="ko-KR" sz="2000" spc="-1" strike="noStrike">
                <a:solidFill>
                  <a:srgbClr val="cc3300"/>
                </a:solidFill>
                <a:latin typeface="굴림"/>
              </a:rPr>
              <a:t>(Target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마케터는 세분된 시장을 평가하고 그 중에서 회사가 공략해야 할 세분시장을 선택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2205000"/>
            <a:ext cx="1873440" cy="1295280"/>
          </a:xfrm>
          <a:prstGeom prst="ellipse">
            <a:avLst/>
          </a:prstGeom>
          <a:noFill/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굴림"/>
              </a:rPr>
              <a:t>수익성이 큰 시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2349360"/>
            <a:ext cx="609840" cy="11527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220500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1.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수익성이 큰 시장은 경쟁강도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높기 때문에 항상 좋은 기회는 아니다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비자들이 기존 경쟁자들의 제품과 브랜드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충성도가   높은 경우가 많다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4005360"/>
            <a:ext cx="1873440" cy="1295280"/>
          </a:xfrm>
          <a:prstGeom prst="ellipse">
            <a:avLst/>
          </a:prstGeom>
          <a:noFill/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니치 마켓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Niche Mark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4005360"/>
            <a:ext cx="609840" cy="11523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4005360"/>
            <a:ext cx="439236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비자들이 기존 경쟁자들의 제품과 브랜드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불 만족하는 경우가 많아서 좋은 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445000"/>
            <a:ext cx="3276360" cy="990720"/>
          </a:xfrm>
          <a:custGeom>
            <a:avLst/>
            <a:gdLst>
              <a:gd name="textAreaLeft" fmla="*/ 747720 w 3276360"/>
              <a:gd name="textAreaRight" fmla="*/ 2528640 w 327636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in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의 분류기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수익성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경쟁강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시장의 반응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2:52:50Z</dcterms:created>
  <dc:creator/>
  <dc:description/>
  <dc:language>en-US</dc:language>
  <cp:lastModifiedBy>방영민</cp:lastModifiedBy>
  <dcterms:modified xsi:type="dcterms:W3CDTF">2007-12-18T08:39:45Z</dcterms:modified>
  <cp:revision>8</cp:revision>
  <dc:subject/>
  <dc:title>마케팅기법-STP전략</dc:title>
</cp:coreProperties>
</file>