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E3B9-2916-43F5-9229-9A58EE39B1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5D80-38ED-4E8B-AB58-42631D10AC0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BF28-F762-44E6-BFD9-8144590D596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0D67-8081-4BD3-8A6B-095BB9AE02A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8E28-C93A-410A-A19A-6452F5148FA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FE41-DEE8-4393-A25F-0769228C321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51E11-2E78-4CF7-8D9B-B9B9BFCA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4E960-6435-4EA6-8E9D-5A1857A9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7E3DD-2755-426E-A06B-77BD610E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792CE-5632-4707-A317-CDD8E968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9D86B-27C4-4855-9A17-3CE97903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1187D-0B44-4E37-A1B3-2A27C06C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F65D0-CA1C-4744-A354-726C8475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00506-37F1-4F7B-BF66-1DEBB1E4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A5774-DD88-4083-8EA3-32998685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DED3A-5CB6-4AB0-9F8C-0CB6B069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9D946-F5DC-4760-A043-350F8C68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BE804-CB86-47D3-A377-692BF22D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453D4B-909C-43B4-B7E2-706E38F5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EBEFA6-2F8F-4F79-AD22-02BECF2C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18A452-658F-4C61-B218-E05BA874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BD54E6-949E-468B-9A91-A30A0932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A3EC70-C23F-439D-8EFE-AEB8C046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91F093-04FC-4618-A103-8E086DBE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C7BBB-0DF5-4753-911C-35A3010E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E222B3-E941-4536-A633-AECA1DE3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46ABA1-AD78-405D-9CBB-C77A2A13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D31BFB-21D4-4E71-8475-63BDC449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467588-C9DA-4900-9799-FC2686E7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A4758E-6FF3-4AC7-A2DC-5DD73C0D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8626-F4F6-4989-BC46-D258F9A9B8E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D692-38E7-4FD2-8171-E84D20807859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548D-E90D-4F46-8A5E-0ED9E68A30C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8937-80C9-4BD4-A1A5-348C0409EFE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1C16-DCC6-4B78-AD5E-25E7436CB3E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21B3-B1FA-45EB-9060-FB27EACDEC3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7848-741E-4124-988B-F1FA081404BA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9001080" cy="6057720"/>
            <a:chOff x="142920" y="142920"/>
            <a:chExt cx="9001080" cy="6057720"/>
          </a:xfrm>
        </p:grpSpPr>
        <p:sp>
          <p:nvSpPr>
            <p:cNvPr id="514" name="AutoShape 2"/>
            <p:cNvSpPr/>
            <p:nvPr/>
          </p:nvSpPr>
          <p:spPr>
            <a:xfrm>
              <a:off x="357120" y="3928680"/>
              <a:ext cx="878688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880" cy="178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5600" cy="2270520"/>
              <a:chOff x="142920" y="785520"/>
              <a:chExt cx="871560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30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786880" cy="2843280"/>
              <a:chOff x="142920" y="3357360"/>
              <a:chExt cx="8786880" cy="284328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285480" y="3972960"/>
                <a:ext cx="864432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 30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8) 41.1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9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4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9.9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.5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.6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0" y="357120"/>
            <a:ext cx="9001080" cy="6357960"/>
            <a:chOff x="0" y="357120"/>
            <a:chExt cx="9001080" cy="635796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64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560" y="357120"/>
              <a:ext cx="8858520" cy="4046400"/>
              <a:chOff x="142560" y="357120"/>
              <a:chExt cx="8858520" cy="404640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560" y="357120"/>
                <a:ext cx="857304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120" y="1093680"/>
                <a:ext cx="8715960" cy="33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.1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2.9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외 기계조작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매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시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3.3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1.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              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5"/>
            <a:stretch/>
          </p:blipFill>
          <p:spPr>
            <a:xfrm>
              <a:off x="0" y="4638600"/>
              <a:ext cx="4857840" cy="20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이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182840"/>
            <a:chOff x="285840" y="603360"/>
            <a:chExt cx="8643960" cy="418284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64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127760"/>
              <a:chOff x="285840" y="603360"/>
              <a:chExt cx="8643960" cy="41277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3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참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의 퇴직자 권리와 의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 및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법에도  불구하고 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대부분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357800"/>
              <a:ext cx="874908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429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하며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4297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50.9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社會的 早老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을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 &amp;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8160"/>
            <a:chOff x="0" y="0"/>
            <a:chExt cx="9144000" cy="642816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560"/>
              <a:ext cx="882036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880"/>
              <a:ext cx="8820360" cy="3428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7160"/>
              <a:ext cx="8715600" cy="1269720"/>
              <a:chOff x="142560" y="857160"/>
              <a:chExt cx="8715600" cy="126972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71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720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868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경 감소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으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가족이나 사회에 대한 경제적의존성이 높아지는 경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과 교육비 지출은 이전과 유사하거나 오히려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부담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 임금소득 최고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이후 감소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까지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후반의 임금수준 유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그보다 낮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56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58160" cy="6429600"/>
            <a:chOff x="142920" y="71280"/>
            <a:chExt cx="885816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786880" cy="2549520"/>
              <a:chOff x="142920" y="642960"/>
              <a:chExt cx="8786880" cy="254952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00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4996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44000" cy="6000840"/>
            <a:chOff x="0" y="71280"/>
            <a:chExt cx="914400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52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5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1214280"/>
              <a:ext cx="8929800" cy="27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 및 이전소득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중장년기 이후 소득변화와 다른 양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4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1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,58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176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1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92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40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6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4480"/>
            <a:chOff x="142920" y="71280"/>
            <a:chExt cx="8858160" cy="614448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80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2320"/>
              <a:chOff x="142920" y="785520"/>
              <a:chExt cx="8858160" cy="542232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62.2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9400"/>
                <a:ext cx="8715600" cy="2278440"/>
                <a:chOff x="142920" y="392940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940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736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 순으로 지출 비율과 지출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독거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577840"/>
              <a:chOff x="142920" y="785520"/>
              <a:chExt cx="9001080" cy="557784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5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노령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개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미이행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520"/>
                <a:ext cx="8786880" cy="3291840"/>
                <a:chOff x="142920" y="3071520"/>
                <a:chExt cx="8786880" cy="329184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642840"/>
                  <a:ext cx="8644320" cy="272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0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평균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로서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기초생활 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17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6.1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 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3.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생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에 불만족한다는 경우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6-5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8-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0640"/>
                <a:ext cx="8849160" cy="47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productive activity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종합할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개인과 사회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필요한 재화와 서비스를 생산하는 활동’으로 규정함이 타당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2:54:52Z</dcterms:modified>
  <cp:revision>265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