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0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dt" idx="1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 type="ftr" idx="1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PlaceHolder 6"/>
          <p:cNvSpPr>
            <a:spLocks noGrp="1"/>
          </p:cNvSpPr>
          <p:nvPr>
            <p:ph type="sldNum" idx="1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81B3C-315F-49AE-892F-9E2A8C6AFC6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90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046DC-0E0D-4D0D-AE80-9D227FE31456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90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B4318-22A1-4647-A90B-06B45F449A3B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90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DEE55-C424-426F-8129-633C21A4ECCE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91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1A155-0177-4A4E-949F-F458E37560EB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91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17456-85CF-4972-A061-7CD17756FDAF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89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104C4-E0AD-4BB7-BF3D-35A26AFC5601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89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CD1BF-1864-4014-B481-8657BF7DC18F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90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8D671-48A3-4896-BBB2-BF27AF92892A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1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2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55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56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94CC3-F8D3-40B2-9EA9-68A75A220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51177-0461-419D-83B6-F5F213BE7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50893-271B-45B7-9FC2-3A33B3563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7F7E7-4AC9-4557-A9E2-AC5F90181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1F410-4C77-423C-BB09-5CC3BAB30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E6FDF-7A11-47C3-8038-8931BAD55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CD0A7-527B-4F05-B98F-09D94224A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BCE51-089A-4707-86BB-46E7432A3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A603D-5121-4029-8714-8C80736AB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FB179-9376-4E8A-A09A-00302FE69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57D9A-6752-4067-ADD4-ABC95BF33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B05C3-792D-4C21-BA0A-D1F964BAA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000740D-1097-4566-B580-9F7215D49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F85C898-7F1F-42DF-A12A-A540B24DD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A912247-A5DE-4F6E-8C33-1D77AEE25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187E58D-047A-45FC-B72E-24DA3820E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0FA095A-8948-4A67-BE20-83D789DD9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52E9E95-7919-42C0-9282-A3C23E5A3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307729E-5DAB-4998-962C-051770875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F1FE106-7E96-4F94-8042-BE6986894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C1AF0A9-6C63-41F4-A352-F67C3B694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89FB3D3-B54F-464B-B901-A0F537DB0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0D23FD7-E77B-4A50-8C19-843872D18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FD65CE5-F1A6-4818-B7EF-844B4DEA2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E7267C-E5C3-42EB-AAE8-CAF468102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A7593B-FE71-4F4D-A949-4986F8C5F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5AD711-AAE3-491D-9892-7D3AE70D2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AB9AFB-8E5B-49E5-AE07-8730E0A7B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38AC62-D239-487A-9A29-D8E15F922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209A38-CA3D-435A-AB0D-87C1725A8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1A8BD5-454C-4B04-A586-7EA2F07BE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7FB301-FD97-4FCE-9DA8-C0E281122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6A3CB6-8087-4AE7-B1D2-67A32F372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773BD4-DB79-452B-BB94-815F53337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BE4BD8-8CF0-49C8-8BBD-3D1F8761D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8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9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CF12E8-94A0-4C26-BED7-28E6A0EF0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7.xml"/><Relationship Id="rId10" Type="http://schemas.openxmlformats.org/officeDocument/2006/relationships/slideLayout" Target="../slideLayouts/slideLayout38.xml"/><Relationship Id="rId11" Type="http://schemas.openxmlformats.org/officeDocument/2006/relationships/slideLayout" Target="../slideLayouts/slideLayout39.xml"/><Relationship Id="rId12" Type="http://schemas.openxmlformats.org/officeDocument/2006/relationships/slideLayout" Target="../slideLayouts/slideLayout40.xml"/><Relationship Id="rId13" Type="http://schemas.openxmlformats.org/officeDocument/2006/relationships/slideLayout" Target="../slideLayouts/slideLayout41.xml"/><Relationship Id="rId14" Type="http://schemas.openxmlformats.org/officeDocument/2006/relationships/slideLayout" Target="../slideLayouts/slideLayout42.xml"/><Relationship Id="rId15" Type="http://schemas.openxmlformats.org/officeDocument/2006/relationships/slideLayout" Target="../slideLayouts/slideLayout43.xml"/><Relationship Id="rId16" Type="http://schemas.openxmlformats.org/officeDocument/2006/relationships/slideLayout" Target="../slideLayouts/slideLayout44.xml"/><Relationship Id="rId17" Type="http://schemas.openxmlformats.org/officeDocument/2006/relationships/slideLayout" Target="../slideLayouts/slideLayout45.xml"/><Relationship Id="rId18" Type="http://schemas.openxmlformats.org/officeDocument/2006/relationships/slideLayout" Target="../slideLayouts/slideLayout46.xml"/><Relationship Id="rId19" Type="http://schemas.openxmlformats.org/officeDocument/2006/relationships/slideLayout" Target="../slideLayouts/slideLayout47.xml"/><Relationship Id="rId20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85.xml"/><Relationship Id="rId10" Type="http://schemas.openxmlformats.org/officeDocument/2006/relationships/slideLayout" Target="../slideLayouts/slideLayout86.xml"/><Relationship Id="rId11" Type="http://schemas.openxmlformats.org/officeDocument/2006/relationships/slideLayout" Target="../slideLayouts/slideLayout87.xml"/><Relationship Id="rId12" Type="http://schemas.openxmlformats.org/officeDocument/2006/relationships/slideLayout" Target="../slideLayouts/slideLayout88.xml"/><Relationship Id="rId13" Type="http://schemas.openxmlformats.org/officeDocument/2006/relationships/slideLayout" Target="../slideLayouts/slideLayout89.xml"/><Relationship Id="rId14" Type="http://schemas.openxmlformats.org/officeDocument/2006/relationships/slideLayout" Target="../slideLayouts/slideLayout90.xml"/><Relationship Id="rId15" Type="http://schemas.openxmlformats.org/officeDocument/2006/relationships/slideLayout" Target="../slideLayouts/slideLayout91.xml"/><Relationship Id="rId16" Type="http://schemas.openxmlformats.org/officeDocument/2006/relationships/slideLayout" Target="../slideLayouts/slideLayout92.xml"/><Relationship Id="rId17" Type="http://schemas.openxmlformats.org/officeDocument/2006/relationships/slideLayout" Target="../slideLayouts/slideLayout93.xml"/><Relationship Id="rId18" Type="http://schemas.openxmlformats.org/officeDocument/2006/relationships/slideLayout" Target="../slideLayouts/slideLayout94.xml"/><Relationship Id="rId19" Type="http://schemas.openxmlformats.org/officeDocument/2006/relationships/slideLayout" Target="../slideLayouts/slideLayout95.xml"/><Relationship Id="rId20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1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2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6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" name="AutoShape 25"/>
            <p:cNvSpPr/>
            <p:nvPr/>
          </p:nvSpPr>
          <p:spPr>
            <a:xfrm rot="16200000">
              <a:off x="7776000" y="65962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4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03C03-CB53-46B1-A9C8-B80CBE8E16E6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3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594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95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96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97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8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599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601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602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3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4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605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606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7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8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9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0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1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2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3" name="AutoShape 25"/>
            <p:cNvSpPr/>
            <p:nvPr/>
          </p:nvSpPr>
          <p:spPr>
            <a:xfrm rot="16200000">
              <a:off x="7776000" y="65977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14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E19AE-6E10-4BCC-8FFA-428D744D133B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5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6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17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 type="dt" idx="16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11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63" name="Rectangle 12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" name="Freeform 13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" name="Freeform 14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6" name="Rectangle 15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7" name="Rectangle 16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8" name="Picture 17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8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2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73" name="Group 19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74" name="AutoShape 20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" name="Rectangle 21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" name="Rectangle 22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7" name="Group 40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78" name="AutoShape 27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" name="AutoShape 32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" name="AutoShape 34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" name="Oval 25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" name="Oval 26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3" name="AutoShape 28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" name="Oval 30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5" name="AutoShape 31"/>
            <p:cNvSpPr/>
            <p:nvPr/>
          </p:nvSpPr>
          <p:spPr>
            <a:xfrm rot="16200000">
              <a:off x="7775640" y="6594840"/>
              <a:ext cx="13968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6" name="Rectangle 37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F558D-010C-4A27-A157-F7FDD44A49FD}" type="slidenum">
              <a:rPr b="0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7" name="AutoShape 41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2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2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3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3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35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36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7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8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39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40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1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2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3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4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5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6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7" name="AutoShape 25"/>
            <p:cNvSpPr/>
            <p:nvPr/>
          </p:nvSpPr>
          <p:spPr>
            <a:xfrm rot="16200000">
              <a:off x="7776000" y="65977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48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4077B-53F9-435A-8A82-E5D995C91416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9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87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8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9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90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1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92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194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95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6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7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98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99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0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1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2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3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4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5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6" name="AutoShape 25"/>
            <p:cNvSpPr/>
            <p:nvPr/>
          </p:nvSpPr>
          <p:spPr>
            <a:xfrm rot="16200000">
              <a:off x="7776000" y="65962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07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399A7-B56B-4799-99F4-D9C59DFBB3CE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8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209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10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1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212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3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14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215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216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7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8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9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0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21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222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40BF9-AE65-47CF-9347-D51968CD459A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9"/>
    <p:sldLayoutId id="2147483689" r:id="rId10"/>
    <p:sldLayoutId id="2147483690" r:id="rId11"/>
    <p:sldLayoutId id="2147483691" r:id="rId12"/>
    <p:sldLayoutId id="2147483692" r:id="rId13"/>
    <p:sldLayoutId id="2147483693" r:id="rId14"/>
    <p:sldLayoutId id="2147483694" r:id="rId15"/>
    <p:sldLayoutId id="2147483695" r:id="rId16"/>
    <p:sldLayoutId id="2147483696" r:id="rId17"/>
    <p:sldLayoutId id="2147483697" r:id="rId18"/>
    <p:sldLayoutId id="2147483698" r:id="rId19"/>
    <p:sldLayoutId id="2147483699" r:id="rId20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67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8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9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70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72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74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75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6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7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78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79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0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1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2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3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4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5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6" name="AutoShape 25"/>
            <p:cNvSpPr/>
            <p:nvPr/>
          </p:nvSpPr>
          <p:spPr>
            <a:xfrm rot="16200000">
              <a:off x="7776000" y="65962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87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52ED1-87D3-4984-A0DE-5B1BC919BFAA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8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9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330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1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2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33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4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335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337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338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9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0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41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342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3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4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5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6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7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8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9" name="AutoShape 25"/>
            <p:cNvSpPr/>
            <p:nvPr/>
          </p:nvSpPr>
          <p:spPr>
            <a:xfrm rot="16200000">
              <a:off x="7776000" y="65962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50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316B7-A43B-40F4-A295-5FF5B63C50D2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1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2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353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 type="dt" idx="8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3" name="Object 15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94" name="Object 1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95" name="Group 16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396" name="Rectangle 17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97" name="Rectangle 18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98" name="Rectangle 19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399" name="Group 20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400" name="AutoShape 21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1" name="Freeform 22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2" name="Freeform 23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3" name="Freeform 24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4" name="Freeform 25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05" name="Group 26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406" name="Picture 27" descr="Untitled-1 copy"/>
            <p:cNvPicPr/>
            <p:nvPr/>
          </p:nvPicPr>
          <p:blipFill>
            <a:blip r:embed="rId4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7" name="Picture 28" descr="Untitled-1 copy"/>
            <p:cNvPicPr/>
            <p:nvPr/>
          </p:nvPicPr>
          <p:blipFill>
            <a:blip r:embed="rId5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8" name="Picture 29" descr="Untitled-1 copy"/>
            <p:cNvPicPr/>
            <p:nvPr/>
          </p:nvPicPr>
          <p:blipFill>
            <a:blip r:embed="rId6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58ABE-6441-4C35-B494-3ACD78284B79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0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451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2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3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54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55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56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458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459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0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1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62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463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4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5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6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7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8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9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0" name="AutoShape 25"/>
            <p:cNvSpPr/>
            <p:nvPr/>
          </p:nvSpPr>
          <p:spPr>
            <a:xfrm rot="16200000">
              <a:off x="7776000" y="65977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71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99789-D1C4-42B7-9726-131AF88B89AC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2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473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4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75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476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7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78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79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480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1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2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3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85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486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7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8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 type="ftr" idx="1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 type="sldNum" idx="1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F1CB1-ADC8-456D-AB96-90B4EC2B3AC6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9"/>
    <p:sldLayoutId id="2147483741" r:id="rId10"/>
    <p:sldLayoutId id="2147483742" r:id="rId11"/>
    <p:sldLayoutId id="2147483743" r:id="rId12"/>
    <p:sldLayoutId id="2147483744" r:id="rId13"/>
    <p:sldLayoutId id="2147483745" r:id="rId14"/>
    <p:sldLayoutId id="2147483746" r:id="rId15"/>
    <p:sldLayoutId id="2147483747" r:id="rId16"/>
    <p:sldLayoutId id="2147483748" r:id="rId17"/>
    <p:sldLayoutId id="2147483749" r:id="rId18"/>
    <p:sldLayoutId id="2147483750" r:id="rId19"/>
    <p:sldLayoutId id="2147483751" r:id="rId20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0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531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2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3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34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5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536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538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539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0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1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542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543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4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5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6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7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8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9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0" name="AutoShape 25"/>
            <p:cNvSpPr/>
            <p:nvPr/>
          </p:nvSpPr>
          <p:spPr>
            <a:xfrm rot="16200000">
              <a:off x="7776000" y="65977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51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8B8A1-A0F5-4953-A1D9-499D8DE7B569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2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3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15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49.xml"/><Relationship Id="rId1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49.xml"/><Relationship Id="rId1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49.xml"/><Relationship Id="rId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49.xml"/><Relationship Id="rId10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49.xml"/><Relationship Id="rId11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49.xml"/><Relationship Id="rId1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49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49.xml"/><Relationship Id="rId11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50560" y="981000"/>
            <a:ext cx="87850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7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5700" spc="-1" strike="noStrike">
                <a:solidFill>
                  <a:srgbClr val="ffffff"/>
                </a:solidFill>
                <a:latin typeface="HY강B"/>
                <a:ea typeface="HY강B"/>
              </a:rPr>
              <a:t>1 </a:t>
            </a:r>
            <a:r>
              <a:rPr b="1" lang="ko-KR" sz="5700" spc="-1" strike="noStrike">
                <a:solidFill>
                  <a:srgbClr val="ffffff"/>
                </a:solidFill>
                <a:latin typeface="HY강B"/>
                <a:ea typeface="HY강B"/>
              </a:rPr>
              <a:t>부 노화와 노인의 이해</a:t>
            </a:r>
            <a:endParaRPr b="0" lang="en-US" sz="57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665" name="Picture 4" descr="그림1"/>
          <p:cNvPicPr/>
          <p:nvPr/>
        </p:nvPicPr>
        <p:blipFill>
          <a:blip r:embed="rId1"/>
          <a:stretch/>
        </p:blipFill>
        <p:spPr>
          <a:xfrm>
            <a:off x="0" y="2421000"/>
            <a:ext cx="9144000" cy="4437000"/>
          </a:xfrm>
          <a:prstGeom prst="rect">
            <a:avLst/>
          </a:prstGeom>
          <a:ln w="0">
            <a:noFill/>
          </a:ln>
        </p:spPr>
      </p:pic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395280" y="3213000"/>
            <a:ext cx="831528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HY강B"/>
                <a:ea typeface="HY강B"/>
              </a:rPr>
              <a:t>1</a:t>
            </a:r>
            <a:r>
              <a:rPr b="0" lang="ko-KR" sz="4100" spc="-1" strike="noStrike">
                <a:solidFill>
                  <a:srgbClr val="ffffff"/>
                </a:solidFill>
                <a:latin typeface="HY강B"/>
                <a:ea typeface="HY강B"/>
              </a:rPr>
              <a:t>장 노인과 노인문제</a:t>
            </a:r>
            <a:endParaRPr b="0" lang="en-US" sz="41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HY강B"/>
                <a:ea typeface="HY강B"/>
              </a:rPr>
              <a:t>2</a:t>
            </a:r>
            <a:r>
              <a:rPr b="1" lang="ko-KR" sz="4800" spc="-1" strike="noStrike">
                <a:solidFill>
                  <a:srgbClr val="ffff00"/>
                </a:solidFill>
                <a:latin typeface="HY강B"/>
                <a:ea typeface="HY강B"/>
              </a:rPr>
              <a:t>장 노화의 과정과 결과</a:t>
            </a:r>
            <a:endParaRPr b="0" lang="en-US" sz="4800" spc="-1" strike="noStrike">
              <a:solidFill>
                <a:srgbClr val="1d528d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8" name="그룹 1"/>
          <p:cNvGrpSpPr/>
          <p:nvPr/>
        </p:nvGrpSpPr>
        <p:grpSpPr>
          <a:xfrm>
            <a:off x="285840" y="142920"/>
            <a:ext cx="8678880" cy="5857920"/>
            <a:chOff x="285840" y="142920"/>
            <a:chExt cx="8678880" cy="5857920"/>
          </a:xfrm>
        </p:grpSpPr>
        <p:sp>
          <p:nvSpPr>
            <p:cNvPr id="789" name="AutoShape 2"/>
            <p:cNvSpPr/>
            <p:nvPr/>
          </p:nvSpPr>
          <p:spPr>
            <a:xfrm>
              <a:off x="285840" y="1008000"/>
              <a:ext cx="8644320" cy="49928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0" name="AutoShape 4"/>
            <p:cNvSpPr/>
            <p:nvPr/>
          </p:nvSpPr>
          <p:spPr>
            <a:xfrm>
              <a:off x="285840" y="142920"/>
              <a:ext cx="5572080" cy="571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HY강B"/>
                </a:rPr>
                <a:t>4) </a:t>
              </a:r>
              <a:r>
                <a:rPr b="0" lang="ko-KR" sz="2600" spc="-1" strike="noStrike">
                  <a:solidFill>
                    <a:srgbClr val="ffffff"/>
                  </a:solidFill>
                  <a:latin typeface="HY강B"/>
                </a:rPr>
                <a:t>생물적 노화의 신화와 사실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1" name="Text Box 6"/>
            <p:cNvSpPr/>
            <p:nvPr/>
          </p:nvSpPr>
          <p:spPr>
            <a:xfrm>
              <a:off x="500040" y="1106280"/>
              <a:ext cx="8464680" cy="486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buSzPct val="10279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신화</a:t>
              </a:r>
              <a:r>
                <a:rPr b="1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1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년기는 신체질병으로 가득한 시기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 lvl="1" marL="358920">
                <a:lnSpc>
                  <a:spcPct val="100000"/>
                </a:lnSpc>
                <a:spcBef>
                  <a:spcPts val="1125"/>
                </a:spcBef>
                <a:buClr>
                  <a:srgbClr val="1a2f96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질병 가능성 높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유병률이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89.5%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에 이르지만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년기 이전에 발병한 경우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lvl="1" marL="35892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많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91%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이상이 자립적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일상생활 동작능력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ADL)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유지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buSzPct val="10279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신화</a:t>
              </a:r>
              <a:r>
                <a:rPr b="1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2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매력 없고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보고 듣지도 못하고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냄새 나고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이빨도 없음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 lvl="1" marL="358920">
                <a:lnSpc>
                  <a:spcPct val="100000"/>
                </a:lnSpc>
                <a:spcBef>
                  <a:spcPts val="1125"/>
                </a:spcBef>
                <a:buClr>
                  <a:srgbClr val="1a2f96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화로 인한 외모변화가 사실이지만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화장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안경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보청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틀니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철저한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lvl="1" marL="35892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위생관리 등으로 보완이 가능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buSzPct val="10279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신화</a:t>
              </a:r>
              <a:r>
                <a:rPr b="1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3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심장발작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골절상의 위험이 있으므로 스스로 힘든 일 중단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 lvl="1" marL="358920">
                <a:lnSpc>
                  <a:spcPct val="100000"/>
                </a:lnSpc>
                <a:spcBef>
                  <a:spcPts val="1125"/>
                </a:spcBef>
                <a:buClr>
                  <a:srgbClr val="1a2f96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신체기능 저하는 성인 초기부터 진행되며 치료와 운동으로 극복가능하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lvl="1" marL="35892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이들 질환은 노년기만의 특성은 아님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신화</a:t>
              </a:r>
              <a:r>
                <a:rPr b="1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4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성에 관심도 없고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성생활도 불가능함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SzPct val="103006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성기능 저하는 사실이나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성적 노화보다는 성적 파트너 유무가 더 중요하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발기부전치료제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전 성적 유희 등으로 성생활 유지 가능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2" name="그룹 7"/>
          <p:cNvGrpSpPr/>
          <p:nvPr/>
        </p:nvGrpSpPr>
        <p:grpSpPr>
          <a:xfrm>
            <a:off x="0" y="0"/>
            <a:ext cx="9358200" cy="6357960"/>
            <a:chOff x="0" y="0"/>
            <a:chExt cx="9358200" cy="6357960"/>
          </a:xfrm>
        </p:grpSpPr>
        <p:pic>
          <p:nvPicPr>
            <p:cNvPr id="793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4" name="Rectangle 2"/>
            <p:cNvSpPr/>
            <p:nvPr/>
          </p:nvSpPr>
          <p:spPr>
            <a:xfrm>
              <a:off x="15714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2.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심리적 노화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795" name="그룹 11"/>
            <p:cNvGrpSpPr/>
            <p:nvPr/>
          </p:nvGrpSpPr>
          <p:grpSpPr>
            <a:xfrm>
              <a:off x="142560" y="928440"/>
              <a:ext cx="8929800" cy="5429520"/>
              <a:chOff x="142560" y="928440"/>
              <a:chExt cx="8929800" cy="5429520"/>
            </a:xfrm>
          </p:grpSpPr>
          <p:sp>
            <p:nvSpPr>
              <p:cNvPr id="796" name="AutoShape 2"/>
              <p:cNvSpPr/>
              <p:nvPr/>
            </p:nvSpPr>
            <p:spPr>
              <a:xfrm>
                <a:off x="142560" y="1643400"/>
                <a:ext cx="8929800" cy="47145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97" name="AutoShape 4"/>
              <p:cNvSpPr/>
              <p:nvPr/>
            </p:nvSpPr>
            <p:spPr>
              <a:xfrm>
                <a:off x="213840" y="928440"/>
                <a:ext cx="5143680" cy="57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0" lang="ko-KR" sz="2600" spc="-1" strike="noStrike">
                    <a:solidFill>
                      <a:srgbClr val="ffffff"/>
                    </a:solidFill>
                    <a:latin typeface="HY강B"/>
                  </a:rPr>
                  <a:t>심리적 노화의 개념과 특성</a:t>
                </a:r>
                <a:endParaRPr b="0" lang="en-US" sz="2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98" name="Text Box 6"/>
              <p:cNvSpPr/>
              <p:nvPr/>
            </p:nvSpPr>
            <p:spPr>
              <a:xfrm>
                <a:off x="285120" y="1765080"/>
                <a:ext cx="8644320" cy="449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개념</a:t>
                </a:r>
                <a:r>
                  <a:rPr b="1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1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감각기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지기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서 및 정신기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성격 등의 심리내적 측면과 심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외적 측면과의 상호작용에 있어서의 퇴행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지 및 성숙을 동시에 내포하는  심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spcAft>
                    <a:spcPts val="6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적 조절과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영역</a:t>
                </a:r>
                <a:r>
                  <a:rPr b="1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심리적 기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감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심리운동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신 및 정서기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 +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발달적 특성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아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spcAft>
                    <a:spcPts val="6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성격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 +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신건강 및 장애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특성</a:t>
                </a:r>
                <a:r>
                  <a:rPr b="1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물적 노화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적 노화와의 연관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287280">
                  <a:lnSpc>
                    <a:spcPct val="100000"/>
                  </a:lnSpc>
                  <a:spcBef>
                    <a:spcPts val="1063"/>
                  </a:spcBef>
                  <a:buClr>
                    <a:srgbClr val="1a2f9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물적 노화와 관련된 심리기능은 연령증가와 함께 현저하게 퇴행적 발달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287280">
                  <a:lnSpc>
                    <a:spcPct val="100000"/>
                  </a:lnSpc>
                  <a:spcBef>
                    <a:spcPts val="901"/>
                  </a:spcBef>
                  <a:buClr>
                    <a:srgbClr val="1a2f9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험과 관련된 심리기능은 유지 혹은 증가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287280">
                  <a:lnSpc>
                    <a:spcPct val="100000"/>
                  </a:lnSpc>
                  <a:spcBef>
                    <a:spcPts val="901"/>
                  </a:spcBef>
                  <a:buClr>
                    <a:srgbClr val="1a2f9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실제 생활에서는 정신기능의 쇠퇴가 의미 있는 정도로 나타나지 않음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287280">
                  <a:lnSpc>
                    <a:spcPct val="100000"/>
                  </a:lnSpc>
                  <a:spcBef>
                    <a:spcPts val="901"/>
                  </a:spcBef>
                  <a:buClr>
                    <a:srgbClr val="1a2f9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심리적 노화가 사회적 기능을 약화 또는 촉진할 수 있으며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적 노화 역시 심리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287280"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적 노화에 긍정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정의 영향을 미침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9" name="그룹 7"/>
          <p:cNvGrpSpPr/>
          <p:nvPr/>
        </p:nvGrpSpPr>
        <p:grpSpPr>
          <a:xfrm>
            <a:off x="41400" y="285840"/>
            <a:ext cx="8959680" cy="6362640"/>
            <a:chOff x="41400" y="285840"/>
            <a:chExt cx="8959680" cy="6362640"/>
          </a:xfrm>
        </p:grpSpPr>
        <p:pic>
          <p:nvPicPr>
            <p:cNvPr id="800" name="Picture 2" descr="C:\DOCUME~1\USER\LOCALS~1\Temp\UNI00000dfc7a1c.gif"/>
            <p:cNvPicPr/>
            <p:nvPr/>
          </p:nvPicPr>
          <p:blipFill>
            <a:blip r:embed="rId1"/>
            <a:stretch/>
          </p:blipFill>
          <p:spPr>
            <a:xfrm>
              <a:off x="1785960" y="5214960"/>
              <a:ext cx="1793880" cy="100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1" name="Picture 2" descr="C:\DOCUME~1\USER\LOCALS~1\Temp\UNI00000dfc7a1c.gif"/>
            <p:cNvPicPr/>
            <p:nvPr/>
          </p:nvPicPr>
          <p:blipFill>
            <a:blip r:embed="rId2"/>
            <a:stretch/>
          </p:blipFill>
          <p:spPr>
            <a:xfrm>
              <a:off x="41400" y="5357880"/>
              <a:ext cx="2315880" cy="1290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02" name="그룹 1"/>
            <p:cNvGrpSpPr/>
            <p:nvPr/>
          </p:nvGrpSpPr>
          <p:grpSpPr>
            <a:xfrm>
              <a:off x="285840" y="285840"/>
              <a:ext cx="8715240" cy="5072040"/>
              <a:chOff x="285840" y="285840"/>
              <a:chExt cx="8715240" cy="5072040"/>
            </a:xfrm>
          </p:grpSpPr>
          <p:sp>
            <p:nvSpPr>
              <p:cNvPr id="803" name="AutoShape 4"/>
              <p:cNvSpPr/>
              <p:nvPr/>
            </p:nvSpPr>
            <p:spPr>
              <a:xfrm>
                <a:off x="285840" y="285840"/>
                <a:ext cx="5089320" cy="509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0" lang="ko-KR" sz="2600" spc="-1" strike="noStrike">
                    <a:solidFill>
                      <a:srgbClr val="ffffff"/>
                    </a:solidFill>
                    <a:latin typeface="HY강B"/>
                  </a:rPr>
                  <a:t>심리적 노화의 주요이론</a:t>
                </a:r>
                <a:endParaRPr b="0" lang="en-US" sz="2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804" name="AutoShape 2"/>
              <p:cNvSpPr/>
              <p:nvPr/>
            </p:nvSpPr>
            <p:spPr>
              <a:xfrm>
                <a:off x="357120" y="983520"/>
                <a:ext cx="8501040" cy="43743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805" name="Text Box 6"/>
              <p:cNvSpPr/>
              <p:nvPr/>
            </p:nvSpPr>
            <p:spPr>
              <a:xfrm>
                <a:off x="496800" y="1171440"/>
                <a:ext cx="8504280" cy="404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01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발달과업이론</a:t>
                </a:r>
                <a:r>
                  <a:rPr b="1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, </a:t>
                </a:r>
                <a:r>
                  <a:rPr b="1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성격발달이론</a:t>
                </a:r>
                <a:r>
                  <a:rPr b="1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, </a:t>
                </a:r>
                <a:r>
                  <a:rPr b="1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인지이론  등 다양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2-2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701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발달과업이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 Harvighurst, Peck, Clark &amp; Anderson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701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성격발달이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 Erikson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 심리사회적 이론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701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지이론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701"/>
                  </a:spcBef>
                  <a:buSzPct val="10279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원감소이론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701"/>
                  </a:spcBef>
                  <a:buSzPct val="10279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행동유전이론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701"/>
                  </a:spcBef>
                  <a:buSzPct val="10279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체감이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체감 위기이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Miller) vs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체감 유지이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Atchley)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701"/>
                  </a:spcBef>
                  <a:buSzPct val="10279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초월이론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6" name="그룹 1"/>
          <p:cNvGrpSpPr/>
          <p:nvPr/>
        </p:nvGrpSpPr>
        <p:grpSpPr>
          <a:xfrm>
            <a:off x="142920" y="214200"/>
            <a:ext cx="8820000" cy="6000840"/>
            <a:chOff x="142920" y="214200"/>
            <a:chExt cx="8820000" cy="6000840"/>
          </a:xfrm>
        </p:grpSpPr>
        <p:grpSp>
          <p:nvGrpSpPr>
            <p:cNvPr id="807" name="그룹 6"/>
            <p:cNvGrpSpPr/>
            <p:nvPr/>
          </p:nvGrpSpPr>
          <p:grpSpPr>
            <a:xfrm>
              <a:off x="142920" y="1785600"/>
              <a:ext cx="8820000" cy="4429440"/>
              <a:chOff x="142920" y="1785600"/>
              <a:chExt cx="8820000" cy="4429440"/>
            </a:xfrm>
          </p:grpSpPr>
          <p:sp>
            <p:nvSpPr>
              <p:cNvPr id="808" name="AutoShape 2"/>
              <p:cNvSpPr/>
              <p:nvPr/>
            </p:nvSpPr>
            <p:spPr>
              <a:xfrm>
                <a:off x="142920" y="1785600"/>
                <a:ext cx="8820000" cy="44294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809" name="Text Box 25"/>
              <p:cNvSpPr/>
              <p:nvPr/>
            </p:nvSpPr>
            <p:spPr>
              <a:xfrm>
                <a:off x="214200" y="1904400"/>
                <a:ext cx="8715240" cy="427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시각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4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부터 약화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7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 이후는 교정해도 정상시력 회복 어려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청각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청각체계 및 중추신경계의 반응능력 감소로 청각 약화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55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 이후 음의 고저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변별력 약화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년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후기에는 보청기 등 사용 필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미각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2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 최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5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에 저하 시작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7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까지 유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8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 크게 약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후각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65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 이후 감소 시작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8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에는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3/4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도가 후각 문제 경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촉각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통각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촉각은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45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 이후 급감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통각은 연령과 큰 관련 없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지각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신경자극전달세포 감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심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심사숙고 성향의 증가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운동반응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반응시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문제해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기억력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보처리 등의 반응속도 저하→ 안전사고 위험 증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수면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2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7-8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시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일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55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 이후 급감하여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65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 이상은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5-6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시간으로 줄어들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취면장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기각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주야전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숙면장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REM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수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를 경험하는 경우가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많아짐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Wingdings"/>
                    <a:ea typeface="Wingdings"/>
                  </a:rPr>
                  <a:t>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낮은 피로회복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낮동안의 일상생활 지장 초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810" name="그룹 30"/>
            <p:cNvGrpSpPr/>
            <p:nvPr/>
          </p:nvGrpSpPr>
          <p:grpSpPr>
            <a:xfrm>
              <a:off x="181080" y="214200"/>
              <a:ext cx="8748720" cy="1071360"/>
              <a:chOff x="181080" y="214200"/>
              <a:chExt cx="8748720" cy="1071360"/>
            </a:xfrm>
          </p:grpSpPr>
          <p:sp>
            <p:nvSpPr>
              <p:cNvPr id="811" name="AutoShape 2"/>
              <p:cNvSpPr/>
              <p:nvPr/>
            </p:nvSpPr>
            <p:spPr>
              <a:xfrm>
                <a:off x="181080" y="642600"/>
                <a:ext cx="8677440" cy="6429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812" name="AutoShape 7"/>
              <p:cNvSpPr/>
              <p:nvPr/>
            </p:nvSpPr>
            <p:spPr>
              <a:xfrm>
                <a:off x="285480" y="214200"/>
                <a:ext cx="3857760" cy="500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3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심리적 노화의 양상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813" name="Text Box 25"/>
              <p:cNvSpPr/>
              <p:nvPr/>
            </p:nvSpPr>
            <p:spPr>
              <a:xfrm>
                <a:off x="366480" y="814320"/>
                <a:ext cx="8563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심리적 노화를 감각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지 및 정신기능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서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격변화로 구분 설명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814" name="AutoShape 29"/>
            <p:cNvSpPr/>
            <p:nvPr/>
          </p:nvSpPr>
          <p:spPr>
            <a:xfrm>
              <a:off x="214200" y="1285560"/>
              <a:ext cx="8572680" cy="57132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909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HY강B"/>
                </a:rPr>
                <a:t>감각기능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5" name="그룹 1"/>
          <p:cNvGrpSpPr/>
          <p:nvPr/>
        </p:nvGrpSpPr>
        <p:grpSpPr>
          <a:xfrm>
            <a:off x="181080" y="142920"/>
            <a:ext cx="8820000" cy="6215040"/>
            <a:chOff x="181080" y="142920"/>
            <a:chExt cx="8820000" cy="6215040"/>
          </a:xfrm>
        </p:grpSpPr>
        <p:sp>
          <p:nvSpPr>
            <p:cNvPr id="816" name="AutoShape 2"/>
            <p:cNvSpPr/>
            <p:nvPr/>
          </p:nvSpPr>
          <p:spPr>
            <a:xfrm>
              <a:off x="181080" y="714240"/>
              <a:ext cx="8820000" cy="56437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7" name="Text Box 25"/>
            <p:cNvSpPr/>
            <p:nvPr/>
          </p:nvSpPr>
          <p:spPr>
            <a:xfrm>
              <a:off x="250920" y="908640"/>
              <a:ext cx="8713800" cy="533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99"/>
                </a:lnSpc>
                <a:spcBef>
                  <a:spcPts val="2401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1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뇌</a:t>
              </a:r>
              <a:r>
                <a:rPr b="1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무게와 부피 감소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20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대 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1,394g</a:t>
              </a:r>
              <a:r>
                <a:rPr b="0" lang="en-US" sz="1800" spc="-1" strike="noStrike">
                  <a:solidFill>
                    <a:srgbClr val="1d528d"/>
                  </a:solidFill>
                  <a:latin typeface="Wingdings"/>
                  <a:ea typeface="Wingdings"/>
                </a:rPr>
                <a:t>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90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대 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1,161g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뉴런 퇴화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노인반과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신경섬유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농축제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등으로 뇌기능 저하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특별한 뇌병변 없으면 적정 인지기능 수준 유지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화와 인지기능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사망 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5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년 전부터 지적 능력 감소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(Riegel)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사망 직전 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terminal drop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   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(Kleemeier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지능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18-25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세 이후 점진적 쇠퇴가 일반적이나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유동성 지능은 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70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세 이후 급감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하지만 결정성 지능은 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60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세까지 꾸준히 증가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.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따라서 지능과 연령이 부적 관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라고 단정하기 어려우며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교육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생활경험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동년배집단효과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(cohort effect)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검사시 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건강상태 등에 따라 차이가 있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기억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단기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(5-10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초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최근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(1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시간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-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며칠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장기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최고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한번도 회상해보지 않은 과거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기억으로 구분되며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노년기에 단기 및 최근 기억이 약화됨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학습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일반적으로 감소되나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충분한 학습기간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구체적인 과제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결과에 대한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즉각적 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feedback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으로 보완이 가능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buClr>
                  <a:srgbClr val="1d528d"/>
                </a:buClr>
                <a:buFont typeface="HY강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사고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/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문제해결능력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일반적으로 감소되지만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연령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교육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경험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지능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직업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동년배효과 등이 복합적으로 작용함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치매는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5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장에서 상세 설명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지혜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반응속도 저하 등을 경험을 통해 얻은 지혜로 보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영성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노년기에 영성이 더욱 깊어지나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종교활동 참여가 감소하기도 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8" name="AutoShape 29"/>
            <p:cNvSpPr/>
            <p:nvPr/>
          </p:nvSpPr>
          <p:spPr>
            <a:xfrm>
              <a:off x="214200" y="142920"/>
              <a:ext cx="8574120" cy="57132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820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6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600" spc="-1" strike="noStrike">
                  <a:solidFill>
                    <a:srgbClr val="c00000"/>
                  </a:solidFill>
                  <a:latin typeface="HY강B"/>
                </a:rPr>
                <a:t>인지 및 정신기능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9" name="그룹 1"/>
          <p:cNvGrpSpPr/>
          <p:nvPr/>
        </p:nvGrpSpPr>
        <p:grpSpPr>
          <a:xfrm>
            <a:off x="109440" y="249120"/>
            <a:ext cx="8820360" cy="6194520"/>
            <a:chOff x="109440" y="249120"/>
            <a:chExt cx="8820360" cy="6194520"/>
          </a:xfrm>
        </p:grpSpPr>
        <p:grpSp>
          <p:nvGrpSpPr>
            <p:cNvPr id="820" name="그룹 6"/>
            <p:cNvGrpSpPr/>
            <p:nvPr/>
          </p:nvGrpSpPr>
          <p:grpSpPr>
            <a:xfrm>
              <a:off x="109440" y="891720"/>
              <a:ext cx="8820360" cy="5551920"/>
              <a:chOff x="109440" y="891720"/>
              <a:chExt cx="8820360" cy="5551920"/>
            </a:xfrm>
          </p:grpSpPr>
          <p:sp>
            <p:nvSpPr>
              <p:cNvPr id="821" name="AutoShape 2"/>
              <p:cNvSpPr/>
              <p:nvPr/>
            </p:nvSpPr>
            <p:spPr>
              <a:xfrm>
                <a:off x="109440" y="891720"/>
                <a:ext cx="8820360" cy="55519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822" name="Text Box 25"/>
              <p:cNvSpPr/>
              <p:nvPr/>
            </p:nvSpPr>
            <p:spPr>
              <a:xfrm>
                <a:off x="356760" y="1034640"/>
                <a:ext cx="8501400" cy="538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정체감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위기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은퇴로 자아기반 와해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)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↔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유지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은퇴 후 다른 역할로 보완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)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감정표현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감정표현능력 저하되나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사회문화요인이 더 큰 영향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자아통합 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vs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절망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Erikson)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358920">
                  <a:lnSpc>
                    <a:spcPct val="100000"/>
                  </a:lnSpc>
                  <a:spcBef>
                    <a:spcPts val="1188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자아통합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인생에 대해 만족하고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죽음을 인정하고 기다림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358920">
                  <a:lnSpc>
                    <a:spcPct val="100000"/>
                  </a:lnSpc>
                  <a:spcBef>
                    <a:spcPts val="601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절망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삶을 후회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불만족하며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죽음 수용 못하고 우울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타인 원망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죽음에 대한 태도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자아통합 성취 정도에 따라 차이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권장도서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인생수업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성격변화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유지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(Kogan)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↔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변화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(Ruth)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와 관련된 주장이 상반됨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358920">
                  <a:lnSpc>
                    <a:spcPct val="100000"/>
                  </a:lnSpc>
                  <a:spcBef>
                    <a:spcPts val="1188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노년기 성격변화의 특징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내향성 및 수동성 증가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조심성 증가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경직성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358920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증가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우울성향 증가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생에 대한 회상의 증가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친근한 사물에 대한 애착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358920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증가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성역할 지각의 변화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의존성 증가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시간 전망의 변화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유산을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358920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남기려는 경향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358920">
                  <a:lnSpc>
                    <a:spcPct val="100000"/>
                  </a:lnSpc>
                  <a:spcBef>
                    <a:spcPts val="1188"/>
                  </a:spcBef>
                  <a:buSzPct val="102985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Richard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의 노년기 성격유형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성숙형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방어형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은둔형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분노형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자학형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358920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2-3 </a:t>
                </a:r>
                <a:r>
                  <a:rPr b="0" lang="ko-KR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823" name="AutoShape 29"/>
            <p:cNvSpPr/>
            <p:nvPr/>
          </p:nvSpPr>
          <p:spPr>
            <a:xfrm>
              <a:off x="214200" y="249120"/>
              <a:ext cx="8573040" cy="57132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820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6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600" spc="-1" strike="noStrike">
                  <a:solidFill>
                    <a:srgbClr val="c00000"/>
                  </a:solidFill>
                  <a:latin typeface="HY강B"/>
                </a:rPr>
                <a:t>정서 및 성격변화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4" name="Picture 2" descr="C:\DOCUME~1\USER\LOCALS~1\Temp\UNI0000080471b7.gif"/>
          <p:cNvPicPr/>
          <p:nvPr/>
        </p:nvPicPr>
        <p:blipFill>
          <a:blip r:embed="rId1"/>
          <a:stretch/>
        </p:blipFill>
        <p:spPr>
          <a:xfrm>
            <a:off x="7880400" y="0"/>
            <a:ext cx="1263600" cy="1143000"/>
          </a:xfrm>
          <a:prstGeom prst="rect">
            <a:avLst/>
          </a:prstGeom>
          <a:ln w="0">
            <a:noFill/>
          </a:ln>
        </p:spPr>
      </p:pic>
      <p:grpSp>
        <p:nvGrpSpPr>
          <p:cNvPr id="825" name="그룹 1"/>
          <p:cNvGrpSpPr/>
          <p:nvPr/>
        </p:nvGrpSpPr>
        <p:grpSpPr>
          <a:xfrm>
            <a:off x="285840" y="285840"/>
            <a:ext cx="8647200" cy="6000840"/>
            <a:chOff x="285840" y="285840"/>
            <a:chExt cx="8647200" cy="6000840"/>
          </a:xfrm>
        </p:grpSpPr>
        <p:sp>
          <p:nvSpPr>
            <p:cNvPr id="826" name="AutoShape 4"/>
            <p:cNvSpPr/>
            <p:nvPr/>
          </p:nvSpPr>
          <p:spPr>
            <a:xfrm>
              <a:off x="285840" y="285840"/>
              <a:ext cx="5087880" cy="509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HY강B"/>
                </a:rPr>
                <a:t>4) </a:t>
              </a:r>
              <a:r>
                <a:rPr b="0" lang="ko-KR" sz="2500" spc="-1" strike="noStrike">
                  <a:solidFill>
                    <a:srgbClr val="ffffff"/>
                  </a:solidFill>
                  <a:latin typeface="HY강B"/>
                </a:rPr>
                <a:t>심리적 노화의 신화와 사실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7" name="AutoShape 2"/>
            <p:cNvSpPr/>
            <p:nvPr/>
          </p:nvSpPr>
          <p:spPr>
            <a:xfrm>
              <a:off x="285840" y="983520"/>
              <a:ext cx="8643960" cy="53031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8" name="Text Box 6"/>
            <p:cNvSpPr/>
            <p:nvPr/>
          </p:nvSpPr>
          <p:spPr>
            <a:xfrm>
              <a:off x="428400" y="1146960"/>
              <a:ext cx="8504640" cy="502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400"/>
                </a:spcBef>
                <a:buSzPct val="10279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신화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1: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하루 종일 잠만 잔다→ 수면부족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낮시간의 지루함 해소 목적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400"/>
                </a:spcBef>
                <a:buSzPct val="10279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신화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2: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융통성 없고 고집스러움 → 더 넓게 보고 사고함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지혜의 표현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400"/>
                </a:spcBef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신화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3: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평화롭고 평안한 시기 → 관계위축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지위상실 등의 스트레스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400"/>
                </a:spcBef>
                <a:buSzPct val="10279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신화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4: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기억저하와 치매 → 단기기억상실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노인의 치매 유병률은 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9.8%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400"/>
                </a:spcBef>
                <a:buSzPct val="10279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신화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5: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학습이 어렵고 지능저하 → 구체적이고 흥미로운 과제와 충분한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시간과 동기를 부여하면 능력 상승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결정성 지능은 높아짐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400"/>
                </a:spcBef>
                <a:buSzPct val="10279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신화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6: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문제해결 능력저하 → 단순히 노화에 의한 능력저하는 아님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400"/>
                </a:spcBef>
                <a:buSzPct val="10279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신화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7: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젊은이보다 죽음을 두려워함 → 대부분 죽음을 편안히 수용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400"/>
                </a:spcBef>
                <a:buSzPct val="10279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신화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8: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의존적임 → 대부분의 노인들은 자립적 생활 가능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400"/>
                </a:spcBef>
                <a:buSzPct val="102792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신화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9: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종교에 몰입 → 종교참여빈도 높아지고 영성이 깊어지는 것이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일반적일지라도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종교에 몰입하지는 않음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그룹 13"/>
          <p:cNvGrpSpPr/>
          <p:nvPr/>
        </p:nvGrpSpPr>
        <p:grpSpPr>
          <a:xfrm>
            <a:off x="0" y="0"/>
            <a:ext cx="9144000" cy="6215040"/>
            <a:chOff x="0" y="0"/>
            <a:chExt cx="9144000" cy="6215040"/>
          </a:xfrm>
        </p:grpSpPr>
        <p:grpSp>
          <p:nvGrpSpPr>
            <p:cNvPr id="830" name="그룹 20"/>
            <p:cNvGrpSpPr/>
            <p:nvPr/>
          </p:nvGrpSpPr>
          <p:grpSpPr>
            <a:xfrm>
              <a:off x="0" y="0"/>
              <a:ext cx="9144000" cy="3857760"/>
              <a:chOff x="0" y="0"/>
              <a:chExt cx="9144000" cy="3857760"/>
            </a:xfrm>
          </p:grpSpPr>
          <p:sp>
            <p:nvSpPr>
              <p:cNvPr id="831" name="AutoShape 2"/>
              <p:cNvSpPr/>
              <p:nvPr/>
            </p:nvSpPr>
            <p:spPr>
              <a:xfrm>
                <a:off x="285480" y="1643040"/>
                <a:ext cx="8715600" cy="22147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832" name="그림 3" descr="title.jpg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9144000" cy="1143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3" name="Rectangle 2"/>
              <p:cNvSpPr/>
              <p:nvPr/>
            </p:nvSpPr>
            <p:spPr>
              <a:xfrm>
                <a:off x="1428480" y="285480"/>
                <a:ext cx="7286760" cy="64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400" spc="-1" strike="noStrike">
                    <a:solidFill>
                      <a:srgbClr val="ffffff"/>
                    </a:solidFill>
                    <a:latin typeface="HY강B"/>
                  </a:rPr>
                  <a:t>4.</a:t>
                </a:r>
                <a:r>
                  <a:rPr b="0" lang="ko-KR" sz="3400" spc="-1" strike="noStrike">
                    <a:solidFill>
                      <a:srgbClr val="ffffff"/>
                    </a:solidFill>
                    <a:latin typeface="HY강B"/>
                  </a:rPr>
                  <a:t> </a:t>
                </a:r>
                <a:r>
                  <a:rPr b="0" lang="ko-KR" sz="3400" spc="-1" strike="noStrike">
                    <a:solidFill>
                      <a:srgbClr val="ffffff"/>
                    </a:solidFill>
                    <a:latin typeface="HY강B"/>
                  </a:rPr>
                  <a:t>사회적 노화</a:t>
                </a:r>
                <a:endParaRPr b="0" lang="en-US" sz="3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834" name="그룹 15"/>
            <p:cNvGrpSpPr/>
            <p:nvPr/>
          </p:nvGrpSpPr>
          <p:grpSpPr>
            <a:xfrm>
              <a:off x="285480" y="1145880"/>
              <a:ext cx="8715600" cy="5069160"/>
              <a:chOff x="285480" y="1145880"/>
              <a:chExt cx="8715600" cy="5069160"/>
            </a:xfrm>
          </p:grpSpPr>
          <p:sp>
            <p:nvSpPr>
              <p:cNvPr id="835" name="AutoShape 2"/>
              <p:cNvSpPr/>
              <p:nvPr/>
            </p:nvSpPr>
            <p:spPr>
              <a:xfrm>
                <a:off x="285480" y="4643280"/>
                <a:ext cx="8715600" cy="15717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836" name="그룹 10"/>
              <p:cNvGrpSpPr/>
              <p:nvPr/>
            </p:nvGrpSpPr>
            <p:grpSpPr>
              <a:xfrm>
                <a:off x="356760" y="1145880"/>
                <a:ext cx="8644320" cy="2676960"/>
                <a:chOff x="356760" y="1145880"/>
                <a:chExt cx="8644320" cy="2676960"/>
              </a:xfrm>
            </p:grpSpPr>
            <p:sp>
              <p:nvSpPr>
                <p:cNvPr id="837" name="AutoShape 4"/>
                <p:cNvSpPr/>
                <p:nvPr/>
              </p:nvSpPr>
              <p:spPr>
                <a:xfrm>
                  <a:off x="356760" y="1145880"/>
                  <a:ext cx="4643640" cy="5000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1) </a:t>
                  </a:r>
                  <a:r>
                    <a:rPr b="1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사회적 노화의 개념과 특성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838" name="Text Box 6"/>
                <p:cNvSpPr/>
                <p:nvPr/>
              </p:nvSpPr>
              <p:spPr>
                <a:xfrm>
                  <a:off x="356760" y="1785600"/>
                  <a:ext cx="8644320" cy="203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buSzPct val="10281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개념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: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년기로의 전환과 함께 나타나는 개인수준의 사회적 상황변화 즉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회적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관계망과 상호작용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회규범과 사회화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지위와 역할의 변화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buSzPct val="10281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영역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개인수준의 사회적 상황변화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+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회가 노인에 미치는 영향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+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인구로 인해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나타나는 사회적 변화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buSzPct val="10281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일반적으로 개인 수준의 사회적 상황변화를 중심으로 논의함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39" name="그룹 10"/>
              <p:cNvGrpSpPr/>
              <p:nvPr/>
            </p:nvGrpSpPr>
            <p:grpSpPr>
              <a:xfrm>
                <a:off x="356760" y="4143240"/>
                <a:ext cx="8644320" cy="2031120"/>
                <a:chOff x="356760" y="4143240"/>
                <a:chExt cx="8644320" cy="2031120"/>
              </a:xfrm>
            </p:grpSpPr>
            <p:sp>
              <p:nvSpPr>
                <p:cNvPr id="840" name="AutoShape 4"/>
                <p:cNvSpPr/>
                <p:nvPr/>
              </p:nvSpPr>
              <p:spPr>
                <a:xfrm>
                  <a:off x="356760" y="4143240"/>
                  <a:ext cx="4643640" cy="4996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2) </a:t>
                  </a:r>
                  <a:r>
                    <a:rPr b="1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사회적 노화의 주요 이론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841" name="Text Box 6"/>
                <p:cNvSpPr/>
                <p:nvPr/>
              </p:nvSpPr>
              <p:spPr>
                <a:xfrm>
                  <a:off x="356760" y="4754160"/>
                  <a:ext cx="8644320" cy="14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buSzPct val="102812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활동이론</a:t>
                  </a: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분리이론</a:t>
                  </a: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지속이론</a:t>
                  </a: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역할이론</a:t>
                  </a: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스트레스 이론</a:t>
                  </a: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생활과정이론</a:t>
                  </a: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현대화이론</a:t>
                  </a: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구조지체이론</a:t>
                  </a: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낙인이론</a:t>
                  </a: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사회와해이론</a:t>
                  </a: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하위문화이론</a:t>
                  </a: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연령계층화이론</a:t>
                  </a: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세계체제이론</a:t>
                  </a: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정치경제이론</a:t>
                  </a: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교환이론 등 매우 다양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표 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2-4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참조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2" name="그룹 1"/>
          <p:cNvGrpSpPr/>
          <p:nvPr/>
        </p:nvGrpSpPr>
        <p:grpSpPr>
          <a:xfrm>
            <a:off x="108000" y="142920"/>
            <a:ext cx="9288360" cy="6303960"/>
            <a:chOff x="108000" y="142920"/>
            <a:chExt cx="9288360" cy="6303960"/>
          </a:xfrm>
        </p:grpSpPr>
        <p:sp>
          <p:nvSpPr>
            <p:cNvPr id="843" name="AutoShape 4"/>
            <p:cNvSpPr/>
            <p:nvPr/>
          </p:nvSpPr>
          <p:spPr>
            <a:xfrm>
              <a:off x="285480" y="142920"/>
              <a:ext cx="442908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1" lang="ko-KR" sz="2600" spc="-1" strike="noStrike">
                  <a:solidFill>
                    <a:srgbClr val="ffffff"/>
                  </a:solidFill>
                  <a:latin typeface="HY강B"/>
                </a:rPr>
                <a:t>사회적 노화의 양상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4" name="AutoShape 2"/>
            <p:cNvSpPr/>
            <p:nvPr/>
          </p:nvSpPr>
          <p:spPr>
            <a:xfrm>
              <a:off x="214560" y="857160"/>
              <a:ext cx="8819640" cy="7027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5" name="Text Box 6"/>
            <p:cNvSpPr/>
            <p:nvPr/>
          </p:nvSpPr>
          <p:spPr>
            <a:xfrm>
              <a:off x="250560" y="764640"/>
              <a:ext cx="9145800" cy="78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buSzPct val="10279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관계망과 상호작용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연령규범과 사회화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지위와 역할변화로 구분 설명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제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2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부에서 상세히 논의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846" name="그룹 6"/>
            <p:cNvGrpSpPr/>
            <p:nvPr/>
          </p:nvGrpSpPr>
          <p:grpSpPr>
            <a:xfrm>
              <a:off x="108000" y="1485000"/>
              <a:ext cx="8893080" cy="4961880"/>
              <a:chOff x="108000" y="1485000"/>
              <a:chExt cx="8893080" cy="4961880"/>
            </a:xfrm>
          </p:grpSpPr>
          <p:grpSp>
            <p:nvGrpSpPr>
              <p:cNvPr id="847" name="그룹 6"/>
              <p:cNvGrpSpPr/>
              <p:nvPr/>
            </p:nvGrpSpPr>
            <p:grpSpPr>
              <a:xfrm>
                <a:off x="108000" y="1845000"/>
                <a:ext cx="8893080" cy="4601880"/>
                <a:chOff x="108000" y="1845000"/>
                <a:chExt cx="8893080" cy="4601880"/>
              </a:xfrm>
            </p:grpSpPr>
            <p:sp>
              <p:nvSpPr>
                <p:cNvPr id="848" name="AutoShape 2"/>
                <p:cNvSpPr/>
                <p:nvPr/>
              </p:nvSpPr>
              <p:spPr>
                <a:xfrm>
                  <a:off x="108000" y="1917000"/>
                  <a:ext cx="8819640" cy="45298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849" name="Text Box 25"/>
                <p:cNvSpPr/>
                <p:nvPr/>
              </p:nvSpPr>
              <p:spPr>
                <a:xfrm>
                  <a:off x="357120" y="1845000"/>
                  <a:ext cx="8643960" cy="45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buSzPct val="10281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퇴직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배우자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친구의 상실 등으로 관계망 축소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1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차 집단 그 중에서도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가족이나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자녀가 사회적 관계의 중심이 됨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buSzPct val="10279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부부관계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 lvl="1" marL="216000">
                    <a:lnSpc>
                      <a:spcPct val="100000"/>
                    </a:lnSpc>
                    <a:spcBef>
                      <a:spcPts val="601"/>
                    </a:spcBef>
                    <a:buClr>
                      <a:srgbClr val="174578"/>
                    </a:buClr>
                    <a:buFont typeface="Wingdings" charset="2"/>
                    <a:buChar char="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수명연장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자녀 양육기간 감소로 노후 여가시간과 노부부시기 연장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 lvl="1" marL="216000">
                    <a:lnSpc>
                      <a:spcPct val="100000"/>
                    </a:lnSpc>
                    <a:spcBef>
                      <a:spcPts val="601"/>
                    </a:spcBef>
                    <a:buClr>
                      <a:srgbClr val="174578"/>
                    </a:buClr>
                    <a:buFont typeface="Wingdings" charset="2"/>
                    <a:buChar char="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부부관계의 결정요인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건강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경제 자립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생활범위조정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양성적 역할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 lvl="1" marL="216000">
                    <a:lnSpc>
                      <a:spcPct val="100000"/>
                    </a:lnSpc>
                    <a:spcBef>
                      <a:spcPts val="601"/>
                    </a:spcBef>
                    <a:buClr>
                      <a:srgbClr val="174578"/>
                    </a:buClr>
                    <a:buFont typeface="Wingdings" charset="2"/>
                    <a:buChar char="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배우자 상실의 영향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우울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비통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죄의식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활동 관심저하 등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 lvl="1" marL="216000">
                    <a:lnSpc>
                      <a:spcPct val="100000"/>
                    </a:lnSpc>
                    <a:spcBef>
                      <a:spcPts val="601"/>
                    </a:spcBef>
                    <a:buClr>
                      <a:srgbClr val="174578"/>
                    </a:buClr>
                    <a:buFont typeface="Wingdings" charset="2"/>
                    <a:buChar char="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황혼이혼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년기 재혼의 증가 추이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buSzPct val="102792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부모</a:t>
                  </a:r>
                  <a:r>
                    <a:rPr b="0" lang="en-US" sz="20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-</a:t>
                  </a:r>
                  <a:r>
                    <a:rPr b="0" lang="ko-KR" sz="20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자녀관계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 lvl="1" marL="216000">
                    <a:lnSpc>
                      <a:spcPct val="100000"/>
                    </a:lnSpc>
                    <a:spcBef>
                      <a:spcPts val="1125"/>
                    </a:spcBef>
                    <a:buClr>
                      <a:srgbClr val="174578"/>
                    </a:buClr>
                    <a:buFont typeface="Wingdings" charset="2"/>
                    <a:buChar char="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별거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연락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/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접촉빈도 감소 등의 양적 변화와 아울러 정서적 유대관계도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 lvl="1" marL="216000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약화되는 추세임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 lvl="1" marL="216000">
                    <a:lnSpc>
                      <a:spcPct val="100000"/>
                    </a:lnSpc>
                    <a:spcBef>
                      <a:spcPts val="601"/>
                    </a:spcBef>
                    <a:buClr>
                      <a:srgbClr val="174578"/>
                    </a:buClr>
                    <a:buFont typeface="Wingdings" charset="2"/>
                    <a:buChar char="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empty nest period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를 잘 극복하기 위해서 건강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소득유지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자녀와 상호지원관계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 lvl="1" marL="216000"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형성이 필요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0" name="AutoShape 29"/>
              <p:cNvSpPr/>
              <p:nvPr/>
            </p:nvSpPr>
            <p:spPr>
              <a:xfrm>
                <a:off x="142920" y="1485000"/>
                <a:ext cx="857268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사회적 관계망과의 상호작용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1" name="그룹 9"/>
          <p:cNvGrpSpPr/>
          <p:nvPr/>
        </p:nvGrpSpPr>
        <p:grpSpPr>
          <a:xfrm>
            <a:off x="142920" y="77760"/>
            <a:ext cx="8891640" cy="6280200"/>
            <a:chOff x="142920" y="77760"/>
            <a:chExt cx="8891640" cy="6280200"/>
          </a:xfrm>
        </p:grpSpPr>
        <p:grpSp>
          <p:nvGrpSpPr>
            <p:cNvPr id="852" name="그룹 6"/>
            <p:cNvGrpSpPr/>
            <p:nvPr/>
          </p:nvGrpSpPr>
          <p:grpSpPr>
            <a:xfrm>
              <a:off x="214200" y="77760"/>
              <a:ext cx="8820360" cy="2637360"/>
              <a:chOff x="214200" y="77760"/>
              <a:chExt cx="8820360" cy="2637360"/>
            </a:xfrm>
          </p:grpSpPr>
          <p:sp>
            <p:nvSpPr>
              <p:cNvPr id="853" name="AutoShape 2"/>
              <p:cNvSpPr/>
              <p:nvPr/>
            </p:nvSpPr>
            <p:spPr>
              <a:xfrm>
                <a:off x="214200" y="142920"/>
                <a:ext cx="8820360" cy="25722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854" name="Text Box 25"/>
              <p:cNvSpPr/>
              <p:nvPr/>
            </p:nvSpPr>
            <p:spPr>
              <a:xfrm>
                <a:off x="356760" y="77760"/>
                <a:ext cx="8644320" cy="261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조손관계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216000">
                  <a:lnSpc>
                    <a:spcPct val="100000"/>
                  </a:lnSpc>
                  <a:spcBef>
                    <a:spcPts val="601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문화전수와 손자녀 교육 기능 축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216000">
                  <a:lnSpc>
                    <a:spcPct val="100000"/>
                  </a:lnSpc>
                  <a:spcBef>
                    <a:spcPts val="601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온화하고 관대해지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원거리형과 재미추구형 조손관계 증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친구관계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216000">
                  <a:lnSpc>
                    <a:spcPct val="100000"/>
                  </a:lnSpc>
                  <a:spcBef>
                    <a:spcPts val="601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기존관계의 축소에 따라 친구관계가 주요 자아지지 기반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216000">
                  <a:lnSpc>
                    <a:spcPct val="100000"/>
                  </a:lnSpc>
                  <a:spcBef>
                    <a:spcPts val="601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친구수 줄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새로운 친구 사귀기 어렵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이웃과 중복되는 경향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216000">
                  <a:lnSpc>
                    <a:spcPct val="100000"/>
                  </a:lnSpc>
                  <a:spcBef>
                    <a:spcPts val="601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친구관계 유지 조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건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적 안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동일지역 장기 거주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855" name="그룹 11"/>
            <p:cNvGrpSpPr/>
            <p:nvPr/>
          </p:nvGrpSpPr>
          <p:grpSpPr>
            <a:xfrm>
              <a:off x="142920" y="2675160"/>
              <a:ext cx="8891640" cy="3682800"/>
              <a:chOff x="142920" y="2675160"/>
              <a:chExt cx="8891640" cy="3682800"/>
            </a:xfrm>
          </p:grpSpPr>
          <p:grpSp>
            <p:nvGrpSpPr>
              <p:cNvPr id="856" name="그룹 6"/>
              <p:cNvGrpSpPr/>
              <p:nvPr/>
            </p:nvGrpSpPr>
            <p:grpSpPr>
              <a:xfrm>
                <a:off x="214200" y="3206880"/>
                <a:ext cx="8820360" cy="3151080"/>
                <a:chOff x="214200" y="3206880"/>
                <a:chExt cx="8820360" cy="3151080"/>
              </a:xfrm>
            </p:grpSpPr>
            <p:sp>
              <p:nvSpPr>
                <p:cNvPr id="857" name="AutoShape 2"/>
                <p:cNvSpPr/>
                <p:nvPr/>
              </p:nvSpPr>
              <p:spPr>
                <a:xfrm>
                  <a:off x="214200" y="3206880"/>
                  <a:ext cx="8820360" cy="31510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858" name="Text Box 25"/>
                <p:cNvSpPr/>
                <p:nvPr/>
              </p:nvSpPr>
              <p:spPr>
                <a:xfrm>
                  <a:off x="356760" y="3246480"/>
                  <a:ext cx="8644320" cy="30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57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화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적 상호작용을 통해 규범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가치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역할기대 등을 학습하고 사회생활에 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필요한 기술을 발전시키는 사회적 학습과정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57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는 젊은 층의 사회화에 더욱 주력함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57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년기의 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age norm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에 대한 합의가 이루어지지 않고 있으며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에 대한 긍정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-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부정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시각이 혼재함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.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다만 사회에서의 분리보다는 활기찬 노화를 선호하는 방향으로 전환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57"/>
                    <a:buBlip>
                      <a:blip r:embed="rId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예비적 사회화 없이 노년기에 진입하므로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후적응에 문제를 경험하고 사회적 소외 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경험 가능성 높아짐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57"/>
                    <a:buBlip>
                      <a:blip r:embed="rId7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들은 ‘나이값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(acting his age)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도 못하는 사람’으로 취급되며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적 비난과 차별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을 받을 가능성이 높아짐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9" name="AutoShape 29"/>
              <p:cNvSpPr/>
              <p:nvPr/>
            </p:nvSpPr>
            <p:spPr>
              <a:xfrm>
                <a:off x="142920" y="2675160"/>
                <a:ext cx="857268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연령규범과 사회화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grpSp>
        <p:nvGrpSpPr>
          <p:cNvPr id="668" name="Group 6"/>
          <p:cNvGrpSpPr/>
          <p:nvPr/>
        </p:nvGrpSpPr>
        <p:grpSpPr>
          <a:xfrm>
            <a:off x="-2411280" y="1978200"/>
            <a:ext cx="4032000" cy="3776400"/>
            <a:chOff x="-2411280" y="1978200"/>
            <a:chExt cx="4032000" cy="3776400"/>
          </a:xfrm>
        </p:grpSpPr>
        <p:sp>
          <p:nvSpPr>
            <p:cNvPr id="669" name="AutoShape 7"/>
            <p:cNvSpPr/>
            <p:nvPr/>
          </p:nvSpPr>
          <p:spPr>
            <a:xfrm rot="5400000">
              <a:off x="-2283480" y="1850040"/>
              <a:ext cx="3776400" cy="4032000"/>
            </a:xfrm>
            <a:custGeom>
              <a:avLst/>
              <a:gdLst>
                <a:gd name="textAreaLeft" fmla="*/ 69840 w 3776400"/>
                <a:gd name="textAreaRight" fmla="*/ 3706560 w 3776400"/>
                <a:gd name="textAreaTop" fmla="*/ 0 h 4032000"/>
                <a:gd name="textAreaBottom" fmla="*/ 2544840 h 40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23" y="10641"/>
                  </a:moveTo>
                  <a:cubicBezTo>
                    <a:pt x="410" y="4916"/>
                    <a:pt x="5075" y="321"/>
                    <a:pt x="10800" y="322"/>
                  </a:cubicBezTo>
                  <a:cubicBezTo>
                    <a:pt x="16524" y="322"/>
                    <a:pt x="21189" y="4916"/>
                    <a:pt x="21276" y="10641"/>
                  </a:cubicBezTo>
                  <a:lnTo>
                    <a:pt x="21598" y="10636"/>
                  </a:lnTo>
                  <a:cubicBezTo>
                    <a:pt x="21509" y="4736"/>
                    <a:pt x="16700" y="-1"/>
                    <a:pt x="10799" y="0"/>
                  </a:cubicBezTo>
                  <a:cubicBezTo>
                    <a:pt x="4899" y="0"/>
                    <a:pt x="90" y="4736"/>
                    <a:pt x="1" y="10636"/>
                  </a:cubicBezTo>
                  <a:lnTo>
                    <a:pt x="323" y="1064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84313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0" name="AutoShape 8"/>
            <p:cNvSpPr/>
            <p:nvPr/>
          </p:nvSpPr>
          <p:spPr>
            <a:xfrm rot="5400000">
              <a:off x="-1182240" y="3020760"/>
              <a:ext cx="2453040" cy="1717560"/>
            </a:xfrm>
            <a:custGeom>
              <a:avLst/>
              <a:gdLst>
                <a:gd name="textAreaLeft" fmla="*/ 0 w 2453040"/>
                <a:gd name="textAreaRight" fmla="*/ 2453400 w 2453040"/>
                <a:gd name="textAreaTop" fmla="*/ 0 h 1717560"/>
                <a:gd name="textAreaBottom" fmla="*/ 622080 h 17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56" y="10807"/>
                  </a:moveTo>
                  <a:cubicBezTo>
                    <a:pt x="10056" y="10805"/>
                    <a:pt x="10056" y="10802"/>
                    <a:pt x="10056" y="10800"/>
                  </a:cubicBezTo>
                  <a:cubicBezTo>
                    <a:pt x="10056" y="10389"/>
                    <a:pt x="10389" y="10056"/>
                    <a:pt x="10800" y="10056"/>
                  </a:cubicBezTo>
                  <a:cubicBezTo>
                    <a:pt x="11210" y="10056"/>
                    <a:pt x="11544" y="10389"/>
                    <a:pt x="11544" y="10800"/>
                  </a:cubicBezTo>
                  <a:cubicBezTo>
                    <a:pt x="11544" y="10802"/>
                    <a:pt x="11543" y="10805"/>
                    <a:pt x="11543" y="10807"/>
                  </a:cubicBezTo>
                  <a:lnTo>
                    <a:pt x="21599" y="10916"/>
                  </a:lnTo>
                  <a:cubicBezTo>
                    <a:pt x="21599" y="10877"/>
                    <a:pt x="21600" y="10838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0838"/>
                    <a:pt x="0" y="10877"/>
                    <a:pt x="0" y="10916"/>
                  </a:cubicBezTo>
                  <a:lnTo>
                    <a:pt x="10056" y="1080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76078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671" name="그룹 45"/>
          <p:cNvGrpSpPr/>
          <p:nvPr/>
        </p:nvGrpSpPr>
        <p:grpSpPr>
          <a:xfrm>
            <a:off x="0" y="1211400"/>
            <a:ext cx="8842320" cy="5360760"/>
            <a:chOff x="0" y="1211400"/>
            <a:chExt cx="8842320" cy="5360760"/>
          </a:xfrm>
        </p:grpSpPr>
        <p:sp>
          <p:nvSpPr>
            <p:cNvPr id="672" name="Rectangle 42"/>
            <p:cNvSpPr/>
            <p:nvPr/>
          </p:nvSpPr>
          <p:spPr>
            <a:xfrm>
              <a:off x="6037200" y="6259680"/>
              <a:ext cx="1657080" cy="31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3" name="Line 9"/>
            <p:cNvSpPr/>
            <p:nvPr/>
          </p:nvSpPr>
          <p:spPr>
            <a:xfrm flipV="1">
              <a:off x="0" y="2928960"/>
              <a:ext cx="1000080" cy="1071360"/>
            </a:xfrm>
            <a:prstGeom prst="line">
              <a:avLst/>
            </a:prstGeom>
            <a:ln w="38160">
              <a:solidFill>
                <a:srgbClr val="0066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4" name="Line 12"/>
            <p:cNvSpPr/>
            <p:nvPr/>
          </p:nvSpPr>
          <p:spPr>
            <a:xfrm flipV="1">
              <a:off x="0" y="3974760"/>
              <a:ext cx="1357200" cy="45720"/>
            </a:xfrm>
            <a:prstGeom prst="line">
              <a:avLst/>
            </a:prstGeom>
            <a:ln w="38160">
              <a:solidFill>
                <a:srgbClr val="0066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5" name="Line 13"/>
            <p:cNvSpPr/>
            <p:nvPr/>
          </p:nvSpPr>
          <p:spPr>
            <a:xfrm>
              <a:off x="0" y="4000680"/>
              <a:ext cx="857160" cy="1935000"/>
            </a:xfrm>
            <a:prstGeom prst="line">
              <a:avLst/>
            </a:prstGeom>
            <a:ln w="38160">
              <a:solidFill>
                <a:srgbClr val="0066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6" name="Line 64"/>
            <p:cNvSpPr/>
            <p:nvPr/>
          </p:nvSpPr>
          <p:spPr>
            <a:xfrm>
              <a:off x="0" y="3994200"/>
              <a:ext cx="857160" cy="934920"/>
            </a:xfrm>
            <a:prstGeom prst="line">
              <a:avLst/>
            </a:prstGeom>
            <a:ln w="38160">
              <a:solidFill>
                <a:srgbClr val="0066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7" name="Line 9"/>
            <p:cNvSpPr/>
            <p:nvPr/>
          </p:nvSpPr>
          <p:spPr>
            <a:xfrm flipV="1">
              <a:off x="0" y="2214720"/>
              <a:ext cx="928440" cy="1636560"/>
            </a:xfrm>
            <a:prstGeom prst="line">
              <a:avLst/>
            </a:prstGeom>
            <a:ln w="38160">
              <a:solidFill>
                <a:srgbClr val="0066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8" name="AutoShape 4"/>
            <p:cNvSpPr/>
            <p:nvPr/>
          </p:nvSpPr>
          <p:spPr>
            <a:xfrm>
              <a:off x="1622160" y="1824120"/>
              <a:ext cx="7199280" cy="6696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770000"/>
                </a:gs>
                <a:gs pos="100000">
                  <a:srgbClr val="ce00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700" spc="-1" strike="noStrike">
                  <a:solidFill>
                    <a:srgbClr val="ffffff"/>
                  </a:solidFill>
                  <a:latin typeface="HY강B"/>
                </a:rPr>
                <a:t>노화의 개념과 영역 이해</a:t>
              </a:r>
              <a:endParaRPr b="0" lang="en-US" sz="27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79" name="Group 14"/>
            <p:cNvGrpSpPr/>
            <p:nvPr/>
          </p:nvGrpSpPr>
          <p:grpSpPr>
            <a:xfrm>
              <a:off x="642960" y="1843200"/>
              <a:ext cx="856800" cy="714600"/>
              <a:chOff x="642960" y="1843200"/>
              <a:chExt cx="856800" cy="714600"/>
            </a:xfrm>
          </p:grpSpPr>
          <p:sp>
            <p:nvSpPr>
              <p:cNvPr id="680" name="Oval 15"/>
              <p:cNvSpPr/>
              <p:nvPr/>
            </p:nvSpPr>
            <p:spPr>
              <a:xfrm>
                <a:off x="664200" y="184320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81" name="Oval 16"/>
              <p:cNvSpPr/>
              <p:nvPr/>
            </p:nvSpPr>
            <p:spPr>
              <a:xfrm>
                <a:off x="664200" y="184500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682" name="Picture 17" descr="알"/>
              <p:cNvPicPr/>
              <p:nvPr/>
            </p:nvPicPr>
            <p:blipFill>
              <a:blip r:embed="rId2"/>
              <a:stretch/>
            </p:blipFill>
            <p:spPr>
              <a:xfrm>
                <a:off x="713160" y="184716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3" name="Text Box 18"/>
              <p:cNvSpPr/>
              <p:nvPr/>
            </p:nvSpPr>
            <p:spPr>
              <a:xfrm>
                <a:off x="642960" y="1849320"/>
                <a:ext cx="856800" cy="6426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Ⅰ</a:t>
                </a:r>
                <a:endParaRPr b="0" lang="en-US" sz="3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684" name="Group 14"/>
            <p:cNvGrpSpPr/>
            <p:nvPr/>
          </p:nvGrpSpPr>
          <p:grpSpPr>
            <a:xfrm>
              <a:off x="642960" y="2780280"/>
              <a:ext cx="856800" cy="714600"/>
              <a:chOff x="642960" y="2780280"/>
              <a:chExt cx="856800" cy="714600"/>
            </a:xfrm>
          </p:grpSpPr>
          <p:sp>
            <p:nvSpPr>
              <p:cNvPr id="685" name="Oval 15"/>
              <p:cNvSpPr/>
              <p:nvPr/>
            </p:nvSpPr>
            <p:spPr>
              <a:xfrm>
                <a:off x="664200" y="278028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86" name="Oval 16"/>
              <p:cNvSpPr/>
              <p:nvPr/>
            </p:nvSpPr>
            <p:spPr>
              <a:xfrm>
                <a:off x="664200" y="278208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687" name="Picture 17" descr="알"/>
              <p:cNvPicPr/>
              <p:nvPr/>
            </p:nvPicPr>
            <p:blipFill>
              <a:blip r:embed="rId3"/>
              <a:stretch/>
            </p:blipFill>
            <p:spPr>
              <a:xfrm>
                <a:off x="713160" y="278424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8" name="Text Box 18"/>
              <p:cNvSpPr/>
              <p:nvPr/>
            </p:nvSpPr>
            <p:spPr>
              <a:xfrm>
                <a:off x="642960" y="2784240"/>
                <a:ext cx="856800" cy="6426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Ⅱ</a:t>
                </a:r>
                <a:endParaRPr b="0" lang="en-US" sz="3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689" name="Group 14"/>
            <p:cNvGrpSpPr/>
            <p:nvPr/>
          </p:nvGrpSpPr>
          <p:grpSpPr>
            <a:xfrm>
              <a:off x="642960" y="3718440"/>
              <a:ext cx="856800" cy="714600"/>
              <a:chOff x="642960" y="3718440"/>
              <a:chExt cx="856800" cy="714600"/>
            </a:xfrm>
          </p:grpSpPr>
          <p:sp>
            <p:nvSpPr>
              <p:cNvPr id="690" name="Oval 15"/>
              <p:cNvSpPr/>
              <p:nvPr/>
            </p:nvSpPr>
            <p:spPr>
              <a:xfrm>
                <a:off x="664200" y="371844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91" name="Oval 16"/>
              <p:cNvSpPr/>
              <p:nvPr/>
            </p:nvSpPr>
            <p:spPr>
              <a:xfrm>
                <a:off x="664200" y="372024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692" name="Picture 17" descr="알"/>
              <p:cNvPicPr/>
              <p:nvPr/>
            </p:nvPicPr>
            <p:blipFill>
              <a:blip r:embed="rId4"/>
              <a:stretch/>
            </p:blipFill>
            <p:spPr>
              <a:xfrm>
                <a:off x="713160" y="372240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3" name="Text Box 18"/>
              <p:cNvSpPr/>
              <p:nvPr/>
            </p:nvSpPr>
            <p:spPr>
              <a:xfrm>
                <a:off x="642960" y="3722400"/>
                <a:ext cx="856800" cy="6426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Ⅲ</a:t>
                </a:r>
                <a:endParaRPr b="0" lang="en-US" sz="3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694" name="Group 14"/>
            <p:cNvGrpSpPr/>
            <p:nvPr/>
          </p:nvGrpSpPr>
          <p:grpSpPr>
            <a:xfrm>
              <a:off x="642960" y="4655160"/>
              <a:ext cx="856800" cy="714600"/>
              <a:chOff x="642960" y="4655160"/>
              <a:chExt cx="856800" cy="714600"/>
            </a:xfrm>
          </p:grpSpPr>
          <p:sp>
            <p:nvSpPr>
              <p:cNvPr id="695" name="Oval 15"/>
              <p:cNvSpPr/>
              <p:nvPr/>
            </p:nvSpPr>
            <p:spPr>
              <a:xfrm>
                <a:off x="664200" y="465516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96" name="Oval 16"/>
              <p:cNvSpPr/>
              <p:nvPr/>
            </p:nvSpPr>
            <p:spPr>
              <a:xfrm>
                <a:off x="664200" y="465696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697" name="Picture 17" descr="알"/>
              <p:cNvPicPr/>
              <p:nvPr/>
            </p:nvPicPr>
            <p:blipFill>
              <a:blip r:embed="rId5"/>
              <a:stretch/>
            </p:blipFill>
            <p:spPr>
              <a:xfrm>
                <a:off x="713160" y="465912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8" name="Text Box 18"/>
              <p:cNvSpPr/>
              <p:nvPr/>
            </p:nvSpPr>
            <p:spPr>
              <a:xfrm>
                <a:off x="642960" y="4659120"/>
                <a:ext cx="856800" cy="6426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Ⅳ</a:t>
                </a:r>
                <a:endParaRPr b="0" lang="en-US" sz="3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699" name="Group 14"/>
            <p:cNvGrpSpPr/>
            <p:nvPr/>
          </p:nvGrpSpPr>
          <p:grpSpPr>
            <a:xfrm>
              <a:off x="642960" y="5571360"/>
              <a:ext cx="856800" cy="714600"/>
              <a:chOff x="642960" y="5571360"/>
              <a:chExt cx="856800" cy="714600"/>
            </a:xfrm>
          </p:grpSpPr>
          <p:sp>
            <p:nvSpPr>
              <p:cNvPr id="700" name="Oval 15"/>
              <p:cNvSpPr/>
              <p:nvPr/>
            </p:nvSpPr>
            <p:spPr>
              <a:xfrm>
                <a:off x="664200" y="557136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01" name="Oval 16"/>
              <p:cNvSpPr/>
              <p:nvPr/>
            </p:nvSpPr>
            <p:spPr>
              <a:xfrm>
                <a:off x="664200" y="557316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702" name="Picture 17" descr="알"/>
              <p:cNvPicPr/>
              <p:nvPr/>
            </p:nvPicPr>
            <p:blipFill>
              <a:blip r:embed="rId6"/>
              <a:stretch/>
            </p:blipFill>
            <p:spPr>
              <a:xfrm>
                <a:off x="713160" y="557532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3" name="Text Box 18"/>
              <p:cNvSpPr/>
              <p:nvPr/>
            </p:nvSpPr>
            <p:spPr>
              <a:xfrm>
                <a:off x="642960" y="5575320"/>
                <a:ext cx="856800" cy="6426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Ⅴ</a:t>
                </a:r>
                <a:endParaRPr b="0" lang="en-US" sz="3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704" name="AutoShape 4"/>
            <p:cNvSpPr/>
            <p:nvPr/>
          </p:nvSpPr>
          <p:spPr>
            <a:xfrm>
              <a:off x="1643040" y="2760480"/>
              <a:ext cx="7199280" cy="6714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a07400"/>
                </a:gs>
                <a:gs pos="100000">
                  <a:srgbClr val="ffca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700" spc="-1" strike="noStrike">
                  <a:solidFill>
                    <a:srgbClr val="ffffff"/>
                  </a:solidFill>
                  <a:latin typeface="HY강B"/>
                </a:rPr>
                <a:t>노화의 기초이론 학습</a:t>
              </a:r>
              <a:endParaRPr b="0" lang="en-US" sz="27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05" name="AutoShape 4"/>
            <p:cNvSpPr/>
            <p:nvPr/>
          </p:nvSpPr>
          <p:spPr>
            <a:xfrm>
              <a:off x="1622160" y="3697200"/>
              <a:ext cx="7220160" cy="67464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37e25"/>
                </a:gs>
                <a:gs pos="100000">
                  <a:srgbClr val="92da46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600" spc="-1" strike="noStrike">
                  <a:solidFill>
                    <a:srgbClr val="ffffff"/>
                  </a:solidFill>
                  <a:latin typeface="HY강B"/>
                </a:rPr>
                <a:t>노화의 결과로 인한 노년기 삶의 변화 양상 이해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06" name="AutoShape 4"/>
            <p:cNvSpPr/>
            <p:nvPr/>
          </p:nvSpPr>
          <p:spPr>
            <a:xfrm>
              <a:off x="1643040" y="4633920"/>
              <a:ext cx="7199280" cy="6775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46678b"/>
                </a:gs>
                <a:gs pos="100000">
                  <a:srgbClr val="7cb3ef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700" spc="-1" strike="noStrike">
                  <a:solidFill>
                    <a:srgbClr val="ffffff"/>
                  </a:solidFill>
                  <a:latin typeface="HY강B"/>
                </a:rPr>
                <a:t>노화 영역별 사실</a:t>
              </a:r>
              <a:r>
                <a:rPr b="0" lang="en-US" sz="2700" spc="-1" strike="noStrike">
                  <a:solidFill>
                    <a:srgbClr val="ffffff"/>
                  </a:solidFill>
                  <a:latin typeface="HY강B"/>
                </a:rPr>
                <a:t>(fact)</a:t>
              </a:r>
              <a:r>
                <a:rPr b="0" lang="ko-KR" sz="2700" spc="-1" strike="noStrike">
                  <a:solidFill>
                    <a:srgbClr val="ffffff"/>
                  </a:solidFill>
                  <a:latin typeface="HY강B"/>
                </a:rPr>
                <a:t>과 신화</a:t>
              </a:r>
              <a:r>
                <a:rPr b="0" lang="en-US" sz="2700" spc="-1" strike="noStrike">
                  <a:solidFill>
                    <a:srgbClr val="ffffff"/>
                  </a:solidFill>
                  <a:latin typeface="HY강B"/>
                </a:rPr>
                <a:t>(myth) </a:t>
              </a:r>
              <a:r>
                <a:rPr b="0" lang="ko-KR" sz="2700" spc="-1" strike="noStrike">
                  <a:solidFill>
                    <a:srgbClr val="ffffff"/>
                  </a:solidFill>
                  <a:latin typeface="HY강B"/>
                </a:rPr>
                <a:t>이해</a:t>
              </a:r>
              <a:endParaRPr b="0" lang="en-US" sz="27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07" name="AutoShape 4"/>
            <p:cNvSpPr/>
            <p:nvPr/>
          </p:nvSpPr>
          <p:spPr>
            <a:xfrm>
              <a:off x="1643040" y="5570640"/>
              <a:ext cx="7199280" cy="68076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b007f"/>
                </a:gs>
                <a:gs pos="100000">
                  <a:srgbClr val="a100db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700" spc="-1" strike="noStrike">
                  <a:solidFill>
                    <a:srgbClr val="ffffff"/>
                  </a:solidFill>
                  <a:latin typeface="HY강B"/>
                </a:rPr>
                <a:t>성공적 노화의 구성요인과 촉진방안 이해</a:t>
              </a:r>
              <a:endParaRPr b="0" lang="en-US" sz="27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08" name="AutoShape 7"/>
            <p:cNvSpPr/>
            <p:nvPr/>
          </p:nvSpPr>
          <p:spPr>
            <a:xfrm>
              <a:off x="250560" y="1211400"/>
              <a:ext cx="1606320" cy="43164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9e3483"/>
                </a:gs>
                <a:gs pos="50000">
                  <a:srgbClr val="ef4fc5"/>
                </a:gs>
                <a:gs pos="100000">
                  <a:srgbClr val="9e3483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200" spc="-1" strike="noStrike">
                  <a:solidFill>
                    <a:srgbClr val="ffffff"/>
                  </a:solidFill>
                  <a:latin typeface="HY강B"/>
                </a:rPr>
                <a:t>학습목표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3800" spc="-1" strike="noStrike">
                <a:solidFill>
                  <a:srgbClr val="ffffff"/>
                </a:solidFill>
                <a:latin typeface="HY강B"/>
                <a:ea typeface="HY강B"/>
              </a:rPr>
              <a:t>2 </a:t>
            </a:r>
            <a:r>
              <a:rPr b="1" lang="ko-KR" sz="3800" spc="-1" strike="noStrike">
                <a:solidFill>
                  <a:srgbClr val="ffffff"/>
                </a:solidFill>
                <a:latin typeface="HY강B"/>
                <a:ea typeface="HY강B"/>
              </a:rPr>
              <a:t>장 노화의 과정과 결과</a:t>
            </a:r>
            <a:endParaRPr b="0" lang="en-US" sz="3800" spc="-1" strike="noStrike">
              <a:solidFill>
                <a:srgbClr val="ffffff"/>
              </a:solidFill>
              <a:latin typeface="HY견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0" name="Group 7"/>
          <p:cNvGrpSpPr/>
          <p:nvPr/>
        </p:nvGrpSpPr>
        <p:grpSpPr>
          <a:xfrm>
            <a:off x="71280" y="214200"/>
            <a:ext cx="9001440" cy="6000840"/>
            <a:chOff x="71280" y="214200"/>
            <a:chExt cx="9001440" cy="6000840"/>
          </a:xfrm>
        </p:grpSpPr>
        <p:sp>
          <p:nvSpPr>
            <p:cNvPr id="861" name="AutoShape 2"/>
            <p:cNvSpPr/>
            <p:nvPr/>
          </p:nvSpPr>
          <p:spPr>
            <a:xfrm>
              <a:off x="71280" y="714240"/>
              <a:ext cx="9001440" cy="55008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62" name="Text Box 25"/>
            <p:cNvSpPr/>
            <p:nvPr/>
          </p:nvSpPr>
          <p:spPr>
            <a:xfrm>
              <a:off x="214200" y="857160"/>
              <a:ext cx="8786880" cy="52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buSzPct val="102985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성인기까지는 사회적 역할과 지위의 획득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년기에는 상실이 많으므로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상실의 시기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roleless  role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의 시기라고도 함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985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그러나 단순한 상실보다는 획득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유지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상실이 복합되므로 역할전환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role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transition)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의 시기라고 보는 것이 더욱 타당함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985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Rosow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의 노년기 역할변화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제도적 지위 약화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희박한 지위 강화</a:t>
              </a:r>
              <a:r>
                <a:rPr b="0" lang="en-US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그림 </a:t>
              </a:r>
              <a:r>
                <a:rPr b="0" lang="en-US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2-2 </a:t>
              </a:r>
              <a:r>
                <a:rPr b="0" lang="ko-KR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985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주요 역할의 변화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직업인→ 퇴직자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생계유지자→ 피부양자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부부 → 독신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조부모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. 2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차 집단 역할 줄지만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1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차 집단 역할은 큰 변화 없음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985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Neugarten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등의 사회적 역할수행 유형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재구성형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집중형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유리형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계속형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제한형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구원요청형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무감각형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와해형</a:t>
              </a:r>
              <a:r>
                <a:rPr b="0" lang="en-US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2-5 </a:t>
              </a:r>
              <a:r>
                <a:rPr b="0" lang="ko-KR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985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지위와 역할 전환의 영향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기가치 절하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존감 및 삶의 만족도 저하 등의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부정적 영향도 있지만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대부분의 노인들은 역할전환에 성공적으로 적응하고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새로운 지위와 역할에 만족하는 편임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63" name="직사각형 15"/>
            <p:cNvSpPr/>
            <p:nvPr/>
          </p:nvSpPr>
          <p:spPr>
            <a:xfrm>
              <a:off x="142920" y="214200"/>
              <a:ext cx="615780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51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5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500" spc="-1" strike="noStrike">
                  <a:solidFill>
                    <a:srgbClr val="c00000"/>
                  </a:solidFill>
                  <a:latin typeface="Arial"/>
                </a:rPr>
                <a:t>지위와 역할의 변화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4" name="그룹 6"/>
          <p:cNvGrpSpPr/>
          <p:nvPr/>
        </p:nvGrpSpPr>
        <p:grpSpPr>
          <a:xfrm>
            <a:off x="285840" y="0"/>
            <a:ext cx="8858160" cy="6215040"/>
            <a:chOff x="285840" y="0"/>
            <a:chExt cx="8858160" cy="6215040"/>
          </a:xfrm>
        </p:grpSpPr>
        <p:pic>
          <p:nvPicPr>
            <p:cNvPr id="865" name="Picture 2" descr="C:\DOCUME~1\USER\LOCALS~1\Temp\UNI0000080471b7.gif"/>
            <p:cNvPicPr/>
            <p:nvPr/>
          </p:nvPicPr>
          <p:blipFill>
            <a:blip r:embed="rId1"/>
            <a:stretch/>
          </p:blipFill>
          <p:spPr>
            <a:xfrm>
              <a:off x="7880400" y="0"/>
              <a:ext cx="1263600" cy="1143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66" name="그룹 1"/>
            <p:cNvGrpSpPr/>
            <p:nvPr/>
          </p:nvGrpSpPr>
          <p:grpSpPr>
            <a:xfrm>
              <a:off x="285840" y="285480"/>
              <a:ext cx="8643960" cy="5929560"/>
              <a:chOff x="285840" y="285480"/>
              <a:chExt cx="8643960" cy="5929560"/>
            </a:xfrm>
          </p:grpSpPr>
          <p:sp>
            <p:nvSpPr>
              <p:cNvPr id="867" name="AutoShape 4"/>
              <p:cNvSpPr/>
              <p:nvPr/>
            </p:nvSpPr>
            <p:spPr>
              <a:xfrm>
                <a:off x="285840" y="285480"/>
                <a:ext cx="5429160" cy="503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HY강B"/>
                  </a:rPr>
                  <a:t>4) </a:t>
                </a:r>
                <a:r>
                  <a:rPr b="0" lang="ko-KR" sz="2800" spc="-1" strike="noStrike">
                    <a:solidFill>
                      <a:srgbClr val="ffffff"/>
                    </a:solidFill>
                    <a:latin typeface="HY강B"/>
                  </a:rPr>
                  <a:t>사회적 노화의 신화와 사실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868" name="AutoShape 2"/>
              <p:cNvSpPr/>
              <p:nvPr/>
            </p:nvSpPr>
            <p:spPr>
              <a:xfrm>
                <a:off x="285840" y="1045440"/>
                <a:ext cx="8643960" cy="51696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869" name="Text Box 6"/>
              <p:cNvSpPr/>
              <p:nvPr/>
            </p:nvSpPr>
            <p:spPr>
              <a:xfrm>
                <a:off x="357120" y="1329840"/>
                <a:ext cx="8504640" cy="462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신화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: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주류사회에서 퇴출 → 봉사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일을 통해 주류사회 참여 증가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신화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2: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고독하고 소외됨 → 자녀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친구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이웃과 유기적 관계 형성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신화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3: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가난 → 빈곤 가능성 높지만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일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자녀 지원으로 경제생활유지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신화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4: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혼자 있고 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TV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시청 → 소극적이고 시간소모적 여가활동 많지만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이는 여가환경 미비에 기인하며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여가의식이 개선되고 있음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신화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5: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학대와 방임 → 학대와 차별이 증가하나 자녀 존경 받고 있음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79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신화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6: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복지확대로 인한 가족기능 약화 → 가족기능 보완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강화 기능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79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신화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7: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일할 수 없음 → 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34%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정도가 일하며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bridge job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을 가진 후 은퇴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79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신화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8: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정치관심과 투표율 낮음 → 관심과 투표율 높으며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인터넷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정치홍보 등으로 인한 정치환경 변화로 보수적 성향 강화됨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0" name="그룹 16"/>
          <p:cNvGrpSpPr/>
          <p:nvPr/>
        </p:nvGrpSpPr>
        <p:grpSpPr>
          <a:xfrm>
            <a:off x="0" y="0"/>
            <a:ext cx="9144000" cy="6357960"/>
            <a:chOff x="0" y="0"/>
            <a:chExt cx="9144000" cy="6357960"/>
          </a:xfrm>
        </p:grpSpPr>
        <p:sp>
          <p:nvSpPr>
            <p:cNvPr id="871" name="AutoShape 2"/>
            <p:cNvSpPr/>
            <p:nvPr/>
          </p:nvSpPr>
          <p:spPr>
            <a:xfrm>
              <a:off x="285480" y="3786120"/>
              <a:ext cx="8572680" cy="12859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872" name="그룹 20"/>
            <p:cNvGrpSpPr/>
            <p:nvPr/>
          </p:nvGrpSpPr>
          <p:grpSpPr>
            <a:xfrm>
              <a:off x="0" y="0"/>
              <a:ext cx="9144000" cy="3286080"/>
              <a:chOff x="0" y="0"/>
              <a:chExt cx="9144000" cy="3286080"/>
            </a:xfrm>
          </p:grpSpPr>
          <p:sp>
            <p:nvSpPr>
              <p:cNvPr id="873" name="AutoShape 2"/>
              <p:cNvSpPr/>
              <p:nvPr/>
            </p:nvSpPr>
            <p:spPr>
              <a:xfrm>
                <a:off x="285480" y="2000160"/>
                <a:ext cx="8572680" cy="12859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874" name="그림 3" descr="title.jpg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9144000" cy="1143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5" name="Rectangle 2"/>
              <p:cNvSpPr/>
              <p:nvPr/>
            </p:nvSpPr>
            <p:spPr>
              <a:xfrm>
                <a:off x="1428480" y="285480"/>
                <a:ext cx="7286760" cy="64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400" spc="-1" strike="noStrike">
                    <a:solidFill>
                      <a:srgbClr val="ffffff"/>
                    </a:solidFill>
                    <a:latin typeface="HY강B"/>
                  </a:rPr>
                  <a:t>5.</a:t>
                </a:r>
                <a:r>
                  <a:rPr b="0" lang="ko-KR" sz="3400" spc="-1" strike="noStrike">
                    <a:solidFill>
                      <a:srgbClr val="ffffff"/>
                    </a:solidFill>
                    <a:latin typeface="HY강B"/>
                  </a:rPr>
                  <a:t> </a:t>
                </a:r>
                <a:r>
                  <a:rPr b="0" lang="ko-KR" sz="3400" spc="-1" strike="noStrike">
                    <a:solidFill>
                      <a:srgbClr val="ffffff"/>
                    </a:solidFill>
                    <a:latin typeface="HY강B"/>
                  </a:rPr>
                  <a:t>성공적 노화</a:t>
                </a:r>
                <a:endParaRPr b="0" lang="en-US" sz="3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876" name="그룹 10"/>
            <p:cNvGrpSpPr/>
            <p:nvPr/>
          </p:nvGrpSpPr>
          <p:grpSpPr>
            <a:xfrm>
              <a:off x="285480" y="928440"/>
              <a:ext cx="7643880" cy="2288520"/>
              <a:chOff x="285480" y="928440"/>
              <a:chExt cx="7643880" cy="2288520"/>
            </a:xfrm>
          </p:grpSpPr>
          <p:sp>
            <p:nvSpPr>
              <p:cNvPr id="877" name="AutoShape 4"/>
              <p:cNvSpPr/>
              <p:nvPr/>
            </p:nvSpPr>
            <p:spPr>
              <a:xfrm>
                <a:off x="285480" y="928440"/>
                <a:ext cx="5357880" cy="500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5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1" lang="ko-KR" sz="2500" spc="-1" strike="noStrike">
                    <a:solidFill>
                      <a:srgbClr val="ffffff"/>
                    </a:solidFill>
                    <a:latin typeface="HY강B"/>
                  </a:rPr>
                  <a:t>성공적 노화의 개념과 구성요인</a:t>
                </a:r>
                <a:endParaRPr b="0" lang="en-US" sz="25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878" name="Text Box 6"/>
              <p:cNvSpPr/>
              <p:nvPr/>
            </p:nvSpPr>
            <p:spPr>
              <a:xfrm>
                <a:off x="356760" y="2014200"/>
                <a:ext cx="7572600" cy="120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986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미국노년사회학회에서 처음 제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990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대부터 생물학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과학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학 등에서 연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Rowe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와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Kahn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good aging, active aging, healthy aging, productive aging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념 등장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879" name="직사각형 15"/>
            <p:cNvSpPr/>
            <p:nvPr/>
          </p:nvSpPr>
          <p:spPr>
            <a:xfrm>
              <a:off x="285480" y="1603440"/>
              <a:ext cx="40719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성공적 노화에 대한 관심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80" name="Text Box 6"/>
            <p:cNvSpPr/>
            <p:nvPr/>
          </p:nvSpPr>
          <p:spPr>
            <a:xfrm>
              <a:off x="357120" y="3871800"/>
              <a:ext cx="8643960" cy="113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생물적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심리적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적 기능 수준이 높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삶의 만족과 환경에 대한 적응 수준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이 높은 상태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Rowe &amp; Kahn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의 최적의 노화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optimal aging)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과 유사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81" name="직사각형 19"/>
            <p:cNvSpPr/>
            <p:nvPr/>
          </p:nvSpPr>
          <p:spPr>
            <a:xfrm>
              <a:off x="285480" y="3389400"/>
              <a:ext cx="40719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개념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82" name="직사각형 20"/>
            <p:cNvSpPr/>
            <p:nvPr/>
          </p:nvSpPr>
          <p:spPr>
            <a:xfrm>
              <a:off x="285480" y="5214960"/>
              <a:ext cx="40719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구성요인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83" name="AutoShape 2"/>
            <p:cNvSpPr/>
            <p:nvPr/>
          </p:nvSpPr>
          <p:spPr>
            <a:xfrm>
              <a:off x="285480" y="5572440"/>
              <a:ext cx="8572680" cy="7855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84" name="Text Box 6"/>
            <p:cNvSpPr/>
            <p:nvPr/>
          </p:nvSpPr>
          <p:spPr>
            <a:xfrm>
              <a:off x="357120" y="5572440"/>
              <a:ext cx="864396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buSzPct val="102812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2-6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 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&amp;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그림 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2-3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SzPct val="102812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성공적 노화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= healthy aging + adaptive aging + active or productive aging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5" name="그룹 7"/>
          <p:cNvGrpSpPr/>
          <p:nvPr/>
        </p:nvGrpSpPr>
        <p:grpSpPr>
          <a:xfrm>
            <a:off x="285840" y="357120"/>
            <a:ext cx="8647200" cy="5786640"/>
            <a:chOff x="285840" y="357120"/>
            <a:chExt cx="8647200" cy="5786640"/>
          </a:xfrm>
        </p:grpSpPr>
        <p:pic>
          <p:nvPicPr>
            <p:cNvPr id="886" name="Picture 4" descr="C:\DOCUME~1\USER\LOCALS~1\Temp\UNI000006c8818c.gif"/>
            <p:cNvPicPr/>
            <p:nvPr/>
          </p:nvPicPr>
          <p:blipFill>
            <a:blip r:embed="rId1"/>
            <a:stretch/>
          </p:blipFill>
          <p:spPr>
            <a:xfrm>
              <a:off x="785880" y="4988160"/>
              <a:ext cx="1285920" cy="115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7" name="Rectangle 4"/>
            <p:cNvSpPr/>
            <p:nvPr/>
          </p:nvSpPr>
          <p:spPr>
            <a:xfrm>
              <a:off x="2071800" y="5500800"/>
              <a:ext cx="628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827305"/>
                  </a:solidFill>
                  <a:latin typeface="맑은 고딕"/>
                  <a:ea typeface="맑은 고딕"/>
                </a:rPr>
                <a:t>다음 주 강의주제</a:t>
              </a:r>
              <a:r>
                <a:rPr b="0" lang="en-US" sz="2800" spc="-1" strike="noStrike">
                  <a:solidFill>
                    <a:srgbClr val="827305"/>
                  </a:solidFill>
                  <a:latin typeface="맑은 고딕"/>
                  <a:ea typeface="맑은 고딕"/>
                </a:rPr>
                <a:t>: </a:t>
              </a:r>
              <a:r>
                <a:rPr b="1" lang="ko-KR" sz="2800" spc="-1" strike="noStrike">
                  <a:solidFill>
                    <a:srgbClr val="827305"/>
                  </a:solidFill>
                  <a:latin typeface="맑은 고딕"/>
                  <a:ea typeface="맑은 고딕"/>
                </a:rPr>
                <a:t>노년기의 경제생활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888" name="그룹 7"/>
            <p:cNvGrpSpPr/>
            <p:nvPr/>
          </p:nvGrpSpPr>
          <p:grpSpPr>
            <a:xfrm>
              <a:off x="285840" y="357120"/>
              <a:ext cx="8647200" cy="4000680"/>
              <a:chOff x="285840" y="357120"/>
              <a:chExt cx="8647200" cy="4000680"/>
            </a:xfrm>
          </p:grpSpPr>
          <p:sp>
            <p:nvSpPr>
              <p:cNvPr id="889" name="AutoShape 4"/>
              <p:cNvSpPr/>
              <p:nvPr/>
            </p:nvSpPr>
            <p:spPr>
              <a:xfrm>
                <a:off x="285840" y="357120"/>
                <a:ext cx="5087880" cy="514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0" lang="ko-KR" sz="2600" spc="-1" strike="noStrike">
                    <a:solidFill>
                      <a:srgbClr val="ffffff"/>
                    </a:solidFill>
                    <a:latin typeface="HY강B"/>
                  </a:rPr>
                  <a:t>성공적 노화의 촉진방안</a:t>
                </a:r>
                <a:endParaRPr b="0" lang="en-US" sz="2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890" name="AutoShape 2"/>
              <p:cNvSpPr/>
              <p:nvPr/>
            </p:nvSpPr>
            <p:spPr>
              <a:xfrm>
                <a:off x="285840" y="1097280"/>
                <a:ext cx="8643960" cy="32605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891" name="Text Box 6"/>
              <p:cNvSpPr/>
              <p:nvPr/>
            </p:nvSpPr>
            <p:spPr>
              <a:xfrm>
                <a:off x="428400" y="1260360"/>
                <a:ext cx="8504640" cy="2990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건강증진 위한 생활습관 관리와 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2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차적 예방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심리적 만족과 정신적 건강생활 위한 지원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인생회고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평생교육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인지기능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영성훈련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죽음준비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스트레스 관리 등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경제안정 지원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경제교육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노후자금 준비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주택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농지연금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유산배분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경제활동 참여 및 사회발전 기여활동 기회 부여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사회적 관계 유지 및 적극적 여가참여 지원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0" name="그룹 16"/>
          <p:cNvGrpSpPr/>
          <p:nvPr/>
        </p:nvGrpSpPr>
        <p:grpSpPr>
          <a:xfrm>
            <a:off x="0" y="0"/>
            <a:ext cx="9144000" cy="6357960"/>
            <a:chOff x="0" y="0"/>
            <a:chExt cx="9144000" cy="6357960"/>
          </a:xfrm>
        </p:grpSpPr>
        <p:sp>
          <p:nvSpPr>
            <p:cNvPr id="711" name="AutoShape 2"/>
            <p:cNvSpPr/>
            <p:nvPr/>
          </p:nvSpPr>
          <p:spPr>
            <a:xfrm>
              <a:off x="180720" y="5857920"/>
              <a:ext cx="8820360" cy="5000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12" name="AutoShape 2"/>
            <p:cNvSpPr/>
            <p:nvPr/>
          </p:nvSpPr>
          <p:spPr>
            <a:xfrm>
              <a:off x="180720" y="1500120"/>
              <a:ext cx="8820360" cy="18572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13" name="AutoShape 2"/>
            <p:cNvSpPr/>
            <p:nvPr/>
          </p:nvSpPr>
          <p:spPr>
            <a:xfrm>
              <a:off x="180720" y="3929040"/>
              <a:ext cx="8820360" cy="13572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714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5" name="Rectangle 2"/>
            <p:cNvSpPr/>
            <p:nvPr/>
          </p:nvSpPr>
          <p:spPr>
            <a:xfrm>
              <a:off x="1428480" y="14256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ffffff"/>
                  </a:solidFill>
                  <a:latin typeface="HY강B"/>
                </a:rPr>
                <a:t>1. </a:t>
              </a:r>
              <a:r>
                <a:rPr b="1" lang="ko-KR" sz="3300" spc="-1" strike="noStrike">
                  <a:solidFill>
                    <a:srgbClr val="ffffff"/>
                  </a:solidFill>
                  <a:latin typeface="HY강B"/>
                </a:rPr>
                <a:t>노화의 개념과 영역</a:t>
              </a:r>
              <a:endParaRPr b="0" lang="en-US" sz="33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716" name="그룹 22"/>
            <p:cNvGrpSpPr/>
            <p:nvPr/>
          </p:nvGrpSpPr>
          <p:grpSpPr>
            <a:xfrm>
              <a:off x="142560" y="928440"/>
              <a:ext cx="8786880" cy="5399640"/>
              <a:chOff x="142560" y="928440"/>
              <a:chExt cx="8786880" cy="5399640"/>
            </a:xfrm>
          </p:grpSpPr>
          <p:grpSp>
            <p:nvGrpSpPr>
              <p:cNvPr id="717" name="그룹 10"/>
              <p:cNvGrpSpPr/>
              <p:nvPr/>
            </p:nvGrpSpPr>
            <p:grpSpPr>
              <a:xfrm>
                <a:off x="142560" y="928440"/>
                <a:ext cx="8786880" cy="2269080"/>
                <a:chOff x="142560" y="928440"/>
                <a:chExt cx="8786880" cy="2269080"/>
              </a:xfrm>
            </p:grpSpPr>
            <p:sp>
              <p:nvSpPr>
                <p:cNvPr id="718" name="AutoShape 29"/>
                <p:cNvSpPr/>
                <p:nvPr/>
              </p:nvSpPr>
              <p:spPr>
                <a:xfrm>
                  <a:off x="142560" y="928440"/>
                  <a:ext cx="8572680" cy="571320"/>
                </a:xfrm>
                <a:prstGeom prst="roundRect">
                  <a:avLst>
                    <a:gd name="adj" fmla="val 13745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buSzPct val="102851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500" spc="-1" strike="noStrike">
                      <a:solidFill>
                        <a:srgbClr val="af334e"/>
                      </a:solidFill>
                      <a:latin typeface="HY강B"/>
                    </a:rPr>
                    <a:t>  </a:t>
                  </a:r>
                  <a:r>
                    <a:rPr b="0" lang="ko-KR" sz="2500" spc="-1" strike="noStrike">
                      <a:solidFill>
                        <a:srgbClr val="af334e"/>
                      </a:solidFill>
                      <a:latin typeface="HY강B"/>
                    </a:rPr>
                    <a:t>발달로서의 노화</a:t>
                  </a:r>
                  <a:r>
                    <a:rPr b="0" lang="en-US" sz="2500" spc="-1" strike="noStrike">
                      <a:solidFill>
                        <a:srgbClr val="af334e"/>
                      </a:solidFill>
                      <a:latin typeface="HY강B"/>
                    </a:rPr>
                    <a:t>(aging)</a:t>
                  </a:r>
                  <a:endParaRPr b="0" lang="en-US" sz="25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719" name="Text Box 25"/>
                <p:cNvSpPr/>
                <p:nvPr/>
              </p:nvSpPr>
              <p:spPr>
                <a:xfrm>
                  <a:off x="285120" y="1572480"/>
                  <a:ext cx="8644320" cy="162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buSzPct val="10279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1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발달</a:t>
                  </a:r>
                  <a:r>
                    <a:rPr b="1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유기체의 생물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심리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적 측면에서의 연속적이고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질서정연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하며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상승적 발달과 퇴행적 발달을 포괄하는 역동적인 안정과 변화의 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과정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buSzPct val="10279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1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화</a:t>
                  </a:r>
                  <a:r>
                    <a:rPr b="1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발달 중 퇴행적 발달로서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성장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성숙과 대비되는 개념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0" name="그룹 10"/>
              <p:cNvGrpSpPr/>
              <p:nvPr/>
            </p:nvGrpSpPr>
            <p:grpSpPr>
              <a:xfrm>
                <a:off x="142560" y="3390480"/>
                <a:ext cx="8786880" cy="1783440"/>
                <a:chOff x="142560" y="3390480"/>
                <a:chExt cx="8786880" cy="1783440"/>
              </a:xfrm>
            </p:grpSpPr>
            <p:sp>
              <p:nvSpPr>
                <p:cNvPr id="721" name="AutoShape 29"/>
                <p:cNvSpPr/>
                <p:nvPr/>
              </p:nvSpPr>
              <p:spPr>
                <a:xfrm>
                  <a:off x="142560" y="3390480"/>
                  <a:ext cx="8572680" cy="571320"/>
                </a:xfrm>
                <a:prstGeom prst="roundRect">
                  <a:avLst>
                    <a:gd name="adj" fmla="val 13745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buSzPct val="102851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500" spc="-1" strike="noStrike">
                      <a:solidFill>
                        <a:srgbClr val="af334e"/>
                      </a:solidFill>
                      <a:latin typeface="HY강B"/>
                    </a:rPr>
                    <a:t>  </a:t>
                  </a:r>
                  <a:r>
                    <a:rPr b="0" lang="ko-KR" sz="2500" spc="-1" strike="noStrike">
                      <a:solidFill>
                        <a:srgbClr val="af334e"/>
                      </a:solidFill>
                      <a:latin typeface="HY강B"/>
                    </a:rPr>
                    <a:t>노화의 개념</a:t>
                  </a:r>
                  <a:endParaRPr b="0" lang="en-US" sz="25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722" name="Text Box 25"/>
                <p:cNvSpPr/>
                <p:nvPr/>
              </p:nvSpPr>
              <p:spPr>
                <a:xfrm>
                  <a:off x="285120" y="4012560"/>
                  <a:ext cx="8644320" cy="116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buSzPct val="102792"/>
                    <a:buBlip>
                      <a:blip r:embed="rId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1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화</a:t>
                  </a:r>
                  <a:r>
                    <a:rPr b="1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시간의 흐름에 따라 유기체의 생물적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심리적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적 측면에서 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나타나는 점진적이고 정상적인 발달과정상의 변화로서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주로 퇴행적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 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발달을 의미함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3" name="그룹 10"/>
              <p:cNvGrpSpPr/>
              <p:nvPr/>
            </p:nvGrpSpPr>
            <p:grpSpPr>
              <a:xfrm>
                <a:off x="142560" y="5286240"/>
                <a:ext cx="8572680" cy="1041840"/>
                <a:chOff x="142560" y="5286240"/>
                <a:chExt cx="8572680" cy="1041840"/>
              </a:xfrm>
            </p:grpSpPr>
            <p:sp>
              <p:nvSpPr>
                <p:cNvPr id="724" name="AutoShape 29"/>
                <p:cNvSpPr/>
                <p:nvPr/>
              </p:nvSpPr>
              <p:spPr>
                <a:xfrm>
                  <a:off x="142560" y="5286240"/>
                  <a:ext cx="8572680" cy="571320"/>
                </a:xfrm>
                <a:prstGeom prst="roundRect">
                  <a:avLst>
                    <a:gd name="adj" fmla="val 13745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buSzPct val="102851"/>
                    <a:buBlip>
                      <a:blip r:embed="rId7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500" spc="-1" strike="noStrike">
                      <a:solidFill>
                        <a:srgbClr val="af334e"/>
                      </a:solidFill>
                      <a:latin typeface="HY강B"/>
                    </a:rPr>
                    <a:t>  </a:t>
                  </a:r>
                  <a:r>
                    <a:rPr b="0" lang="ko-KR" sz="2500" spc="-1" strike="noStrike">
                      <a:solidFill>
                        <a:srgbClr val="af334e"/>
                      </a:solidFill>
                      <a:latin typeface="HY강B"/>
                    </a:rPr>
                    <a:t>노화의 영역</a:t>
                  </a:r>
                  <a:endParaRPr b="0" lang="en-US" sz="25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725" name="Text Box 25"/>
                <p:cNvSpPr/>
                <p:nvPr/>
              </p:nvSpPr>
              <p:spPr>
                <a:xfrm>
                  <a:off x="285120" y="5929200"/>
                  <a:ext cx="62154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buSzPct val="102792"/>
                    <a:buBlip>
                      <a:blip r:embed="rId8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1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화</a:t>
                  </a:r>
                  <a:r>
                    <a:rPr b="1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=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생물적 노화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+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심리적 노화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+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적 노화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6" name="그룹 9"/>
          <p:cNvGrpSpPr/>
          <p:nvPr/>
        </p:nvGrpSpPr>
        <p:grpSpPr>
          <a:xfrm>
            <a:off x="142920" y="71280"/>
            <a:ext cx="8858160" cy="6215400"/>
            <a:chOff x="142920" y="71280"/>
            <a:chExt cx="8858160" cy="6215400"/>
          </a:xfrm>
        </p:grpSpPr>
        <p:sp>
          <p:nvSpPr>
            <p:cNvPr id="727" name="AutoShape 2"/>
            <p:cNvSpPr/>
            <p:nvPr/>
          </p:nvSpPr>
          <p:spPr>
            <a:xfrm>
              <a:off x="180720" y="642600"/>
              <a:ext cx="8820360" cy="28576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728" name="그룹 10"/>
            <p:cNvGrpSpPr/>
            <p:nvPr/>
          </p:nvGrpSpPr>
          <p:grpSpPr>
            <a:xfrm>
              <a:off x="142920" y="71280"/>
              <a:ext cx="8786880" cy="3424320"/>
              <a:chOff x="142920" y="71280"/>
              <a:chExt cx="8786880" cy="3424320"/>
            </a:xfrm>
          </p:grpSpPr>
          <p:sp>
            <p:nvSpPr>
              <p:cNvPr id="729" name="AutoShape 29"/>
              <p:cNvSpPr/>
              <p:nvPr/>
            </p:nvSpPr>
            <p:spPr>
              <a:xfrm>
                <a:off x="142920" y="71280"/>
                <a:ext cx="857268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51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5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500" spc="-1" strike="noStrike">
                    <a:solidFill>
                      <a:srgbClr val="af334e"/>
                    </a:solidFill>
                    <a:latin typeface="HY강B"/>
                  </a:rPr>
                  <a:t>노화의 특성</a:t>
                </a:r>
                <a:endParaRPr b="0" lang="en-US" sz="25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30" name="Text Box 25"/>
              <p:cNvSpPr/>
              <p:nvPr/>
            </p:nvSpPr>
            <p:spPr>
              <a:xfrm>
                <a:off x="285480" y="690480"/>
                <a:ext cx="8644320" cy="280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화를 변화로만 보는 경향이 있으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안정성도 동시에 고려해야 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화는 상실과 획득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쇠퇴와 성장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긍정과 부정의 두 측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예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건강의 쇠퇴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vs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험과 지혜의 확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을 모두 포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화는 보편성과 개별성을 포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화는 유전과 환경에 의한 외적 변화와 내적 변화를 모두 포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물적 노화는 원상태로의 복귀가 어렵지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非可逆性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적 노화는 원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상태로의 회복이 가능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예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퇴직 후 재취업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731" name="그룹 10"/>
            <p:cNvGrpSpPr/>
            <p:nvPr/>
          </p:nvGrpSpPr>
          <p:grpSpPr>
            <a:xfrm>
              <a:off x="142920" y="3611520"/>
              <a:ext cx="8786880" cy="2610360"/>
              <a:chOff x="142920" y="3611520"/>
              <a:chExt cx="8786880" cy="2610360"/>
            </a:xfrm>
          </p:grpSpPr>
          <p:sp>
            <p:nvSpPr>
              <p:cNvPr id="732" name="AutoShape 29"/>
              <p:cNvSpPr/>
              <p:nvPr/>
            </p:nvSpPr>
            <p:spPr>
              <a:xfrm>
                <a:off x="142920" y="3611520"/>
                <a:ext cx="857268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51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5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500" spc="-1" strike="noStrike">
                    <a:solidFill>
                      <a:srgbClr val="af334e"/>
                    </a:solidFill>
                    <a:latin typeface="HY강B"/>
                  </a:rPr>
                  <a:t>노화와 질병의 관계</a:t>
                </a:r>
                <a:endParaRPr b="0" lang="en-US" sz="25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33" name="Text Box 25"/>
              <p:cNvSpPr/>
              <p:nvPr/>
            </p:nvSpPr>
            <p:spPr>
              <a:xfrm>
                <a:off x="285480" y="4184640"/>
                <a:ext cx="8644320" cy="203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화의 결과를 질병으로 간주하는 경향이 있지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상적 노화 자체만으로는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질병이 유발되지 않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화의 진행과 함께 발병 가능성이 높아지는 것은 병리적 노화 때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화기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유전과 환경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→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상적 노화 → 신체기능의 저하 → 위험인자 개입 →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병리적 노화로 전환 → 질병에의 이환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2-1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734" name="AutoShape 2"/>
            <p:cNvSpPr/>
            <p:nvPr/>
          </p:nvSpPr>
          <p:spPr>
            <a:xfrm>
              <a:off x="180720" y="4143600"/>
              <a:ext cx="8820360" cy="21430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5" name="그룹 17"/>
          <p:cNvGrpSpPr/>
          <p:nvPr/>
        </p:nvGrpSpPr>
        <p:grpSpPr>
          <a:xfrm>
            <a:off x="0" y="0"/>
            <a:ext cx="9144000" cy="6424920"/>
            <a:chOff x="0" y="0"/>
            <a:chExt cx="9144000" cy="6424920"/>
          </a:xfrm>
        </p:grpSpPr>
        <p:pic>
          <p:nvPicPr>
            <p:cNvPr id="736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7" name="Rectangle 2"/>
            <p:cNvSpPr/>
            <p:nvPr/>
          </p:nvSpPr>
          <p:spPr>
            <a:xfrm>
              <a:off x="1428480" y="71280"/>
              <a:ext cx="7286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2.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생물적 노화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738" name="그룹 34"/>
            <p:cNvGrpSpPr/>
            <p:nvPr/>
          </p:nvGrpSpPr>
          <p:grpSpPr>
            <a:xfrm>
              <a:off x="142560" y="785520"/>
              <a:ext cx="8858520" cy="3286080"/>
              <a:chOff x="142560" y="785520"/>
              <a:chExt cx="8858520" cy="3286080"/>
            </a:xfrm>
          </p:grpSpPr>
          <p:grpSp>
            <p:nvGrpSpPr>
              <p:cNvPr id="739" name="그룹 6"/>
              <p:cNvGrpSpPr/>
              <p:nvPr/>
            </p:nvGrpSpPr>
            <p:grpSpPr>
              <a:xfrm>
                <a:off x="180360" y="2531880"/>
                <a:ext cx="8820720" cy="1539720"/>
                <a:chOff x="180360" y="2531880"/>
                <a:chExt cx="8820720" cy="1539720"/>
              </a:xfrm>
            </p:grpSpPr>
            <p:sp>
              <p:nvSpPr>
                <p:cNvPr id="740" name="AutoShape 2"/>
                <p:cNvSpPr/>
                <p:nvPr/>
              </p:nvSpPr>
              <p:spPr>
                <a:xfrm>
                  <a:off x="180360" y="2531880"/>
                  <a:ext cx="8820720" cy="15397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741" name="Text Box 25"/>
                <p:cNvSpPr/>
                <p:nvPr/>
              </p:nvSpPr>
              <p:spPr>
                <a:xfrm>
                  <a:off x="213480" y="2571480"/>
                  <a:ext cx="8787600" cy="1486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buSzPct val="10281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생물적 퇴화과정이 생물적 재생산과정을 능가하여 유기체내에 퇴행적 변화가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나타나는 발달현상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buSzPct val="10281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즉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나이가 들어감에 따라 신체 구조 및 신체 내부의 세포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조직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장기 등 유기체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전반에 일어나는 쇠퇴적 발달 현상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2" name="그룹 30"/>
              <p:cNvGrpSpPr/>
              <p:nvPr/>
            </p:nvGrpSpPr>
            <p:grpSpPr>
              <a:xfrm>
                <a:off x="180720" y="785520"/>
                <a:ext cx="8820360" cy="1285920"/>
                <a:chOff x="180720" y="785520"/>
                <a:chExt cx="8820360" cy="1285920"/>
              </a:xfrm>
            </p:grpSpPr>
            <p:sp>
              <p:nvSpPr>
                <p:cNvPr id="743" name="AutoShape 2"/>
                <p:cNvSpPr/>
                <p:nvPr/>
              </p:nvSpPr>
              <p:spPr>
                <a:xfrm>
                  <a:off x="180720" y="1213920"/>
                  <a:ext cx="8820360" cy="8575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744" name="AutoShape 7"/>
                <p:cNvSpPr/>
                <p:nvPr/>
              </p:nvSpPr>
              <p:spPr>
                <a:xfrm>
                  <a:off x="285120" y="785520"/>
                  <a:ext cx="4786560" cy="4287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300" spc="-1" strike="noStrike">
                      <a:solidFill>
                        <a:srgbClr val="ffffff"/>
                      </a:solidFill>
                      <a:latin typeface="HY강B"/>
                    </a:rPr>
                    <a:t>1) </a:t>
                  </a:r>
                  <a:r>
                    <a:rPr b="0" lang="ko-KR" sz="2300" spc="-1" strike="noStrike">
                      <a:solidFill>
                        <a:srgbClr val="ffffff"/>
                      </a:solidFill>
                      <a:latin typeface="HY강B"/>
                    </a:rPr>
                    <a:t>생물적 노화의 개념과 특성</a:t>
                  </a:r>
                  <a:endParaRPr b="0" lang="en-US" sz="23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745" name="Text Box 25"/>
                <p:cNvSpPr/>
                <p:nvPr/>
              </p:nvSpPr>
              <p:spPr>
                <a:xfrm>
                  <a:off x="294480" y="1285560"/>
                  <a:ext cx="8563680" cy="718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buSzPct val="10281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일반적으로 노화를 신체구조의 외적 변화를 의미할 정도로 신체적 노화가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익숙한 개념이나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생물적 노화가 더욱 정확한 개념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746" name="AutoShape 29"/>
              <p:cNvSpPr/>
              <p:nvPr/>
            </p:nvSpPr>
            <p:spPr>
              <a:xfrm>
                <a:off x="142560" y="2071440"/>
                <a:ext cx="857304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B"/>
                  </a:rPr>
                  <a:t>개념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747" name="그룹 33"/>
            <p:cNvGrpSpPr/>
            <p:nvPr/>
          </p:nvGrpSpPr>
          <p:grpSpPr>
            <a:xfrm>
              <a:off x="142560" y="4021200"/>
              <a:ext cx="8858520" cy="2403720"/>
              <a:chOff x="142560" y="4021200"/>
              <a:chExt cx="8858520" cy="2403720"/>
            </a:xfrm>
          </p:grpSpPr>
          <p:grpSp>
            <p:nvGrpSpPr>
              <p:cNvPr id="748" name="그룹 6"/>
              <p:cNvGrpSpPr/>
              <p:nvPr/>
            </p:nvGrpSpPr>
            <p:grpSpPr>
              <a:xfrm>
                <a:off x="180720" y="4481280"/>
                <a:ext cx="8820360" cy="1943640"/>
                <a:chOff x="180720" y="4481280"/>
                <a:chExt cx="8820360" cy="1943640"/>
              </a:xfrm>
            </p:grpSpPr>
            <p:sp>
              <p:nvSpPr>
                <p:cNvPr id="749" name="AutoShape 2"/>
                <p:cNvSpPr/>
                <p:nvPr/>
              </p:nvSpPr>
              <p:spPr>
                <a:xfrm>
                  <a:off x="180720" y="4481280"/>
                  <a:ext cx="8820360" cy="189720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25"/>
                <p:cNvSpPr/>
                <p:nvPr/>
              </p:nvSpPr>
              <p:spPr>
                <a:xfrm>
                  <a:off x="213840" y="4520880"/>
                  <a:ext cx="8644320" cy="190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buSzPct val="102812"/>
                    <a:buBlip>
                      <a:blip r:embed="rId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생물적 노화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=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신체적 노화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+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생리적 노화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buSzPct val="102812"/>
                    <a:buBlip>
                      <a:blip r:embed="rId7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신체적 노화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신체구조와 기능의 쇠퇴로 인하여 활력을 상실하고 질병에 대한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저항력이 약화되는 노화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buSzPct val="102812"/>
                    <a:buBlip>
                      <a:blip r:embed="rId8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생리적 노화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유기체의 기관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조직체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세포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생체 통제기제 등의 쇠퇴와 기능이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약화되는 노화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29"/>
              <p:cNvSpPr/>
              <p:nvPr/>
            </p:nvSpPr>
            <p:spPr>
              <a:xfrm>
                <a:off x="142560" y="4021200"/>
                <a:ext cx="857304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af334e"/>
                    </a:solidFill>
                    <a:latin typeface="HY강B"/>
                  </a:rPr>
                  <a:t>영역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2" name="그룹 17"/>
          <p:cNvGrpSpPr/>
          <p:nvPr/>
        </p:nvGrpSpPr>
        <p:grpSpPr>
          <a:xfrm>
            <a:off x="142920" y="0"/>
            <a:ext cx="8858160" cy="6286680"/>
            <a:chOff x="142920" y="0"/>
            <a:chExt cx="8858160" cy="6286680"/>
          </a:xfrm>
        </p:grpSpPr>
        <p:grpSp>
          <p:nvGrpSpPr>
            <p:cNvPr id="753" name="그룹 9"/>
            <p:cNvGrpSpPr/>
            <p:nvPr/>
          </p:nvGrpSpPr>
          <p:grpSpPr>
            <a:xfrm>
              <a:off x="142920" y="0"/>
              <a:ext cx="8858160" cy="2143080"/>
              <a:chOff x="142920" y="0"/>
              <a:chExt cx="8858160" cy="2143080"/>
            </a:xfrm>
          </p:grpSpPr>
          <p:grpSp>
            <p:nvGrpSpPr>
              <p:cNvPr id="754" name="그룹 6"/>
              <p:cNvGrpSpPr/>
              <p:nvPr/>
            </p:nvGrpSpPr>
            <p:grpSpPr>
              <a:xfrm>
                <a:off x="181080" y="531720"/>
                <a:ext cx="8820000" cy="1611360"/>
                <a:chOff x="181080" y="531720"/>
                <a:chExt cx="8820000" cy="1611360"/>
              </a:xfrm>
            </p:grpSpPr>
            <p:sp>
              <p:nvSpPr>
                <p:cNvPr id="755" name="AutoShape 2"/>
                <p:cNvSpPr/>
                <p:nvPr/>
              </p:nvSpPr>
              <p:spPr>
                <a:xfrm>
                  <a:off x="181080" y="531720"/>
                  <a:ext cx="8820000" cy="16113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756" name="Text Box 25"/>
                <p:cNvSpPr/>
                <p:nvPr/>
              </p:nvSpPr>
              <p:spPr>
                <a:xfrm>
                  <a:off x="214200" y="633240"/>
                  <a:ext cx="8643960" cy="1438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63"/>
                    </a:spcBef>
                    <a:buSzPct val="102857"/>
                    <a:buBlip>
                      <a:blip r:embed="rId1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외적 환경요인에 의해 촉진되지만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유전 등 내적 요인에 의해 주로 유발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063"/>
                    </a:spcBef>
                    <a:buSzPct val="102857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모든 사람에게 보편적으로 나타나지만 노화 속도나 정도는 개인차 있음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063"/>
                    </a:spcBef>
                    <a:buSzPct val="102857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신체구조와 기능의 저하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일상생활 능력 저하로 인해 신체에 부정적 영향을 미치며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질병에 대한 저항력 상실을 초래하고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생명의 종식에 이르게 함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7" name="AutoShape 29"/>
              <p:cNvSpPr/>
              <p:nvPr/>
            </p:nvSpPr>
            <p:spPr>
              <a:xfrm>
                <a:off x="142920" y="0"/>
                <a:ext cx="857268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af334e"/>
                    </a:solidFill>
                    <a:latin typeface="HY강B"/>
                  </a:rPr>
                  <a:t>생물적 노화의 원인과 특성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758" name="그룹 14"/>
            <p:cNvGrpSpPr/>
            <p:nvPr/>
          </p:nvGrpSpPr>
          <p:grpSpPr>
            <a:xfrm>
              <a:off x="142920" y="2112840"/>
              <a:ext cx="8858160" cy="2673360"/>
              <a:chOff x="142920" y="2112840"/>
              <a:chExt cx="8858160" cy="2673360"/>
            </a:xfrm>
          </p:grpSpPr>
          <p:grpSp>
            <p:nvGrpSpPr>
              <p:cNvPr id="759" name="그룹 6"/>
              <p:cNvGrpSpPr/>
              <p:nvPr/>
            </p:nvGrpSpPr>
            <p:grpSpPr>
              <a:xfrm>
                <a:off x="181080" y="2644560"/>
                <a:ext cx="8820000" cy="2141640"/>
                <a:chOff x="181080" y="2644560"/>
                <a:chExt cx="8820000" cy="2141640"/>
              </a:xfrm>
            </p:grpSpPr>
            <p:sp>
              <p:nvSpPr>
                <p:cNvPr id="760" name="AutoShape 2"/>
                <p:cNvSpPr/>
                <p:nvPr/>
              </p:nvSpPr>
              <p:spPr>
                <a:xfrm>
                  <a:off x="181080" y="2644560"/>
                  <a:ext cx="8820000" cy="2141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761" name="Text Box 25"/>
                <p:cNvSpPr/>
                <p:nvPr/>
              </p:nvSpPr>
              <p:spPr>
                <a:xfrm>
                  <a:off x="214200" y="2706480"/>
                  <a:ext cx="8643960" cy="199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63"/>
                    </a:spcBef>
                    <a:buSzPct val="102857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최적의 노화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긍정적 유전요인과 긍정적 환경의 작용으로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신체기능의 저하가 최소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한도인 노화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.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즉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성공적 노화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901"/>
                    </a:spcBef>
                    <a:buSzPct val="102857"/>
                    <a:buBlip>
                      <a:blip r:embed="rId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통상적 노화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긍정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/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중성적 유전요인에 부정적 환경요인이 작용하여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질병과 기능제한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을 초래하지만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그 정도가 심하지 않은 상태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901"/>
                    </a:spcBef>
                    <a:buSzPct val="102857"/>
                    <a:buBlip>
                      <a:blip r:embed="rId7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병리적 노화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부정적 유전요인에 부정적 환경요인이 작용하여 심각한 만성질환과 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장애를 초래하는 노화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762" name="AutoShape 29"/>
              <p:cNvSpPr/>
              <p:nvPr/>
            </p:nvSpPr>
            <p:spPr>
              <a:xfrm>
                <a:off x="142920" y="2112840"/>
                <a:ext cx="857268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af334e"/>
                    </a:solidFill>
                    <a:latin typeface="HY강B"/>
                  </a:rPr>
                  <a:t>생물적 노화의 수준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763" name="그룹 19"/>
            <p:cNvGrpSpPr/>
            <p:nvPr/>
          </p:nvGrpSpPr>
          <p:grpSpPr>
            <a:xfrm>
              <a:off x="142920" y="4870800"/>
              <a:ext cx="8858160" cy="1415880"/>
              <a:chOff x="142920" y="4870800"/>
              <a:chExt cx="8858160" cy="1415880"/>
            </a:xfrm>
          </p:grpSpPr>
          <p:grpSp>
            <p:nvGrpSpPr>
              <p:cNvPr id="764" name="그룹 6"/>
              <p:cNvGrpSpPr/>
              <p:nvPr/>
            </p:nvGrpSpPr>
            <p:grpSpPr>
              <a:xfrm>
                <a:off x="181080" y="5382720"/>
                <a:ext cx="8820000" cy="903960"/>
                <a:chOff x="181080" y="5382720"/>
                <a:chExt cx="8820000" cy="903960"/>
              </a:xfrm>
            </p:grpSpPr>
            <p:sp>
              <p:nvSpPr>
                <p:cNvPr id="765" name="AutoShape 2"/>
                <p:cNvSpPr/>
                <p:nvPr/>
              </p:nvSpPr>
              <p:spPr>
                <a:xfrm>
                  <a:off x="181080" y="5382720"/>
                  <a:ext cx="8820000" cy="9039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766" name="Text Box 25"/>
                <p:cNvSpPr/>
                <p:nvPr/>
              </p:nvSpPr>
              <p:spPr>
                <a:xfrm>
                  <a:off x="214200" y="5435640"/>
                  <a:ext cx="8643960" cy="747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63"/>
                    </a:spcBef>
                    <a:buSzPct val="102857"/>
                    <a:buBlip>
                      <a:blip r:embed="rId9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생물적 노화의 수용→ 심리사회적 기능의 유지와 발전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063"/>
                    </a:spcBef>
                    <a:buSzPct val="102857"/>
                    <a:buBlip>
                      <a:blip r:embed="rId10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생물적 노화에 집착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/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몰두→ 심리사회적 기능의 손상과 삶의 만족도 저하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767" name="AutoShape 29"/>
              <p:cNvSpPr/>
              <p:nvPr/>
            </p:nvSpPr>
            <p:spPr>
              <a:xfrm>
                <a:off x="142920" y="4870800"/>
                <a:ext cx="8572680" cy="48708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af334e"/>
                    </a:solidFill>
                    <a:latin typeface="HY강B"/>
                  </a:rPr>
                  <a:t>생물적 노화의 영향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8" name="그룹 6"/>
          <p:cNvGrpSpPr/>
          <p:nvPr/>
        </p:nvGrpSpPr>
        <p:grpSpPr>
          <a:xfrm>
            <a:off x="285840" y="0"/>
            <a:ext cx="8643960" cy="6286680"/>
            <a:chOff x="285840" y="0"/>
            <a:chExt cx="8643960" cy="6286680"/>
          </a:xfrm>
        </p:grpSpPr>
        <p:pic>
          <p:nvPicPr>
            <p:cNvPr id="769" name="Picture 2" descr="C:\DOCUME~1\USER\LOCALS~1\Temp\UNI00000c2870a4.gif"/>
            <p:cNvPicPr/>
            <p:nvPr/>
          </p:nvPicPr>
          <p:blipFill>
            <a:blip r:embed="rId1"/>
            <a:stretch/>
          </p:blipFill>
          <p:spPr>
            <a:xfrm>
              <a:off x="4786560" y="0"/>
              <a:ext cx="4071960" cy="15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0" name="AutoShape 4"/>
            <p:cNvSpPr/>
            <p:nvPr/>
          </p:nvSpPr>
          <p:spPr>
            <a:xfrm>
              <a:off x="285840" y="714240"/>
              <a:ext cx="5643720" cy="571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0" lang="ko-KR" sz="2800" spc="-1" strike="noStrike">
                  <a:solidFill>
                    <a:srgbClr val="ffffff"/>
                  </a:solidFill>
                  <a:latin typeface="HY강B"/>
                </a:rPr>
                <a:t>생물적 노화의 주요이론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771" name="그룹 6"/>
            <p:cNvGrpSpPr/>
            <p:nvPr/>
          </p:nvGrpSpPr>
          <p:grpSpPr>
            <a:xfrm>
              <a:off x="357120" y="1579680"/>
              <a:ext cx="8572680" cy="4707000"/>
              <a:chOff x="357120" y="1579680"/>
              <a:chExt cx="8572680" cy="4707000"/>
            </a:xfrm>
          </p:grpSpPr>
          <p:sp>
            <p:nvSpPr>
              <p:cNvPr id="772" name="AutoShape 2"/>
              <p:cNvSpPr/>
              <p:nvPr/>
            </p:nvSpPr>
            <p:spPr>
              <a:xfrm>
                <a:off x="357120" y="1579680"/>
                <a:ext cx="8572680" cy="47070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73" name="Text Box 6"/>
              <p:cNvSpPr/>
              <p:nvPr/>
            </p:nvSpPr>
            <p:spPr>
              <a:xfrm>
                <a:off x="717480" y="1960560"/>
                <a:ext cx="8069760" cy="403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1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21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2-1 </a:t>
                </a:r>
                <a:r>
                  <a:rPr b="0" lang="ko-KR" sz="21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포이론</a:t>
                </a:r>
                <a:r>
                  <a:rPr b="1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용마모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폐물축적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교차연결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전자변이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포분열제한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해산소이론 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전이론</a:t>
                </a:r>
                <a:r>
                  <a:rPr b="1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전자조절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오류재해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DNA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과다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질서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무질서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텔로메라제이론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리학적 이론</a:t>
                </a:r>
                <a:r>
                  <a:rPr b="1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신진대사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열량제한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망호르몬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신경호르몬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흉선자극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명속도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리적 통제이론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면역이론</a:t>
                </a:r>
                <a:r>
                  <a:rPr b="1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면역반응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동면역이론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스트레스 이론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4" name="그룹 1"/>
          <p:cNvGrpSpPr/>
          <p:nvPr/>
        </p:nvGrpSpPr>
        <p:grpSpPr>
          <a:xfrm>
            <a:off x="142920" y="428760"/>
            <a:ext cx="8858160" cy="5786280"/>
            <a:chOff x="142920" y="428760"/>
            <a:chExt cx="8858160" cy="5786280"/>
          </a:xfrm>
        </p:grpSpPr>
        <p:grpSp>
          <p:nvGrpSpPr>
            <p:cNvPr id="775" name="그룹 6"/>
            <p:cNvGrpSpPr/>
            <p:nvPr/>
          </p:nvGrpSpPr>
          <p:grpSpPr>
            <a:xfrm>
              <a:off x="180720" y="1871640"/>
              <a:ext cx="8820360" cy="4343400"/>
              <a:chOff x="180720" y="1871640"/>
              <a:chExt cx="8820360" cy="4343400"/>
            </a:xfrm>
          </p:grpSpPr>
          <p:sp>
            <p:nvSpPr>
              <p:cNvPr id="776" name="AutoShape 2"/>
              <p:cNvSpPr/>
              <p:nvPr/>
            </p:nvSpPr>
            <p:spPr>
              <a:xfrm>
                <a:off x="180720" y="1871640"/>
                <a:ext cx="8820360" cy="43434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77" name="Text Box 25"/>
              <p:cNvSpPr/>
              <p:nvPr/>
            </p:nvSpPr>
            <p:spPr>
              <a:xfrm>
                <a:off x="356760" y="2081160"/>
                <a:ext cx="8644320" cy="372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세포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화색소인 지방갈색소가 많아지고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단백질 합성에 필수적인 분자가 생산되지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않아 세포가 노화되어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신체 기관과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직이 노화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섬유질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섬유질 교체 부진으로 신체조직 쉽게 손상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파편화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칼슘화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체중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60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부터 감소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신장</a:t>
                </a:r>
                <a:r>
                  <a:rPr b="0" lang="en-US" sz="17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: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30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에 비해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90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%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감소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치아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60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4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70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1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80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6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로 줄어듦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머리카락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silver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색으로 변화 → 노인의 고유색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실버세대로 부름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피부</a:t>
                </a:r>
                <a:r>
                  <a:rPr b="0" lang="en-US" sz="17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창백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얼룩반점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건성화되고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피하지방과 신경세포 감소로 피부탄력과 체온유지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능력 감소 → 온도적응 문제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호흡기질환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stroke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조직구성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지방분 증가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고형분과 수분 감소 → 골절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골다공증 위험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연골조직 얇아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지고 탄력약화 → 관절염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수의근 약화 → 운동기능 저하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778" name="그룹 30"/>
            <p:cNvGrpSpPr/>
            <p:nvPr/>
          </p:nvGrpSpPr>
          <p:grpSpPr>
            <a:xfrm>
              <a:off x="181080" y="428760"/>
              <a:ext cx="8748720" cy="970920"/>
              <a:chOff x="181080" y="428760"/>
              <a:chExt cx="8748720" cy="970920"/>
            </a:xfrm>
          </p:grpSpPr>
          <p:sp>
            <p:nvSpPr>
              <p:cNvPr id="779" name="AutoShape 2"/>
              <p:cNvSpPr/>
              <p:nvPr/>
            </p:nvSpPr>
            <p:spPr>
              <a:xfrm>
                <a:off x="181080" y="928800"/>
                <a:ext cx="8748720" cy="4708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80" name="AutoShape 7"/>
              <p:cNvSpPr/>
              <p:nvPr/>
            </p:nvSpPr>
            <p:spPr>
              <a:xfrm>
                <a:off x="214200" y="428760"/>
                <a:ext cx="4786560" cy="471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ffffff"/>
                    </a:solidFill>
                    <a:latin typeface="HY강B"/>
                  </a:rPr>
                  <a:t>3) </a:t>
                </a:r>
                <a:r>
                  <a:rPr b="0" lang="ko-KR" sz="2600" spc="-1" strike="noStrike">
                    <a:solidFill>
                      <a:srgbClr val="ffffff"/>
                    </a:solidFill>
                    <a:latin typeface="HY강B"/>
                  </a:rPr>
                  <a:t>생물적 노화의 양상</a:t>
                </a:r>
                <a:endParaRPr b="0" lang="en-US" sz="2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81" name="Text Box 25"/>
              <p:cNvSpPr/>
              <p:nvPr/>
            </p:nvSpPr>
            <p:spPr>
              <a:xfrm>
                <a:off x="366480" y="1000080"/>
                <a:ext cx="8563320" cy="38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88"/>
                  </a:spcBef>
                  <a:buSzPct val="102985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물적 노화를 신체구조 변화와 신체기능 변화로 구분 설명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782" name="AutoShape 29"/>
            <p:cNvSpPr/>
            <p:nvPr/>
          </p:nvSpPr>
          <p:spPr>
            <a:xfrm>
              <a:off x="142920" y="1370160"/>
              <a:ext cx="8572680" cy="53784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909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HY강B"/>
                </a:rPr>
                <a:t>신체구조의 변화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3" name="그룹 5"/>
          <p:cNvGrpSpPr/>
          <p:nvPr/>
        </p:nvGrpSpPr>
        <p:grpSpPr>
          <a:xfrm>
            <a:off x="181080" y="142920"/>
            <a:ext cx="8820000" cy="6000840"/>
            <a:chOff x="181080" y="142920"/>
            <a:chExt cx="8820000" cy="6000840"/>
          </a:xfrm>
        </p:grpSpPr>
        <p:grpSp>
          <p:nvGrpSpPr>
            <p:cNvPr id="784" name="그룹 1"/>
            <p:cNvGrpSpPr/>
            <p:nvPr/>
          </p:nvGrpSpPr>
          <p:grpSpPr>
            <a:xfrm>
              <a:off x="181080" y="714240"/>
              <a:ext cx="8820000" cy="5429520"/>
              <a:chOff x="181080" y="714240"/>
              <a:chExt cx="8820000" cy="5429520"/>
            </a:xfrm>
          </p:grpSpPr>
          <p:sp>
            <p:nvSpPr>
              <p:cNvPr id="785" name="AutoShape 2"/>
              <p:cNvSpPr/>
              <p:nvPr/>
            </p:nvSpPr>
            <p:spPr>
              <a:xfrm>
                <a:off x="181080" y="714240"/>
                <a:ext cx="8820000" cy="54295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86" name="Text Box 6"/>
              <p:cNvSpPr/>
              <p:nvPr/>
            </p:nvSpPr>
            <p:spPr>
              <a:xfrm>
                <a:off x="285840" y="836280"/>
                <a:ext cx="8643960" cy="50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5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장기 중량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4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부터 감소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25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0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일 때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75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 노인 신장은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81%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간장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67%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비장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45%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반면 심장은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40%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도로 증가하며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장기기능 역시 변화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5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심장기능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심장혈관 경화로 심장비대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중량 증가로 심박출량과 박동능력은 감소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심장판막 석회화로 각종 심장질환 위험 증가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5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혈관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동맥벽 비대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화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탄력감소로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혈압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동맥경화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뇌졸중 위험 증가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5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폐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7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조직탄성 및 용적 감소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관지 확장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잔기량 증가로 호흡기질환 위험 증가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Clr>
                    <a:srgbClr val="1a2f96"/>
                  </a:buClr>
                  <a:buFont typeface="HY강M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소화기능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7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치아결손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소화효소 분비 감소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위 근육 약화로 소화기능 저하되고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소장 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융모 축소와 운동저하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대장변형과 운동저하로 변비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숙변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각종 장 질환 위험 증가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5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신장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크기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무게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피질의 양 감소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신장혈관 경화로 기능저하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폐물 여과비율 감소로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신장질환 위험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방광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요도 기능 저하로 야뇨 증가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5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대사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7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초대사율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휴식시 산소소모량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감소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탄수화물 대사 증가로 당뇨병 위험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5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내분비계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연구부족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갑상선질환 증가하나 대부분 정상기능 유지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57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성 및 생식기능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성은 폐경으로 생식능력 상실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남성은 음경 크기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강직도 저하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발기부전 등으로 성교능력 저하되지만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7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대 이상에서도 성교 및 생식기능 유지 가능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787" name="AutoShape 29"/>
            <p:cNvSpPr/>
            <p:nvPr/>
          </p:nvSpPr>
          <p:spPr>
            <a:xfrm>
              <a:off x="214200" y="142920"/>
              <a:ext cx="8572680" cy="57132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851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5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500" spc="-1" strike="noStrike">
                  <a:solidFill>
                    <a:srgbClr val="c00000"/>
                  </a:solidFill>
                  <a:latin typeface="HY강B"/>
                </a:rPr>
                <a:t>신체기능의 변화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2:34:59Z</dcterms:created>
  <dc:creator>OWNER</dc:creator>
  <dc:description/>
  <dc:language>en-US</dc:language>
  <cp:lastModifiedBy>Windows 사용자</cp:lastModifiedBy>
  <dcterms:modified xsi:type="dcterms:W3CDTF">2019-07-10T21:27:11Z</dcterms:modified>
  <cp:revision>219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7961042</vt:lpwstr>
  </property>
</Properties>
</file>