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33AA-BED5-473F-B129-62499D41F2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2D06-7533-41D9-828E-CF4C9661B0A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D9AD-5A4D-4ED7-930A-04183467F97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08C94-A85F-49B5-BA05-0722B71F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95BAD-2469-4B73-B3F7-78AA6355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7FAAF-7EC8-468F-9672-CDC1B50C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DB306-D61E-46E8-A080-BC88D2AC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8D17B-B97D-4258-8ABE-6AAA352A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BCD06-586C-4208-B454-C4FF6362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28CA1-83D9-427C-B23B-C8C5241F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AFC62-7EFF-4B9E-BD3F-F1D24212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BA980-5660-4884-AA2C-B385E60E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41D43-908E-4D21-8169-DD714E3D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0C8D8-CEAC-4987-BD3F-85D1F104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4A38E-50D7-42D9-9B93-16894910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6EA1B-D4EA-4B1F-B2CA-7838680A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90F5A-91B9-4601-8600-8138F095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160AB-CDA8-475F-A296-2765CD65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F57EC-759A-43C3-A280-F2283ABD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A7529-8B38-4B22-B104-EDD7FF44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7CE6F-7DDB-483C-BD28-70B70E03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8FF98-1DD1-4307-B6D5-8EBC9F5B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14AE6-380B-497F-9267-506B5B8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14BCE-B7D3-4BAB-9D69-6A674A88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0919F-5E12-48CA-A016-E9237C6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90BC8-10AE-48FF-B990-D33020F0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C1BD4-5EB4-4F08-A870-8BBE6DE0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145E-92B4-41E5-A8A5-54F66C90D17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E598-07BF-4034-9D62-CF0F52B8383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9E5A-BA2A-4707-88DE-C5A0A135219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35B4-1F76-4FD6-A99D-9CCB59A7EE7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B869-E4B4-4447-BF6C-433441D8E91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6E00-C085-4E5D-8183-6A7983D9085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C29D-EE20-4CEC-BFCB-903240406886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,35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.0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.6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8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6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 이하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게 변화와 인상＋고비용 치료기기 도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2140920"/>
              <a:chOff x="285480" y="3486240"/>
              <a:chExt cx="8572680" cy="214092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0720"/>
                <a:ext cx="8572680" cy="16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하면 노인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16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원의 의료비 지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나 배우자 부담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가 주로 부담하는 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757840"/>
              <a:ext cx="7572240" cy="898560"/>
              <a:chOff x="0" y="5757840"/>
              <a:chExt cx="7572240" cy="89856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0" y="575784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857160" y="6084720"/>
                <a:ext cx="671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 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9.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7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 등의 순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6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7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6.7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 등의 순이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중에서는 폐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췌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해뢀 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8.7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4.6%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의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3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2680"/>
                <a:chOff x="357120" y="1500120"/>
                <a:chExt cx="8643960" cy="227268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(care)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60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장기요양보험에서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’으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의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3:26:07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