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F8C4-5AF7-4B24-B791-78E2D3575E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746A-DA01-441C-8806-D90465FB415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B939-570A-4367-A920-A524362461F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51FB0-1B0D-4C5F-97A1-1825E371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3E809-B2CB-47D1-BCCA-D4538218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527B2-C5BA-442B-BEBB-8AFDFF86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7E50B-32E4-4FDD-8AB0-5E1A3083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E5217-68D6-4E6B-9D59-7EB5EE8A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2EE7B-A2E9-4AE5-9AF9-5139584B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ADCDE-DBC4-4D0D-9DEA-E0FA7487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76591-C1C9-427F-9DEF-983BF9CC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83ABC-2AD4-437E-A1CA-4EBF474B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CE8BA-9085-4127-8A5C-36401471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E5372-DB18-4B35-92B4-DDECA1CF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D41D4-DE6F-4D79-B892-7AB77DBA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320BA9-7D8A-43BA-B6A0-A6174D98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272A6-8B15-47F3-915F-ECDAE513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62822D-04B8-4E30-A474-E58DE367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308E1-EC07-4087-84F9-1572389D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FADC0-7D58-4DEF-B4F3-A748E878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10C42-04DB-4D2F-B76F-4CDEACCF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5E769-E31D-4F12-A67D-EA57DA7D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6B154-7BAB-4135-8F49-DDEF7568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242737-4166-47E5-AE5E-5EC5A39A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2CD12-25C2-40A4-984F-EE0D6AE7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2757E4-7EC6-4BC0-8DB6-35D91D79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3FAA1-31CF-4241-A15F-AD38ABD0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7D4A-879A-40DA-86EC-6F6B642C189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2DE7-6108-487F-A9FC-5B10F2E3CC69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F973-C506-4B5A-85FA-79BFBA9C2D9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A0E8-8B6D-4580-8D4F-8655C6338BE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8744-B9AD-4224-8973-AADBF3F575E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89D2-FB26-45F8-B797-572FE62B111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3ECD-3C85-4C46-986F-7CE073D4AC89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8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MMSE-K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5-8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 치매척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5-166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6-167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8-17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옷이나 팔찌에 표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망상에 대비해 예비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8-179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부 내용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79-181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6000"/>
              <a:chOff x="285480" y="642600"/>
              <a:chExt cx="8644320" cy="525600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800"/>
                <a:ext cx="8644320" cy="2683800"/>
                <a:chOff x="285480" y="321480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80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320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에 관한 전문지식 갖춘 상담자가 담당하는 것이 바람직함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572680" cy="1992600"/>
              <a:chOff x="0" y="1139760"/>
              <a:chExt cx="857268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21556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질성 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organic 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2960"/>
            <a:chOff x="0" y="0"/>
            <a:chExt cx="9144000" cy="640296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480"/>
              <a:chOff x="285480" y="857160"/>
              <a:chExt cx="8606160" cy="257148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8720"/>
              <a:chOff x="285480" y="3504240"/>
              <a:chExt cx="8712360" cy="28987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2280"/>
                <a:ext cx="8606880" cy="238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96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APA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나타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800"/>
              <a:ext cx="8715240" cy="5429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0:19:19Z</dcterms:modified>
  <cp:revision>27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