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1A88-2502-4201-A470-9ECD28564B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0FF3-F065-4037-BA6F-473B08B545B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617C-BB49-4634-A08D-C50C39202D0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4819C-2F43-451F-AAE2-988B5C9C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E018E-8392-4878-AE74-12C5C99C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356B8-D378-495B-A316-2EE4DAE6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E0BD7-B54D-44C8-A826-492F874F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182AC-FB36-400D-8A7F-F9AF5B4A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E8D97-A3A5-482C-9828-BF7166F0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ACA8E-8F5F-488A-8106-F9506B87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BC933-3D8C-473D-9E0B-481DBDB5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31838-A579-4A3B-8EA8-815EF5B6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6EF84-32D3-4D7C-9523-A2C8FD26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207CC-3414-4143-88F7-6C10430D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68FA0-BC08-49E7-9DB4-8943581C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5DB2F6-EB25-44BA-BAF0-4ECB4F9A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65BF5E-6A6C-4D32-961F-B5423D68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04DA2B-9D84-42A4-AF74-E56FDC58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04CC99-1A21-47C2-BC23-953CA224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A14C6B-2D28-4551-AF5F-A4F70863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6D3CF1-1E0F-4424-A02D-242FAA4E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BD8031-5008-4EE6-8A1F-D1CA95B7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A84B03-67C3-4D45-96B1-1D13BAC9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7B5E07-4799-4007-AAB5-8FA7813C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1B00EE-823A-4B04-B392-05326F15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73BF5F-51D9-429B-BDCA-E3A81B72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1DEDDB-77BC-4B6F-9411-367489AA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674D-FDC1-4131-A185-A860E2DC608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3ECF-3103-4C79-90A4-6029F3AAE94B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6178-F74A-4649-994A-D0071EA596E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16AC-B8B8-457A-9F34-9AD3105B374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F99B-73C9-407E-B73E-B4E43499A35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A837-B1FF-4A70-8EC6-60A0186DF14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5A20-5CB3-49D1-B4DC-C8C0D6077489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,35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.0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.6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8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6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 이하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게 변화와 인상＋고비용 치료기기 도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2140920"/>
              <a:chOff x="285480" y="3486240"/>
              <a:chExt cx="8572680" cy="214092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0720"/>
                <a:ext cx="8572680" cy="166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하면 노인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16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원의 의료비 지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나 배우자 부담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가 주로 부담하는 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757840"/>
              <a:ext cx="7572240" cy="898560"/>
              <a:chOff x="0" y="5757840"/>
              <a:chExt cx="7572240" cy="89856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0" y="575784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857160" y="6084720"/>
                <a:ext cx="671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 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9.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7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 등의 순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6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7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6.7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 등의 순이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중에서는 폐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췌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해뢀 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8.7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4.6%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의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3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2680"/>
                <a:chOff x="357120" y="1500120"/>
                <a:chExt cx="8643960" cy="227268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(care)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60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장기요양보험에서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’으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의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3:26:07Z</dcterms:modified>
  <cp:revision>25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