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F7FA-B3A7-464A-898F-889AB7D4FC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6F39-6DD4-436C-8570-D808C7FDCF4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93B1-C6E2-4D72-937C-54C5EE8ADD6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4141-4A50-4A8E-BAA5-42B91004453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24CC-5534-4F87-8234-F00F7DADA48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F9F3-BCB1-4130-BD45-A74D33EF601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3E256-55DA-40C4-8FEB-EB68D5E6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D69DA-55DA-4CB5-ACF1-DF01C9B3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94549-5DB1-4B7B-ABCA-98E3A109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C27C6-3F64-4A60-8BB4-F00C9D18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AE9AF-77EF-459B-A329-F5A83BA6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EA4BC-E219-4085-A5C5-F80969EF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0923F-E047-4CEA-8742-89085EB0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34F45-4CD9-4893-974B-120F432E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157D9-3F11-437A-B1D2-85DFC114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EF196-DED9-4C56-BE23-6CD5BA9D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4A6B4-68D4-4082-829D-C0266F0C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68E45-EFBD-471B-AE92-309A1441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3C6FF5-34AC-4C25-95CE-20D91570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FCDE51-7F6A-45B4-8620-290FB12A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3D991B-3143-4EE6-8E67-5F3C753D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C6C84B-C775-4A22-BE0B-2E032D53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1C7D67-5E85-46BD-87F9-5E0ED72F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350419-C159-484E-ABC5-88D0B6AE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12AA7A-BEB1-451A-8724-0AB8C2F6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206B33-5CA9-4D4E-B22C-98F31879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142D53-36DF-4DA5-AFBC-84AA2764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E7A0BB-C0A1-4757-8D62-6652BB1E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424090-9C77-4336-AC3C-810D4FE8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333973-9FB6-47E2-99B6-D559CE89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F3E0-8C69-48B7-84B2-9D0E1C1CB4D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6AB0-07A9-4561-BC7A-C6F0A5AD89C8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B8E9-7A08-4974-A6FB-220A3CA45B1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6A36-9D0D-496F-ACEC-96447C8AE8D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1970-E8CB-42A8-B68D-7565C2FE548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5642-C2EB-4739-80A8-B7F0194FB1E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EE2A-407B-415C-9917-540D74E0FBEC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7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142720"/>
            <a:ext cx="8315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Y강B"/>
                <a:ea typeface="HY강B"/>
              </a:rPr>
              <a:t>3</a:t>
            </a:r>
            <a:r>
              <a:rPr b="1" lang="ko-KR" sz="44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경제생활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0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504" name="AutoShape 2"/>
            <p:cNvSpPr/>
            <p:nvPr/>
          </p:nvSpPr>
          <p:spPr>
            <a:xfrm>
              <a:off x="214200" y="128556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0"/>
            <p:cNvGrpSpPr/>
            <p:nvPr/>
          </p:nvGrpSpPr>
          <p:grpSpPr>
            <a:xfrm>
              <a:off x="142920" y="785520"/>
              <a:ext cx="8715600" cy="2512800"/>
              <a:chOff x="142920" y="785520"/>
              <a:chExt cx="8715600" cy="2512800"/>
            </a:xfrm>
          </p:grpSpPr>
          <p:sp>
            <p:nvSpPr>
              <p:cNvPr id="506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에 대한 편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Text Box 25"/>
              <p:cNvSpPr/>
              <p:nvPr/>
            </p:nvSpPr>
            <p:spPr>
              <a:xfrm>
                <a:off x="285480" y="1374480"/>
                <a:ext cx="857304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하고 싶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해나 사고를 일으키기 쉽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보다 개인적 일에 관심이 더 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성과 업무주도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등으로 결근이 잦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사의 지도감독에 비협조적이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지식과 기술습득에 시간과 비용이 많이 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비해 급여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료와의 업무보조가 맞지 않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직과 전직이 잦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8" name="그룹 10"/>
            <p:cNvGrpSpPr/>
            <p:nvPr/>
          </p:nvGrpSpPr>
          <p:grpSpPr>
            <a:xfrm>
              <a:off x="142920" y="3643200"/>
              <a:ext cx="8858160" cy="2495160"/>
              <a:chOff x="142920" y="3643200"/>
              <a:chExt cx="8858160" cy="2495160"/>
            </a:xfrm>
          </p:grpSpPr>
          <p:sp>
            <p:nvSpPr>
              <p:cNvPr id="509" name="AutoShape 29"/>
              <p:cNvSpPr/>
              <p:nvPr/>
            </p:nvSpPr>
            <p:spPr>
              <a:xfrm>
                <a:off x="142920" y="36432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의 강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Text Box 25"/>
              <p:cNvSpPr/>
              <p:nvPr/>
            </p:nvSpPr>
            <p:spPr>
              <a:xfrm>
                <a:off x="285480" y="4214520"/>
                <a:ext cx="871560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대한 자긍심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보상과 지위상승의 욕심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독자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시와 규칙에 순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자체에서 즐거움을 얻으려 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한 일에서는 젊은 노동자보다 생산성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근과 이직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나 재해 비율이 더 낮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궂은 일을 마다하지 않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실하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심적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1" name="AutoShape 7"/>
            <p:cNvSpPr/>
            <p:nvPr/>
          </p:nvSpPr>
          <p:spPr>
            <a:xfrm>
              <a:off x="214200" y="7128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고령 노동력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AutoShape 2"/>
            <p:cNvSpPr/>
            <p:nvPr/>
          </p:nvSpPr>
          <p:spPr>
            <a:xfrm>
              <a:off x="214200" y="414360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그룹 10"/>
          <p:cNvGrpSpPr/>
          <p:nvPr/>
        </p:nvGrpSpPr>
        <p:grpSpPr>
          <a:xfrm>
            <a:off x="142920" y="142920"/>
            <a:ext cx="9001080" cy="6057720"/>
            <a:chOff x="142920" y="142920"/>
            <a:chExt cx="9001080" cy="6057720"/>
          </a:xfrm>
        </p:grpSpPr>
        <p:sp>
          <p:nvSpPr>
            <p:cNvPr id="514" name="AutoShape 2"/>
            <p:cNvSpPr/>
            <p:nvPr/>
          </p:nvSpPr>
          <p:spPr>
            <a:xfrm>
              <a:off x="357120" y="3928680"/>
              <a:ext cx="878688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AutoShape 2"/>
            <p:cNvSpPr/>
            <p:nvPr/>
          </p:nvSpPr>
          <p:spPr>
            <a:xfrm>
              <a:off x="214200" y="1285560"/>
              <a:ext cx="8786880" cy="1785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그룹 10"/>
            <p:cNvGrpSpPr/>
            <p:nvPr/>
          </p:nvGrpSpPr>
          <p:grpSpPr>
            <a:xfrm>
              <a:off x="142920" y="785520"/>
              <a:ext cx="8715600" cy="2270520"/>
              <a:chOff x="142920" y="785520"/>
              <a:chExt cx="8715600" cy="2270520"/>
            </a:xfrm>
          </p:grpSpPr>
          <p:sp>
            <p:nvSpPr>
              <p:cNvPr id="517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중년기 이후의 직업적 변화에 대한 이론적 관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25"/>
              <p:cNvSpPr/>
              <p:nvPr/>
            </p:nvSpPr>
            <p:spPr>
              <a:xfrm>
                <a:off x="285480" y="1285560"/>
                <a:ext cx="85730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활동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경제활동 참여→ 삶의 만족도와 적응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분리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에서 은퇴하여 쉼 → 개인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모두에 이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속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 직업역할보다 해오던 역할 지속 → 삶의 만족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 사회에서는 노년기에 일을 하는 것이 바람직하다는 인식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10"/>
            <p:cNvGrpSpPr/>
            <p:nvPr/>
          </p:nvGrpSpPr>
          <p:grpSpPr>
            <a:xfrm>
              <a:off x="142920" y="3357360"/>
              <a:ext cx="8786880" cy="2843280"/>
              <a:chOff x="142920" y="3357360"/>
              <a:chExt cx="8786880" cy="2843280"/>
            </a:xfrm>
          </p:grpSpPr>
          <p:sp>
            <p:nvSpPr>
              <p:cNvPr id="520" name="AutoShape 29"/>
              <p:cNvSpPr/>
              <p:nvPr/>
            </p:nvSpPr>
            <p:spPr>
              <a:xfrm>
                <a:off x="142920" y="335736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25"/>
              <p:cNvSpPr/>
              <p:nvPr/>
            </p:nvSpPr>
            <p:spPr>
              <a:xfrm>
                <a:off x="285480" y="3972960"/>
                <a:ext cx="864432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) 30.9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8) 41.1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수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09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으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4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 증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낮은 노인의 경제활동 참여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고용율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9.9%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.5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.6%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%  point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2" name="AutoShape 7"/>
            <p:cNvSpPr/>
            <p:nvPr/>
          </p:nvSpPr>
          <p:spPr>
            <a:xfrm>
              <a:off x="214200" y="142920"/>
              <a:ext cx="50007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의 경제활동 참여실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6"/>
          <p:cNvGrpSpPr/>
          <p:nvPr/>
        </p:nvGrpSpPr>
        <p:grpSpPr>
          <a:xfrm>
            <a:off x="0" y="357120"/>
            <a:ext cx="9001080" cy="6357960"/>
            <a:chOff x="0" y="357120"/>
            <a:chExt cx="9001080" cy="6357960"/>
          </a:xfrm>
        </p:grpSpPr>
        <p:sp>
          <p:nvSpPr>
            <p:cNvPr id="524" name="AutoShape 2"/>
            <p:cNvSpPr/>
            <p:nvPr/>
          </p:nvSpPr>
          <p:spPr>
            <a:xfrm>
              <a:off x="214200" y="928440"/>
              <a:ext cx="8786880" cy="364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5" name="그룹 10"/>
            <p:cNvGrpSpPr/>
            <p:nvPr/>
          </p:nvGrpSpPr>
          <p:grpSpPr>
            <a:xfrm>
              <a:off x="142560" y="357120"/>
              <a:ext cx="8858520" cy="4046400"/>
              <a:chOff x="142560" y="357120"/>
              <a:chExt cx="8858520" cy="4046400"/>
            </a:xfrm>
          </p:grpSpPr>
          <p:sp>
            <p:nvSpPr>
              <p:cNvPr id="526" name="AutoShape 29"/>
              <p:cNvSpPr/>
              <p:nvPr/>
            </p:nvSpPr>
            <p:spPr>
              <a:xfrm>
                <a:off x="142560" y="357120"/>
                <a:ext cx="857304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7" name="Text Box 25"/>
              <p:cNvSpPr/>
              <p:nvPr/>
            </p:nvSpPr>
            <p:spPr>
              <a:xfrm>
                <a:off x="285120" y="1093680"/>
                <a:ext cx="8715960" cy="33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참여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급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분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 노인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0.1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단순노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2.9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농수산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외 기계조작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매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직 종사자의 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상 지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영업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8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임시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3.3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급가족종사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1.7%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 순의 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              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에는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cond career, bridge job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전직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수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자 평균급여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1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업종사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노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사자는 임금근로자 평균 급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80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정규직 임금차별 존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8" name="Picture 2" descr="C:\DOCUME~1\USER\LOCALS~1\Temp\UNI000009b01cd2.gif"/>
            <p:cNvPicPr/>
            <p:nvPr/>
          </p:nvPicPr>
          <p:blipFill>
            <a:blip r:embed="rId5"/>
            <a:stretch/>
          </p:blipFill>
          <p:spPr>
            <a:xfrm>
              <a:off x="0" y="4638600"/>
              <a:ext cx="4857840" cy="20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2"/>
          <p:cNvSpPr/>
          <p:nvPr/>
        </p:nvSpPr>
        <p:spPr>
          <a:xfrm>
            <a:off x="1571760" y="142920"/>
            <a:ext cx="7786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은퇴의 과정과 적응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1" name="그룹 11"/>
          <p:cNvGrpSpPr/>
          <p:nvPr/>
        </p:nvGrpSpPr>
        <p:grpSpPr>
          <a:xfrm>
            <a:off x="142920" y="1000080"/>
            <a:ext cx="8858160" cy="4786200"/>
            <a:chOff x="142920" y="1000080"/>
            <a:chExt cx="8858160" cy="4786200"/>
          </a:xfrm>
        </p:grpSpPr>
        <p:sp>
          <p:nvSpPr>
            <p:cNvPr id="532" name="AutoShape 2"/>
            <p:cNvSpPr/>
            <p:nvPr/>
          </p:nvSpPr>
          <p:spPr>
            <a:xfrm>
              <a:off x="142920" y="1715040"/>
              <a:ext cx="8858160" cy="4071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AutoShape 4"/>
            <p:cNvSpPr/>
            <p:nvPr/>
          </p:nvSpPr>
          <p:spPr>
            <a:xfrm>
              <a:off x="357120" y="1000080"/>
              <a:ext cx="4714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은퇴의 제도화 배경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Text Box 6"/>
            <p:cNvSpPr/>
            <p:nvPr/>
          </p:nvSpPr>
          <p:spPr>
            <a:xfrm>
              <a:off x="285480" y="2001600"/>
              <a:ext cx="8643960" cy="36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통사회에서는 퇴직이 무의미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퇴직제도는 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기 산업화 이후 도입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경요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동력 수요의 감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기술과 지식의 급속한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조직의 관료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후 소득보장제도의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 수급자 및 보장수준의 미흡으로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리사회에서는 아직  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후소득보장제도의 발전이 퇴직의 제도화 배경요인이 되지 못함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285840" y="71280"/>
            <a:ext cx="4357440" cy="42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2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은퇴와 퇴직의 개념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6" name="그룹 22"/>
          <p:cNvGrpSpPr/>
          <p:nvPr/>
        </p:nvGrpSpPr>
        <p:grpSpPr>
          <a:xfrm>
            <a:off x="285840" y="603360"/>
            <a:ext cx="8643960" cy="4182840"/>
            <a:chOff x="285840" y="603360"/>
            <a:chExt cx="8643960" cy="4182840"/>
          </a:xfrm>
        </p:grpSpPr>
        <p:sp>
          <p:nvSpPr>
            <p:cNvPr id="537" name="AutoShape 2"/>
            <p:cNvSpPr/>
            <p:nvPr/>
          </p:nvSpPr>
          <p:spPr>
            <a:xfrm>
              <a:off x="357120" y="2357640"/>
              <a:ext cx="8572680" cy="2428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8" name="그룹 7"/>
            <p:cNvGrpSpPr/>
            <p:nvPr/>
          </p:nvGrpSpPr>
          <p:grpSpPr>
            <a:xfrm>
              <a:off x="285840" y="603360"/>
              <a:ext cx="8643960" cy="4127760"/>
              <a:chOff x="285840" y="603360"/>
              <a:chExt cx="8643960" cy="412776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357120" y="1071720"/>
                <a:ext cx="8572680" cy="785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357120" y="1073160"/>
                <a:ext cx="84297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는 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것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은 사망까지 중단되지 않으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job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나 노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퇴직의 개념으로 한정해 논의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10"/>
              <p:cNvSpPr/>
              <p:nvPr/>
            </p:nvSpPr>
            <p:spPr>
              <a:xfrm>
                <a:off x="285840" y="6033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은퇴와 퇴직 개념의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1"/>
              <p:cNvSpPr/>
              <p:nvPr/>
            </p:nvSpPr>
            <p:spPr>
              <a:xfrm>
                <a:off x="285840" y="19605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의 개념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Text Box 6"/>
              <p:cNvSpPr/>
              <p:nvPr/>
            </p:nvSpPr>
            <p:spPr>
              <a:xfrm>
                <a:off x="357120" y="2354400"/>
                <a:ext cx="8501400" cy="23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상태의 직위에서 물러나 그 직위에 관련된 역할수행을 중단하게 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하위영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event, process, role, phase of life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임식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회보장급여 서류제출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업무인수인계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과정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 전 단계→ 종결단계에 이르는 일련의 단계적 절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퇴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참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Kimmel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의 퇴직자 권리와 의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생활단계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약 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15-30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년 정도의 생활주기상의 마지막 단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그룹 16"/>
          <p:cNvGrpSpPr/>
          <p:nvPr/>
        </p:nvGrpSpPr>
        <p:grpSpPr>
          <a:xfrm>
            <a:off x="285840" y="4889520"/>
            <a:ext cx="8715240" cy="1409040"/>
            <a:chOff x="285840" y="4889520"/>
            <a:chExt cx="8715240" cy="1409040"/>
          </a:xfrm>
        </p:grpSpPr>
        <p:sp>
          <p:nvSpPr>
            <p:cNvPr id="545" name="AutoShape 2"/>
            <p:cNvSpPr/>
            <p:nvPr/>
          </p:nvSpPr>
          <p:spPr>
            <a:xfrm>
              <a:off x="357120" y="5286600"/>
              <a:ext cx="8572680" cy="10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Text Box 6"/>
            <p:cNvSpPr/>
            <p:nvPr/>
          </p:nvSpPr>
          <p:spPr>
            <a:xfrm>
              <a:off x="357120" y="5229000"/>
              <a:ext cx="8643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간 보수를 받는 고용상태에 있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퇴직연금을 수급하고 있는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간 주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5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간 이상 상근으로 고용되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직사각형 19"/>
            <p:cNvSpPr/>
            <p:nvPr/>
          </p:nvSpPr>
          <p:spPr>
            <a:xfrm>
              <a:off x="285840" y="488952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퇴직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(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)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의 조작적 정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12"/>
          <p:cNvGrpSpPr/>
          <p:nvPr/>
        </p:nvGrpSpPr>
        <p:grpSpPr>
          <a:xfrm>
            <a:off x="285840" y="142920"/>
            <a:ext cx="8572320" cy="5857920"/>
            <a:chOff x="285840" y="142920"/>
            <a:chExt cx="8572320" cy="5857920"/>
          </a:xfrm>
        </p:grpSpPr>
        <p:sp>
          <p:nvSpPr>
            <p:cNvPr id="549" name="AutoShape 4"/>
            <p:cNvSpPr/>
            <p:nvPr/>
          </p:nvSpPr>
          <p:spPr>
            <a:xfrm>
              <a:off x="285840" y="14292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퇴직의 과정과 영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0" name="그룹 7"/>
            <p:cNvGrpSpPr/>
            <p:nvPr/>
          </p:nvGrpSpPr>
          <p:grpSpPr>
            <a:xfrm>
              <a:off x="285840" y="928440"/>
              <a:ext cx="8572320" cy="5072400"/>
              <a:chOff x="285840" y="928440"/>
              <a:chExt cx="8572320" cy="5072400"/>
            </a:xfrm>
          </p:grpSpPr>
          <p:sp>
            <p:nvSpPr>
              <p:cNvPr id="551" name="AutoShape 2"/>
              <p:cNvSpPr/>
              <p:nvPr/>
            </p:nvSpPr>
            <p:spPr>
              <a:xfrm>
                <a:off x="285840" y="1356840"/>
                <a:ext cx="8572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2" name="Text Box 6"/>
              <p:cNvSpPr/>
              <p:nvPr/>
            </p:nvSpPr>
            <p:spPr>
              <a:xfrm>
                <a:off x="357120" y="1410840"/>
                <a:ext cx="850104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예상되는 경제사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에 대한 가치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헌신 사명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생활목표의 확실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의 소득보장 정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직사각형 10"/>
              <p:cNvSpPr/>
              <p:nvPr/>
            </p:nvSpPr>
            <p:spPr>
              <a:xfrm>
                <a:off x="285840" y="92844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태도에 영향을 미치는 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4" name="직사각형 11"/>
              <p:cNvSpPr/>
              <p:nvPr/>
            </p:nvSpPr>
            <p:spPr>
              <a:xfrm>
                <a:off x="285840" y="2889000"/>
                <a:ext cx="407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결정의 영향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AutoShape 2"/>
              <p:cNvSpPr/>
              <p:nvPr/>
            </p:nvSpPr>
            <p:spPr>
              <a:xfrm>
                <a:off x="285840" y="3325680"/>
                <a:ext cx="8572320" cy="2675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6" name="Text Box 6"/>
              <p:cNvSpPr/>
              <p:nvPr/>
            </p:nvSpPr>
            <p:spPr>
              <a:xfrm>
                <a:off x="357120" y="3435120"/>
                <a:ext cx="8501040" cy="24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공식구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퇴직에 대한 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경제상태 및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상 수입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의 건강상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 및 교육수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우자 유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책임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만족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태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결정과정의 흐름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단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밀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지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종결단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그룹 8"/>
          <p:cNvGrpSpPr/>
          <p:nvPr/>
        </p:nvGrpSpPr>
        <p:grpSpPr>
          <a:xfrm>
            <a:off x="285840" y="71280"/>
            <a:ext cx="8572320" cy="6429600"/>
            <a:chOff x="285840" y="71280"/>
            <a:chExt cx="8572320" cy="6429600"/>
          </a:xfrm>
        </p:grpSpPr>
        <p:grpSp>
          <p:nvGrpSpPr>
            <p:cNvPr id="558" name="그룹 7"/>
            <p:cNvGrpSpPr/>
            <p:nvPr/>
          </p:nvGrpSpPr>
          <p:grpSpPr>
            <a:xfrm>
              <a:off x="285840" y="71280"/>
              <a:ext cx="8572320" cy="6429600"/>
              <a:chOff x="285840" y="71280"/>
              <a:chExt cx="8572320" cy="642960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840" y="499680"/>
                <a:ext cx="857232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Text Box 6"/>
              <p:cNvSpPr/>
              <p:nvPr/>
            </p:nvSpPr>
            <p:spPr>
              <a:xfrm>
                <a:off x="357120" y="553680"/>
                <a:ext cx="8358120" cy="19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입은 급감하나 지출은 일정 수준 유지 → 경제적 애로 유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은 약화 또는 퇴직전과 유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관리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참여도가 낮아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소외와 고독의 가능성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적 자아개념과 자기가치 평가절하 가능성이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참여율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과 건강상태 따라 참여도 상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성적 역할의 수행도가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직사각형 10"/>
              <p:cNvSpPr/>
              <p:nvPr/>
            </p:nvSpPr>
            <p:spPr>
              <a:xfrm>
                <a:off x="285840" y="7128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후 생활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AutoShape 2"/>
              <p:cNvSpPr/>
              <p:nvPr/>
            </p:nvSpPr>
            <p:spPr>
              <a:xfrm>
                <a:off x="285840" y="3286080"/>
                <a:ext cx="8572320" cy="321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Text Box 6"/>
              <p:cNvSpPr/>
              <p:nvPr/>
            </p:nvSpPr>
            <p:spPr>
              <a:xfrm>
                <a:off x="357120" y="3286080"/>
                <a:ext cx="8501040" cy="32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생활변화에 대한 인식이 부족할수록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제 퇴직일수록 상실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곤란이 크므로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 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무관리직 종사자 적응도 양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가 자원 여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기회 많아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할수록 적응 유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층 비자발적 경제활동참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양호할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예비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비사회화 수준 높을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퇴직전 건강유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적 소득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와 사회활동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에 대한 인식전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econd life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4" name="AutoShape 4"/>
            <p:cNvSpPr/>
            <p:nvPr/>
          </p:nvSpPr>
          <p:spPr>
            <a:xfrm>
              <a:off x="285840" y="2714400"/>
              <a:ext cx="4071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에 대한 적응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그룹 8"/>
          <p:cNvGrpSpPr/>
          <p:nvPr/>
        </p:nvGrpSpPr>
        <p:grpSpPr>
          <a:xfrm>
            <a:off x="285840" y="71280"/>
            <a:ext cx="9072360" cy="6286680"/>
            <a:chOff x="285840" y="71280"/>
            <a:chExt cx="9072360" cy="6286680"/>
          </a:xfrm>
        </p:grpSpPr>
        <p:sp>
          <p:nvSpPr>
            <p:cNvPr id="566" name="Rectangle 2"/>
            <p:cNvSpPr/>
            <p:nvPr/>
          </p:nvSpPr>
          <p:spPr>
            <a:xfrm>
              <a:off x="1571400" y="71280"/>
              <a:ext cx="7786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현행 퇴직제도의 현황과 문제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7" name="그룹 1"/>
            <p:cNvGrpSpPr/>
            <p:nvPr/>
          </p:nvGrpSpPr>
          <p:grpSpPr>
            <a:xfrm>
              <a:off x="285840" y="874440"/>
              <a:ext cx="8643960" cy="5483520"/>
              <a:chOff x="285840" y="874440"/>
              <a:chExt cx="8643960" cy="5483520"/>
            </a:xfrm>
          </p:grpSpPr>
          <p:sp>
            <p:nvSpPr>
              <p:cNvPr id="568" name="AutoShape 2"/>
              <p:cNvSpPr/>
              <p:nvPr/>
            </p:nvSpPr>
            <p:spPr>
              <a:xfrm>
                <a:off x="285840" y="1356840"/>
                <a:ext cx="8643960" cy="5001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9" name="AutoShape 4"/>
              <p:cNvSpPr/>
              <p:nvPr/>
            </p:nvSpPr>
            <p:spPr>
              <a:xfrm>
                <a:off x="285840" y="874440"/>
                <a:ext cx="3500280" cy="48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퇴직의 유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6"/>
              <p:cNvSpPr/>
              <p:nvPr/>
            </p:nvSpPr>
            <p:spPr>
              <a:xfrm>
                <a:off x="500040" y="1544400"/>
                <a:ext cx="8212320" cy="46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의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본인 의사에 의한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연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수급연한이 되어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과 관계없이 정년연령에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제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＋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등정년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단일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에 관계없이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계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 상한연령에 도달하면 퇴직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별로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별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남녀에 따라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급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군대에서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별 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녀고용평등법에도  불구하고 음성적 차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체에서 대부분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그룹 15"/>
          <p:cNvGrpSpPr/>
          <p:nvPr/>
        </p:nvGrpSpPr>
        <p:grpSpPr>
          <a:xfrm>
            <a:off x="142920" y="0"/>
            <a:ext cx="8929800" cy="6286680"/>
            <a:chOff x="142920" y="0"/>
            <a:chExt cx="8929800" cy="6286680"/>
          </a:xfrm>
        </p:grpSpPr>
        <p:sp>
          <p:nvSpPr>
            <p:cNvPr id="572" name="AutoShape 2"/>
            <p:cNvSpPr/>
            <p:nvPr/>
          </p:nvSpPr>
          <p:spPr>
            <a:xfrm>
              <a:off x="180720" y="4357800"/>
              <a:ext cx="874908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AutoShape 2"/>
            <p:cNvSpPr/>
            <p:nvPr/>
          </p:nvSpPr>
          <p:spPr>
            <a:xfrm>
              <a:off x="180720" y="5572440"/>
              <a:ext cx="8749080" cy="714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185724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5" name="그룹 1"/>
            <p:cNvGrpSpPr/>
            <p:nvPr/>
          </p:nvGrpSpPr>
          <p:grpSpPr>
            <a:xfrm>
              <a:off x="142920" y="0"/>
              <a:ext cx="8929800" cy="3624120"/>
              <a:chOff x="142920" y="0"/>
              <a:chExt cx="8929800" cy="3624120"/>
            </a:xfrm>
          </p:grpSpPr>
          <p:sp>
            <p:nvSpPr>
              <p:cNvPr id="576" name="Text Box 25"/>
              <p:cNvSpPr/>
              <p:nvPr/>
            </p:nvSpPr>
            <p:spPr>
              <a:xfrm>
                <a:off x="357120" y="1928880"/>
                <a:ext cx="864432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의 단일정년제 채택 기업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%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기업 평균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.2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로 지속적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고용촉진법에서 근로자 정년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으로 정하도록 의무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부터 단계적 시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이상 사업장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미만 사업장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 적용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정리해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권고사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예퇴직 등의 조기퇴직이 지속적으로 확산되고 있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7" name="그룹 30"/>
              <p:cNvGrpSpPr/>
              <p:nvPr/>
            </p:nvGrpSpPr>
            <p:grpSpPr>
              <a:xfrm>
                <a:off x="142920" y="0"/>
                <a:ext cx="8929800" cy="1286280"/>
                <a:chOff x="142920" y="0"/>
                <a:chExt cx="8929800" cy="1286280"/>
              </a:xfrm>
            </p:grpSpPr>
            <p:sp>
              <p:nvSpPr>
                <p:cNvPr id="578" name="AutoShape 2"/>
                <p:cNvSpPr/>
                <p:nvPr/>
              </p:nvSpPr>
              <p:spPr>
                <a:xfrm>
                  <a:off x="142920" y="786240"/>
                  <a:ext cx="871560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7"/>
                <p:cNvSpPr/>
                <p:nvPr/>
              </p:nvSpPr>
              <p:spPr>
                <a:xfrm>
                  <a:off x="285480" y="0"/>
                  <a:ext cx="471492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0" lang="ko-KR" sz="2600" spc="-1" strike="noStrike">
                      <a:solidFill>
                        <a:srgbClr val="ffffff"/>
                      </a:solidFill>
                      <a:latin typeface="HY강B"/>
                    </a:rPr>
                    <a:t>정년퇴직제도의 현상</a:t>
                  </a:r>
                  <a:endParaRPr b="0" lang="en-US" sz="2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5"/>
                <p:cNvSpPr/>
                <p:nvPr/>
              </p:nvSpPr>
              <p:spPr>
                <a:xfrm>
                  <a:off x="509400" y="901800"/>
                  <a:ext cx="85633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buSzPct val="102985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대 산업화 이후 정년퇴직제도 정착</a:t>
                  </a:r>
                  <a:endParaRPr b="0" lang="en-US" sz="19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AutoShape 29"/>
              <p:cNvSpPr/>
              <p:nvPr/>
            </p:nvSpPr>
            <p:spPr>
              <a:xfrm>
                <a:off x="285480" y="13572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민간기업의 정년퇴직제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2" name="AutoShape 29"/>
            <p:cNvSpPr/>
            <p:nvPr/>
          </p:nvSpPr>
          <p:spPr>
            <a:xfrm>
              <a:off x="142920" y="378648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공공부문 정년퇴직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29"/>
            <p:cNvSpPr/>
            <p:nvPr/>
          </p:nvSpPr>
          <p:spPr>
            <a:xfrm>
              <a:off x="142920" y="5072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정년연장에 대한 노사정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25"/>
            <p:cNvSpPr/>
            <p:nvPr/>
          </p:nvSpPr>
          <p:spPr>
            <a:xfrm>
              <a:off x="357120" y="4429440"/>
              <a:ext cx="864432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 정년연령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60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로 통일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찰 및 소방공무원은 계급정년제 보완적 시행하며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공무원은 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2-65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5594760"/>
              <a:ext cx="842976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자는 정년 연장 찬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체는 반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부는 표면적으로 찬성하지만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청년실업 등의 사회분위기와 기업의 반대요구에 적극적 정년연장 요구 못하고 있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그룹 18"/>
          <p:cNvGrpSpPr/>
          <p:nvPr/>
        </p:nvGrpSpPr>
        <p:grpSpPr>
          <a:xfrm>
            <a:off x="214200" y="142920"/>
            <a:ext cx="8858520" cy="6286320"/>
            <a:chOff x="214200" y="142920"/>
            <a:chExt cx="8858520" cy="6286320"/>
          </a:xfrm>
        </p:grpSpPr>
        <p:sp>
          <p:nvSpPr>
            <p:cNvPr id="587" name="AutoShape 2"/>
            <p:cNvSpPr/>
            <p:nvPr/>
          </p:nvSpPr>
          <p:spPr>
            <a:xfrm>
              <a:off x="252360" y="1214280"/>
              <a:ext cx="874872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"/>
            <p:cNvGrpSpPr/>
            <p:nvPr/>
          </p:nvGrpSpPr>
          <p:grpSpPr>
            <a:xfrm>
              <a:off x="214200" y="142920"/>
              <a:ext cx="8787240" cy="2493000"/>
              <a:chOff x="214200" y="142920"/>
              <a:chExt cx="8787240" cy="2493000"/>
            </a:xfrm>
          </p:grpSpPr>
          <p:sp>
            <p:nvSpPr>
              <p:cNvPr id="589" name="Text Box 25"/>
              <p:cNvSpPr/>
              <p:nvPr/>
            </p:nvSpPr>
            <p:spPr>
              <a:xfrm>
                <a:off x="356760" y="1276200"/>
                <a:ext cx="864468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은 길어지는 반면 체감하는 은퇴연령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50.9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 정년연령보다 낮은 기현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삼팔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오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륙도 등의 社會的 早老현상 비유 은어 등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 확산의 계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기불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IMF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리체제 이후 기업체의 구조조정 확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이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얻는 조기퇴직의 이점 많음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14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AutoShape 7"/>
              <p:cNvSpPr/>
              <p:nvPr/>
            </p:nvSpPr>
            <p:spPr>
              <a:xfrm>
                <a:off x="214200" y="14292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조기퇴직의 문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1" name="AutoShape 29"/>
              <p:cNvSpPr/>
              <p:nvPr/>
            </p:nvSpPr>
            <p:spPr>
              <a:xfrm>
                <a:off x="214200" y="7142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의 현실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2" name="그룹 17"/>
            <p:cNvGrpSpPr/>
            <p:nvPr/>
          </p:nvGrpSpPr>
          <p:grpSpPr>
            <a:xfrm>
              <a:off x="214200" y="2714400"/>
              <a:ext cx="8858520" cy="3714840"/>
              <a:chOff x="214200" y="2714400"/>
              <a:chExt cx="8858520" cy="37148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252360" y="3214440"/>
                <a:ext cx="87487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AutoShape 2"/>
              <p:cNvSpPr/>
              <p:nvPr/>
            </p:nvSpPr>
            <p:spPr>
              <a:xfrm>
                <a:off x="252360" y="5286240"/>
                <a:ext cx="874872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AutoShape 29"/>
              <p:cNvSpPr/>
              <p:nvPr/>
            </p:nvSpPr>
            <p:spPr>
              <a:xfrm>
                <a:off x="214200" y="27144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으로 인한 문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AutoShape 29"/>
              <p:cNvSpPr/>
              <p:nvPr/>
            </p:nvSpPr>
            <p:spPr>
              <a:xfrm>
                <a:off x="214200" y="4786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자의 적응 지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6760" y="3273120"/>
                <a:ext cx="87159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와 중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까지의 긴 시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재취업이 필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이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 노력만으로는 재취업이 어려워 취업 포기자 또는 빈곤층으로 전락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또는 해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 차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적자원 낭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비용 증가를 초래하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국 기업 경쟁력을 약화시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25"/>
              <p:cNvSpPr/>
              <p:nvPr/>
            </p:nvSpPr>
            <p:spPr>
              <a:xfrm>
                <a:off x="356760" y="5327640"/>
                <a:ext cx="8430120" cy="10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을 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 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직업전환기로 수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취업 노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지지와 결속증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간의 양성적 역할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고령화 시스템 구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연장정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일자리 창출사업 추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40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소득 및 경제생활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41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Text Box 18"/>
              <p:cNvSpPr/>
              <p:nvPr/>
            </p:nvSpPr>
            <p:spPr>
              <a:xfrm>
                <a:off x="642960" y="212256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41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Text Box 18"/>
              <p:cNvSpPr/>
              <p:nvPr/>
            </p:nvSpPr>
            <p:spPr>
              <a:xfrm>
                <a:off x="642960" y="3057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42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Text Box 18"/>
              <p:cNvSpPr/>
              <p:nvPr/>
            </p:nvSpPr>
            <p:spPr>
              <a:xfrm>
                <a:off x="642960" y="399528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42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8"/>
              <p:cNvSpPr/>
              <p:nvPr/>
            </p:nvSpPr>
            <p:spPr>
              <a:xfrm>
                <a:off x="642960" y="49309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은퇴의 과정과 적응에 대한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제도의 현상과 문제점 이해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경제생활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그룹 15"/>
          <p:cNvGrpSpPr/>
          <p:nvPr/>
        </p:nvGrpSpPr>
        <p:grpSpPr>
          <a:xfrm>
            <a:off x="0" y="5757840"/>
            <a:ext cx="7572240" cy="898560"/>
            <a:chOff x="0" y="5757840"/>
            <a:chExt cx="7572240" cy="898560"/>
          </a:xfrm>
        </p:grpSpPr>
        <p:pic>
          <p:nvPicPr>
            <p:cNvPr id="600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0" y="5757840"/>
              <a:ext cx="100008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4"/>
            <p:cNvSpPr/>
            <p:nvPr/>
          </p:nvSpPr>
          <p:spPr>
            <a:xfrm>
              <a:off x="857160" y="6084720"/>
              <a:ext cx="6715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건강과 케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2" name="그룹 13"/>
          <p:cNvGrpSpPr/>
          <p:nvPr/>
        </p:nvGrpSpPr>
        <p:grpSpPr>
          <a:xfrm>
            <a:off x="285840" y="63360"/>
            <a:ext cx="8715240" cy="5722920"/>
            <a:chOff x="285840" y="63360"/>
            <a:chExt cx="8715240" cy="5722920"/>
          </a:xfrm>
        </p:grpSpPr>
        <p:sp>
          <p:nvSpPr>
            <p:cNvPr id="603" name="AutoShape 2"/>
            <p:cNvSpPr/>
            <p:nvPr/>
          </p:nvSpPr>
          <p:spPr>
            <a:xfrm>
              <a:off x="285840" y="2500200"/>
              <a:ext cx="871524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AutoShape 2"/>
            <p:cNvSpPr/>
            <p:nvPr/>
          </p:nvSpPr>
          <p:spPr>
            <a:xfrm>
              <a:off x="285840" y="348840"/>
              <a:ext cx="8715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5" name="그룹 10"/>
            <p:cNvGrpSpPr/>
            <p:nvPr/>
          </p:nvGrpSpPr>
          <p:grpSpPr>
            <a:xfrm>
              <a:off x="357120" y="63360"/>
              <a:ext cx="8643960" cy="1995840"/>
              <a:chOff x="357120" y="63360"/>
              <a:chExt cx="8643960" cy="1995840"/>
            </a:xfrm>
          </p:grpSpPr>
          <p:sp>
            <p:nvSpPr>
              <p:cNvPr id="606" name="AutoShape 4"/>
              <p:cNvSpPr/>
              <p:nvPr/>
            </p:nvSpPr>
            <p:spPr>
              <a:xfrm>
                <a:off x="357120" y="63360"/>
                <a:ext cx="395928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문제점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7" name="Text Box 6"/>
              <p:cNvSpPr/>
              <p:nvPr/>
            </p:nvSpPr>
            <p:spPr>
              <a:xfrm>
                <a:off x="357120" y="563400"/>
                <a:ext cx="8643960" cy="149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초반 사회적 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비용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소득보장에 대한 고려 없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생활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금재정 부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적 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 노동권과 생존권 위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등정년 기준 모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후 재고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 장치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08" name="그룹 10"/>
            <p:cNvGrpSpPr/>
            <p:nvPr/>
          </p:nvGrpSpPr>
          <p:grpSpPr>
            <a:xfrm>
              <a:off x="357120" y="2143080"/>
              <a:ext cx="8643960" cy="3570480"/>
              <a:chOff x="357120" y="2143080"/>
              <a:chExt cx="8643960" cy="3570480"/>
            </a:xfrm>
          </p:grpSpPr>
          <p:sp>
            <p:nvSpPr>
              <p:cNvPr id="609" name="Text Box 6"/>
              <p:cNvSpPr/>
              <p:nvPr/>
            </p:nvSpPr>
            <p:spPr>
              <a:xfrm>
                <a:off x="357120" y="2714400"/>
                <a:ext cx="8643960" cy="29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령 연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고용촉진법에 의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으로 상향 조정되었으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적으로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로 상향 또는 정년제 폐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급 및 성별 차등제도 개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당한 기준 마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구조 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부분 정년제 도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피크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장형 임금피크제 지원금제도 강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후 재고용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반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격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-3 &amp;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고용지원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 평생직업능력 개발 촉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준비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한국전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중앙공무원교육원 등에서 퇴직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년 장단기교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자 가족공동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가족생활 적응지원 프로그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4"/>
              <p:cNvSpPr/>
              <p:nvPr/>
            </p:nvSpPr>
            <p:spPr>
              <a:xfrm>
                <a:off x="357120" y="2143080"/>
                <a:ext cx="395928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개선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그룹 10"/>
          <p:cNvGrpSpPr/>
          <p:nvPr/>
        </p:nvGrpSpPr>
        <p:grpSpPr>
          <a:xfrm>
            <a:off x="0" y="0"/>
            <a:ext cx="9144000" cy="6428160"/>
            <a:chOff x="0" y="0"/>
            <a:chExt cx="9144000" cy="6428160"/>
          </a:xfrm>
        </p:grpSpPr>
        <p:sp>
          <p:nvSpPr>
            <p:cNvPr id="435" name="AutoShape 2"/>
            <p:cNvSpPr/>
            <p:nvPr/>
          </p:nvSpPr>
          <p:spPr>
            <a:xfrm>
              <a:off x="180720" y="1285560"/>
              <a:ext cx="882036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2"/>
            <p:cNvSpPr/>
            <p:nvPr/>
          </p:nvSpPr>
          <p:spPr>
            <a:xfrm>
              <a:off x="180720" y="2999880"/>
              <a:ext cx="8820360" cy="3428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노년기의 소득과 지출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9" name="그룹 10"/>
            <p:cNvGrpSpPr/>
            <p:nvPr/>
          </p:nvGrpSpPr>
          <p:grpSpPr>
            <a:xfrm>
              <a:off x="142560" y="857160"/>
              <a:ext cx="8715600" cy="1269720"/>
              <a:chOff x="142560" y="857160"/>
              <a:chExt cx="8715600" cy="1269720"/>
            </a:xfrm>
          </p:grpSpPr>
          <p:sp>
            <p:nvSpPr>
              <p:cNvPr id="440" name="AutoShape 29"/>
              <p:cNvSpPr/>
              <p:nvPr/>
            </p:nvSpPr>
            <p:spPr>
              <a:xfrm>
                <a:off x="142560" y="8571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년기 안정적 소득 확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1" name="Text Box 25"/>
              <p:cNvSpPr/>
              <p:nvPr/>
            </p:nvSpPr>
            <p:spPr>
              <a:xfrm>
                <a:off x="213840" y="1357200"/>
                <a:ext cx="864432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으로 인한 근로소득의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의 노후소득 준비 미흡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득보장제도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성숙으로 경제적 어려움 증가→ 생계와 노후생활 적응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2" name="Text Box 25"/>
            <p:cNvSpPr/>
            <p:nvPr/>
          </p:nvSpPr>
          <p:spPr>
            <a:xfrm>
              <a:off x="285480" y="3028680"/>
              <a:ext cx="8643960" cy="33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동능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비와 저축패턴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특성에 따라 경제사정 다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주기에 따른 소득과 지출 변화 추이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소득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-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에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경 감소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재취업 기회 제한으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가족이나 사회에 대한 경제적의존성이 높아지는 경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지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도 자녀결혼과 교육비 지출은 이전과 유사하거나 오히려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하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의료비 부담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고용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노동부 조사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 임금소득 최고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이후 감소하여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6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까지는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2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후반의 임금수준 유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그보다 낮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소득격감하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본생계비 지출 유지 및 의료비 증가로 인해 적자 가계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이나 사회에 대한 경제적 의존 가능성 높아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1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AutoShape 7"/>
            <p:cNvSpPr/>
            <p:nvPr/>
          </p:nvSpPr>
          <p:spPr>
            <a:xfrm>
              <a:off x="214200" y="2428560"/>
              <a:ext cx="400032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년기 경제생활 변화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3"/>
          <p:cNvGrpSpPr/>
          <p:nvPr/>
        </p:nvGrpSpPr>
        <p:grpSpPr>
          <a:xfrm>
            <a:off x="142920" y="71280"/>
            <a:ext cx="8858160" cy="6429600"/>
            <a:chOff x="142920" y="71280"/>
            <a:chExt cx="8858160" cy="6429600"/>
          </a:xfrm>
        </p:grpSpPr>
        <p:sp>
          <p:nvSpPr>
            <p:cNvPr id="445" name="AutoShape 2"/>
            <p:cNvSpPr/>
            <p:nvPr/>
          </p:nvSpPr>
          <p:spPr>
            <a:xfrm>
              <a:off x="181080" y="3643200"/>
              <a:ext cx="882000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2"/>
            <p:cNvSpPr/>
            <p:nvPr/>
          </p:nvSpPr>
          <p:spPr>
            <a:xfrm>
              <a:off x="181080" y="1071720"/>
              <a:ext cx="882000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7" name="그룹 10"/>
            <p:cNvGrpSpPr/>
            <p:nvPr/>
          </p:nvGrpSpPr>
          <p:grpSpPr>
            <a:xfrm>
              <a:off x="142920" y="642960"/>
              <a:ext cx="8786880" cy="2549520"/>
              <a:chOff x="142920" y="642960"/>
              <a:chExt cx="8786880" cy="2549520"/>
            </a:xfrm>
          </p:grpSpPr>
          <p:sp>
            <p:nvSpPr>
              <p:cNvPr id="448" name="AutoShape 29"/>
              <p:cNvSpPr/>
              <p:nvPr/>
            </p:nvSpPr>
            <p:spPr>
              <a:xfrm>
                <a:off x="142920" y="642960"/>
                <a:ext cx="8572680" cy="428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에 대한 태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Text Box 25"/>
              <p:cNvSpPr/>
              <p:nvPr/>
            </p:nvSpPr>
            <p:spPr>
              <a:xfrm>
                <a:off x="285480" y="107100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가 노부모 부양 책임을 지는 전통적 의식이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부양책임 의식은 낮아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스스로 노후소득보장을 준비해야 한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과 가족과 사회가 공동으로 책임져야 한다는 의식이 높아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 급여의 본격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경제활동 참여 의식이 강화됨에 따라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가 노후소득보장의 책임을 져야 한다는 의식은 지속적으로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할 것으로 예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0" name="그룹 10"/>
            <p:cNvGrpSpPr/>
            <p:nvPr/>
          </p:nvGrpSpPr>
          <p:grpSpPr>
            <a:xfrm>
              <a:off x="142920" y="3214800"/>
              <a:ext cx="8786880" cy="3262320"/>
              <a:chOff x="142920" y="3214800"/>
              <a:chExt cx="8786880" cy="3262320"/>
            </a:xfrm>
          </p:grpSpPr>
          <p:sp>
            <p:nvSpPr>
              <p:cNvPr id="451" name="AutoShape 29"/>
              <p:cNvSpPr/>
              <p:nvPr/>
            </p:nvSpPr>
            <p:spPr>
              <a:xfrm>
                <a:off x="142920" y="3214800"/>
                <a:ext cx="8572680" cy="4996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 준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2" name="Text Box 25"/>
              <p:cNvSpPr/>
              <p:nvPr/>
            </p:nvSpPr>
            <p:spPr>
              <a:xfrm>
                <a:off x="285480" y="3654360"/>
                <a:ext cx="864432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민간금융기관은 노후생활자금을 과다 추정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연구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노부부의 최소생활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10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정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자금 준비를 못하고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7%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특히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판매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무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소득층의 노후준비 정도가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부족의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년기의 사회진출 시기 지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과 주택마련 비용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교육비 및 조세 부담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인식은 증가하나 실제 준비는 부족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의 부담 가중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것으로 예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3" name="AutoShape 7"/>
            <p:cNvSpPr/>
            <p:nvPr/>
          </p:nvSpPr>
          <p:spPr>
            <a:xfrm>
              <a:off x="214200" y="71280"/>
              <a:ext cx="6286680" cy="500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후 경제생활 보장에 대한 태도와 준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그룹 10"/>
          <p:cNvGrpSpPr/>
          <p:nvPr/>
        </p:nvGrpSpPr>
        <p:grpSpPr>
          <a:xfrm>
            <a:off x="0" y="71280"/>
            <a:ext cx="9144000" cy="6000840"/>
            <a:chOff x="0" y="71280"/>
            <a:chExt cx="9144000" cy="6000840"/>
          </a:xfrm>
        </p:grpSpPr>
        <p:sp>
          <p:nvSpPr>
            <p:cNvPr id="455" name="AutoShape 2"/>
            <p:cNvSpPr/>
            <p:nvPr/>
          </p:nvSpPr>
          <p:spPr>
            <a:xfrm>
              <a:off x="142560" y="4500720"/>
              <a:ext cx="8858520" cy="1571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AutoShape 2"/>
            <p:cNvSpPr/>
            <p:nvPr/>
          </p:nvSpPr>
          <p:spPr>
            <a:xfrm>
              <a:off x="142560" y="1214280"/>
              <a:ext cx="88585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9"/>
            <p:cNvSpPr/>
            <p:nvPr/>
          </p:nvSpPr>
          <p:spPr>
            <a:xfrm>
              <a:off x="142560" y="714240"/>
              <a:ext cx="8572680" cy="48708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소득원과 소득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1214280"/>
              <a:ext cx="8929800" cy="27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소득원의 유형 분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이전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소득원별 소득비중 변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 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 및 이전소득 비중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반적인 중장년기 이후 소득변화와 다른 양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소득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및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94-9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1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%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가구 및 개인소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가구소득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,58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개인수입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,176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,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차가 크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수준 낮은 노인의 소득이 낮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9" name="그룹 10"/>
            <p:cNvGrpSpPr/>
            <p:nvPr/>
          </p:nvGrpSpPr>
          <p:grpSpPr>
            <a:xfrm>
              <a:off x="0" y="4000320"/>
              <a:ext cx="9072720" cy="2036880"/>
              <a:chOff x="0" y="4000320"/>
              <a:chExt cx="9072720" cy="2036880"/>
            </a:xfrm>
          </p:grpSpPr>
          <p:sp>
            <p:nvSpPr>
              <p:cNvPr id="460" name="AutoShape 29"/>
              <p:cNvSpPr/>
              <p:nvPr/>
            </p:nvSpPr>
            <p:spPr>
              <a:xfrm>
                <a:off x="0" y="4000320"/>
                <a:ext cx="8572680" cy="4395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자산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Text Box 25"/>
              <p:cNvSpPr/>
              <p:nvPr/>
            </p:nvSpPr>
            <p:spPr>
              <a:xfrm>
                <a:off x="214200" y="4571640"/>
                <a:ext cx="8858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1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부동산자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92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금융자산을 소유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총 자산규모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천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산의 대부분이 부동산자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가 있는 경우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9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40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으로 순자산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,6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2" name="AutoShape 7"/>
            <p:cNvSpPr/>
            <p:nvPr/>
          </p:nvSpPr>
          <p:spPr>
            <a:xfrm>
              <a:off x="214200" y="71280"/>
              <a:ext cx="49291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의 소득과 자산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4"/>
          <p:cNvGrpSpPr/>
          <p:nvPr/>
        </p:nvGrpSpPr>
        <p:grpSpPr>
          <a:xfrm>
            <a:off x="142920" y="71280"/>
            <a:ext cx="8858160" cy="6144480"/>
            <a:chOff x="142920" y="71280"/>
            <a:chExt cx="8858160" cy="6144480"/>
          </a:xfrm>
        </p:grpSpPr>
        <p:sp>
          <p:nvSpPr>
            <p:cNvPr id="464" name="AutoShape 2"/>
            <p:cNvSpPr/>
            <p:nvPr/>
          </p:nvSpPr>
          <p:spPr>
            <a:xfrm>
              <a:off x="142920" y="4429800"/>
              <a:ext cx="88581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13"/>
            <p:cNvGrpSpPr/>
            <p:nvPr/>
          </p:nvGrpSpPr>
          <p:grpSpPr>
            <a:xfrm>
              <a:off x="142920" y="785520"/>
              <a:ext cx="8858160" cy="5422320"/>
              <a:chOff x="142920" y="785520"/>
              <a:chExt cx="8858160" cy="5422320"/>
            </a:xfrm>
          </p:grpSpPr>
          <p:sp>
            <p:nvSpPr>
              <p:cNvPr id="466" name="AutoShape 2"/>
              <p:cNvSpPr/>
              <p:nvPr/>
            </p:nvSpPr>
            <p:spPr>
              <a:xfrm>
                <a:off x="142920" y="1213920"/>
                <a:ext cx="8858160" cy="2643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7" name="그룹 12"/>
              <p:cNvGrpSpPr/>
              <p:nvPr/>
            </p:nvGrpSpPr>
            <p:grpSpPr>
              <a:xfrm>
                <a:off x="142920" y="785520"/>
                <a:ext cx="8715600" cy="3085200"/>
                <a:chOff x="142920" y="785520"/>
                <a:chExt cx="8715600" cy="3085200"/>
              </a:xfrm>
            </p:grpSpPr>
            <p:sp>
              <p:nvSpPr>
                <p:cNvPr id="468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가구의 생계수단 및 지출</a:t>
                  </a:r>
                  <a:r>
                    <a:rPr b="0" lang="en-US" sz="2400" spc="-1" strike="noStrike">
                      <a:solidFill>
                        <a:srgbClr val="af334e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생활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Text Box 25"/>
                <p:cNvSpPr/>
                <p:nvPr/>
              </p:nvSpPr>
              <p:spPr>
                <a:xfrm>
                  <a:off x="285480" y="1261800"/>
                  <a:ext cx="8573040" cy="26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비 마련방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0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친척 보조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20%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부와 사회단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0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노인은 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노인은 자녀보조의 비중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령이 낮을수록 본인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을수록 자녀 등의 보조 비중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가구의 월소비지출액은 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62.2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원으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체가구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5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식료품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통비 비중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대적으로 높음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8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그룹 10"/>
              <p:cNvGrpSpPr/>
              <p:nvPr/>
            </p:nvGrpSpPr>
            <p:grpSpPr>
              <a:xfrm>
                <a:off x="142920" y="3929400"/>
                <a:ext cx="8715600" cy="2278440"/>
                <a:chOff x="142920" y="3929400"/>
                <a:chExt cx="8715600" cy="2278440"/>
              </a:xfrm>
            </p:grpSpPr>
            <p:sp>
              <p:nvSpPr>
                <p:cNvPr id="471" name="AutoShape 29"/>
                <p:cNvSpPr/>
                <p:nvPr/>
              </p:nvSpPr>
              <p:spPr>
                <a:xfrm>
                  <a:off x="142920" y="392940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 개인 지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Text Box 25"/>
                <p:cNvSpPr/>
                <p:nvPr/>
              </p:nvSpPr>
              <p:spPr>
                <a:xfrm>
                  <a:off x="285480" y="4437360"/>
                  <a:ext cx="8573040" cy="17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조사비 순으로 지출 비율과 지출액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3-9 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7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독거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노인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없는 노인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3" name="AutoShape 7"/>
            <p:cNvSpPr/>
            <p:nvPr/>
          </p:nvSpPr>
          <p:spPr>
            <a:xfrm>
              <a:off x="214200" y="71280"/>
              <a:ext cx="3571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소비지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그룹 12"/>
          <p:cNvGrpSpPr/>
          <p:nvPr/>
        </p:nvGrpSpPr>
        <p:grpSpPr>
          <a:xfrm>
            <a:off x="142920" y="71280"/>
            <a:ext cx="9001080" cy="6309000"/>
            <a:chOff x="142920" y="71280"/>
            <a:chExt cx="9001080" cy="6309000"/>
          </a:xfrm>
        </p:grpSpPr>
        <p:sp>
          <p:nvSpPr>
            <p:cNvPr id="475" name="AutoShape 2"/>
            <p:cNvSpPr/>
            <p:nvPr/>
          </p:nvSpPr>
          <p:spPr>
            <a:xfrm>
              <a:off x="142920" y="3571200"/>
              <a:ext cx="8858520" cy="2809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6" name="그룹 9"/>
            <p:cNvGrpSpPr/>
            <p:nvPr/>
          </p:nvGrpSpPr>
          <p:grpSpPr>
            <a:xfrm>
              <a:off x="142920" y="785520"/>
              <a:ext cx="9001080" cy="5577840"/>
              <a:chOff x="142920" y="785520"/>
              <a:chExt cx="9001080" cy="5577840"/>
            </a:xfrm>
          </p:grpSpPr>
          <p:sp>
            <p:nvSpPr>
              <p:cNvPr id="477" name="AutoShape 2"/>
              <p:cNvSpPr/>
              <p:nvPr/>
            </p:nvSpPr>
            <p:spPr>
              <a:xfrm>
                <a:off x="142920" y="1285200"/>
                <a:ext cx="8858520" cy="171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8" name="그룹 10"/>
              <p:cNvGrpSpPr/>
              <p:nvPr/>
            </p:nvGrpSpPr>
            <p:grpSpPr>
              <a:xfrm>
                <a:off x="142920" y="785520"/>
                <a:ext cx="9001080" cy="2194560"/>
                <a:chOff x="142920" y="785520"/>
                <a:chExt cx="9001080" cy="2194560"/>
              </a:xfrm>
            </p:grpSpPr>
            <p:sp>
              <p:nvSpPr>
                <p:cNvPr id="479" name="AutoShape 29"/>
                <p:cNvSpPr/>
                <p:nvPr/>
              </p:nvSpPr>
              <p:spPr>
                <a:xfrm>
                  <a:off x="142920" y="785520"/>
                  <a:ext cx="857268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유형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0" name="Text Box 25"/>
                <p:cNvSpPr/>
                <p:nvPr/>
              </p:nvSpPr>
              <p:spPr>
                <a:xfrm>
                  <a:off x="285480" y="1285560"/>
                  <a:ext cx="8858520" cy="169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 유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불가형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소득원 기준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5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55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8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와 사회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향후 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초노령연금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연금 개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은 증가하는 반면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감소 예상되지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양의무 미이행 자녀 비율도 증가 예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그룹 10"/>
              <p:cNvGrpSpPr/>
              <p:nvPr/>
            </p:nvGrpSpPr>
            <p:grpSpPr>
              <a:xfrm>
                <a:off x="142920" y="3071520"/>
                <a:ext cx="8786880" cy="3291840"/>
                <a:chOff x="142920" y="3071520"/>
                <a:chExt cx="8786880" cy="3291840"/>
              </a:xfrm>
            </p:grpSpPr>
            <p:sp>
              <p:nvSpPr>
                <p:cNvPr id="482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만족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3" name="Text Box 25"/>
                <p:cNvSpPr/>
                <p:nvPr/>
              </p:nvSpPr>
              <p:spPr>
                <a:xfrm>
                  <a:off x="285480" y="3642840"/>
                  <a:ext cx="8644320" cy="272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의 경제생활 수준은 점차 개선될 것으로 예측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절대 빈곤계층은 감소보다는 일정 수준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75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 이상의 상대빈곤율은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0%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ECD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 평균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로서 그 비율이 가장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기초생활 보장 노인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: 2017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 노인인구의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6.1%(43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여명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으로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, 201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비해 수급인원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3.9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명 증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0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관적 경제생활 평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에 불만족한다는 경우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6-55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 및 소비생활 만족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하는 노인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8-10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" name="AutoShape 7"/>
            <p:cNvSpPr/>
            <p:nvPr/>
          </p:nvSpPr>
          <p:spPr>
            <a:xfrm>
              <a:off x="21420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경제생활 유형과 만족도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그룹 7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4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Rectangle 2"/>
            <p:cNvSpPr/>
            <p:nvPr/>
          </p:nvSpPr>
          <p:spPr>
            <a:xfrm>
              <a:off x="1143000" y="7128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8" name="그룹 30"/>
            <p:cNvGrpSpPr/>
            <p:nvPr/>
          </p:nvGrpSpPr>
          <p:grpSpPr>
            <a:xfrm>
              <a:off x="71280" y="785880"/>
              <a:ext cx="9001440" cy="5500800"/>
              <a:chOff x="71280" y="785880"/>
              <a:chExt cx="9001440" cy="5500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71280" y="1143000"/>
                <a:ext cx="900144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AutoShape 7"/>
              <p:cNvSpPr/>
              <p:nvPr/>
            </p:nvSpPr>
            <p:spPr>
              <a:xfrm>
                <a:off x="285480" y="785880"/>
                <a:ext cx="35006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일</a:t>
                </a: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(work)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의 개념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Text Box 25"/>
              <p:cNvSpPr/>
              <p:nvPr/>
            </p:nvSpPr>
            <p:spPr>
              <a:xfrm>
                <a:off x="223560" y="1340640"/>
                <a:ext cx="8849160" cy="47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이고 육체적인 경제 활동 뿐 아니라 비공식적 도움이나 무급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자원봉사형태로 사회에 기여하는 제반 생산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productive activity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와 동일한 의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육체적인 유급의 산업노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labor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인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로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 등을 제외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의 자 중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와 실업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 기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취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임금소득자＋주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가족종사자＋일시휴직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실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간 구직활동을 한 자로 일자리가 주어지면 즉시 취업가능한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부통계나 노년학계의 관점을 종합할 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‘개인과 사회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필요한 재화와 서비스를 생산하는 활동’으로 규정함이 타당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급의 경제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급 봉사활동의 사회기여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12"/>
          <p:cNvGrpSpPr/>
          <p:nvPr/>
        </p:nvGrpSpPr>
        <p:grpSpPr>
          <a:xfrm>
            <a:off x="142920" y="71280"/>
            <a:ext cx="8858160" cy="6000840"/>
            <a:chOff x="142920" y="71280"/>
            <a:chExt cx="8858160" cy="6000840"/>
          </a:xfrm>
        </p:grpSpPr>
        <p:sp>
          <p:nvSpPr>
            <p:cNvPr id="493" name="AutoShape 2"/>
            <p:cNvSpPr/>
            <p:nvPr/>
          </p:nvSpPr>
          <p:spPr>
            <a:xfrm>
              <a:off x="142920" y="3571920"/>
              <a:ext cx="885816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4" name="그룹 9"/>
            <p:cNvGrpSpPr/>
            <p:nvPr/>
          </p:nvGrpSpPr>
          <p:grpSpPr>
            <a:xfrm>
              <a:off x="142920" y="785520"/>
              <a:ext cx="8858160" cy="5238000"/>
              <a:chOff x="142920" y="785520"/>
              <a:chExt cx="8858160" cy="5238000"/>
            </a:xfrm>
          </p:grpSpPr>
          <p:sp>
            <p:nvSpPr>
              <p:cNvPr id="495" name="AutoShape 2"/>
              <p:cNvSpPr/>
              <p:nvPr/>
            </p:nvSpPr>
            <p:spPr>
              <a:xfrm>
                <a:off x="142920" y="1285560"/>
                <a:ext cx="88581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6" name="그룹 10"/>
              <p:cNvGrpSpPr/>
              <p:nvPr/>
            </p:nvGrpSpPr>
            <p:grpSpPr>
              <a:xfrm>
                <a:off x="142920" y="785520"/>
                <a:ext cx="8715600" cy="2228400"/>
                <a:chOff x="142920" y="785520"/>
                <a:chExt cx="8715600" cy="2228400"/>
              </a:xfrm>
            </p:grpSpPr>
            <p:sp>
              <p:nvSpPr>
                <p:cNvPr id="497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기능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8" name="Text Box 25"/>
                <p:cNvSpPr/>
                <p:nvPr/>
              </p:nvSpPr>
              <p:spPr>
                <a:xfrm>
                  <a:off x="285480" y="1356840"/>
                  <a:ext cx="8573040" cy="165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계 유지에 필요한 재화나 서비스의 생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권력의 획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덕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성원으로서의 도덕적 책임 이행 기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아정체감 및 유용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존감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만족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그룹 10"/>
              <p:cNvGrpSpPr/>
              <p:nvPr/>
            </p:nvGrpSpPr>
            <p:grpSpPr>
              <a:xfrm>
                <a:off x="142920" y="3071520"/>
                <a:ext cx="8858160" cy="2952000"/>
                <a:chOff x="142920" y="3071520"/>
                <a:chExt cx="8858160" cy="2952000"/>
              </a:xfrm>
            </p:grpSpPr>
            <p:sp>
              <p:nvSpPr>
                <p:cNvPr id="500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25"/>
                <p:cNvSpPr/>
                <p:nvPr/>
              </p:nvSpPr>
              <p:spPr>
                <a:xfrm>
                  <a:off x="285480" y="3642840"/>
                  <a:ext cx="8715600" cy="23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미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원 확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기 유용감과 정체감 부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 및 정신건강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일 또는 여가기회 부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거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인식개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생산성 제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보장비용 절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지만  노년기에는 건강 약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산지식과 기술의 낙후 등으로 노동시장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서 탈락하게 되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와 역할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활동 기회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삶의 만족도 저하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AutoShape 7"/>
            <p:cNvSpPr/>
            <p:nvPr/>
          </p:nvSpPr>
          <p:spPr>
            <a:xfrm>
              <a:off x="214200" y="71280"/>
              <a:ext cx="3929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일의 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2:54:52Z</dcterms:modified>
  <cp:revision>265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