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E32D6-C979-468E-9E12-FC90CED7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759E9-EEB8-4A2D-9C2B-5E24B2AC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153D4-52D9-42BA-B061-6D5A6458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46DA5-56D2-40BB-99DF-DC707A4B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E7AEF-60BF-4B72-B809-FB49B62B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F7C6A-CE90-4C02-A319-BCFB5A5F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D2994-DC62-47F7-BDC8-8D91FEBB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4345D-FC2E-482F-B4A5-460EB03E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50DCB-9A48-499F-91FD-D8B72244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201C5-5AA7-40AE-9C2F-D038A290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9D599-1BA1-4FA0-A888-847AFC2A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7E173-4440-41C8-A391-2BF006D0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C0BAB-8166-4B18-8CD4-32651CC7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CA247-F566-4CB0-A07B-3D857BA6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CAAE3-A694-422D-8A98-B76236AD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6E803-B682-42B8-9ECA-5A45FBEC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0E5B2-5FAE-4111-930F-25971CF7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6422F3-560E-459C-B462-90B47560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C4AF6-A0A1-4BC0-806A-13212CF4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F3EB1-94F5-4940-A07A-9336094C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6F7EC-217E-432C-A5B4-C1E03872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642731-8044-4D89-B5CA-E7B4690E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B174D-F9E7-489F-9B5B-D6A20C0C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1564D-3B9F-4DA5-AEE7-C0A5BF2B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BD3A-A3FF-4244-AF5F-D673073EEA2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FD61-AD85-4622-9628-E0C7FBDBC26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1778-2037-462E-8D25-6EAB587691A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6C57-4F06-4468-BFB6-2DDC40C40485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D635-F8C2-4DD1-8F01-3215707157A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25E7-D733-4538-A587-B4F86DE947B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678D-C38B-47DB-A2F0-9AD34EEC57F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4CB5-43B8-40C6-86E8-0258DD0253C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그룹 9"/>
          <p:cNvGrpSpPr/>
          <p:nvPr/>
        </p:nvGrpSpPr>
        <p:grpSpPr>
          <a:xfrm>
            <a:off x="0" y="0"/>
            <a:ext cx="9144000" cy="6541920"/>
            <a:chOff x="0" y="0"/>
            <a:chExt cx="9144000" cy="6541920"/>
          </a:xfrm>
        </p:grpSpPr>
        <p:grpSp>
          <p:nvGrpSpPr>
            <p:cNvPr id="412" name="그룹 7"/>
            <p:cNvGrpSpPr/>
            <p:nvPr/>
          </p:nvGrpSpPr>
          <p:grpSpPr>
            <a:xfrm>
              <a:off x="52200" y="0"/>
              <a:ext cx="9091800" cy="6541920"/>
              <a:chOff x="52200" y="0"/>
              <a:chExt cx="9091800" cy="6541920"/>
            </a:xfrm>
          </p:grpSpPr>
          <p:pic>
            <p:nvPicPr>
              <p:cNvPr id="413" name="Picture 4" descr="그림1"/>
              <p:cNvPicPr/>
              <p:nvPr/>
            </p:nvPicPr>
            <p:blipFill>
              <a:blip r:embed="rId1"/>
              <a:stretch/>
            </p:blipFill>
            <p:spPr>
              <a:xfrm>
                <a:off x="52200" y="0"/>
                <a:ext cx="9091800" cy="542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6"/>
              <p:cNvSpPr/>
              <p:nvPr/>
            </p:nvSpPr>
            <p:spPr>
              <a:xfrm>
                <a:off x="1348920" y="5358240"/>
                <a:ext cx="6294600" cy="11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600" spc="-1" strike="noStrike">
                    <a:solidFill>
                      <a:srgbClr val="0c233c"/>
                    </a:solidFill>
                    <a:latin typeface="HY강M"/>
                    <a:ea typeface="HY강M"/>
                  </a:rPr>
                  <a:t>권  중  돈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목원대학교 사회복지학과 교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5" name="Rectangle 2"/>
              <p:cNvSpPr/>
              <p:nvPr/>
            </p:nvSpPr>
            <p:spPr>
              <a:xfrm>
                <a:off x="2142720" y="514080"/>
                <a:ext cx="485784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6000" spc="-1" strike="noStrike">
                    <a:solidFill>
                      <a:srgbClr val="ffc000"/>
                    </a:solidFill>
                    <a:latin typeface="HY강M"/>
                    <a:ea typeface="HY강M"/>
                  </a:rPr>
                  <a:t>노인복지론</a:t>
                </a:r>
                <a:endParaRPr b="0" lang="en-US" sz="6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16" name="Rectangle 8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17" name="그림 1" descr=""/>
          <p:cNvPicPr/>
          <p:nvPr/>
        </p:nvPicPr>
        <p:blipFill>
          <a:blip r:embed="rId2"/>
          <a:stretch/>
        </p:blipFill>
        <p:spPr>
          <a:xfrm>
            <a:off x="1116000" y="1751040"/>
            <a:ext cx="69850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>
            <a:off x="214200" y="328608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AutoShape 2"/>
          <p:cNvSpPr/>
          <p:nvPr/>
        </p:nvSpPr>
        <p:spPr>
          <a:xfrm>
            <a:off x="214200" y="49118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AutoShape 2"/>
          <p:cNvSpPr/>
          <p:nvPr/>
        </p:nvSpPr>
        <p:spPr>
          <a:xfrm>
            <a:off x="214200" y="16970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6037200" y="6429240"/>
            <a:ext cx="1657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2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1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목 적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24" name="직사각형 37"/>
          <p:cNvSpPr/>
          <p:nvPr/>
        </p:nvSpPr>
        <p:spPr>
          <a:xfrm>
            <a:off x="214200" y="1844640"/>
            <a:ext cx="8572680" cy="42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화의 과정과 결과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년기의 삶과 욕구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문제에 대한 과학적 지식 습득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의 욕구 충족과 문제 해결을 위한 전문적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원조기술 습득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복지정책 및 프로그램의 개발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실행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평가능력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함양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2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내 용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7" name="그룹 14"/>
          <p:cNvGrpSpPr/>
          <p:nvPr/>
        </p:nvGrpSpPr>
        <p:grpSpPr>
          <a:xfrm>
            <a:off x="214200" y="1357200"/>
            <a:ext cx="8929800" cy="4484160"/>
            <a:chOff x="214200" y="1357200"/>
            <a:chExt cx="8929800" cy="4484160"/>
          </a:xfrm>
        </p:grpSpPr>
        <p:sp>
          <p:nvSpPr>
            <p:cNvPr id="428" name="직사각형 13"/>
            <p:cNvSpPr/>
            <p:nvPr/>
          </p:nvSpPr>
          <p:spPr>
            <a:xfrm>
              <a:off x="356760" y="322560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구의 변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욕구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의 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학의 이해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29" name="그룹 11"/>
            <p:cNvGrpSpPr/>
            <p:nvPr/>
          </p:nvGrpSpPr>
          <p:grpSpPr>
            <a:xfrm>
              <a:off x="214200" y="1357200"/>
              <a:ext cx="8787240" cy="3511800"/>
              <a:chOff x="214200" y="1357200"/>
              <a:chExt cx="8787240" cy="3511800"/>
            </a:xfrm>
          </p:grpSpPr>
          <p:sp>
            <p:nvSpPr>
              <p:cNvPr id="430" name="AutoShape 5"/>
              <p:cNvSpPr/>
              <p:nvPr/>
            </p:nvSpPr>
            <p:spPr>
              <a:xfrm>
                <a:off x="214200" y="1357200"/>
                <a:ext cx="5393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제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HY강B"/>
                  </a:rPr>
                  <a:t>1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부 노화와 노인의 이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1" name="AutoShape 10"/>
              <p:cNvSpPr/>
              <p:nvPr/>
            </p:nvSpPr>
            <p:spPr>
              <a:xfrm>
                <a:off x="323640" y="251136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Text Box 25"/>
              <p:cNvSpPr/>
              <p:nvPr/>
            </p:nvSpPr>
            <p:spPr>
              <a:xfrm>
                <a:off x="285480" y="2511360"/>
                <a:ext cx="871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과 노인문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3" name="AutoShape 10"/>
              <p:cNvSpPr/>
              <p:nvPr/>
            </p:nvSpPr>
            <p:spPr>
              <a:xfrm>
                <a:off x="323640" y="429768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4" name="Text Box 25"/>
              <p:cNvSpPr/>
              <p:nvPr/>
            </p:nvSpPr>
            <p:spPr>
              <a:xfrm>
                <a:off x="285480" y="4286520"/>
                <a:ext cx="631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과정과 결과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직사각형 16"/>
            <p:cNvSpPr/>
            <p:nvPr/>
          </p:nvSpPr>
          <p:spPr>
            <a:xfrm>
              <a:off x="356760" y="500076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의 개념과 영역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생물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심리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노화의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론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현상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신화와 사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공적 노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그룹 16"/>
          <p:cNvGrpSpPr/>
          <p:nvPr/>
        </p:nvGrpSpPr>
        <p:grpSpPr>
          <a:xfrm>
            <a:off x="214200" y="785880"/>
            <a:ext cx="8929800" cy="5787000"/>
            <a:chOff x="214200" y="785880"/>
            <a:chExt cx="8929800" cy="5787000"/>
          </a:xfrm>
        </p:grpSpPr>
        <p:sp>
          <p:nvSpPr>
            <p:cNvPr id="437" name="AutoShape 10"/>
            <p:cNvSpPr/>
            <p:nvPr/>
          </p:nvSpPr>
          <p:spPr>
            <a:xfrm>
              <a:off x="252000" y="7858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Text Box 25"/>
            <p:cNvSpPr/>
            <p:nvPr/>
          </p:nvSpPr>
          <p:spPr>
            <a:xfrm>
              <a:off x="214200" y="78588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;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경제생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직사각형 5"/>
            <p:cNvSpPr/>
            <p:nvPr/>
          </p:nvSpPr>
          <p:spPr>
            <a:xfrm>
              <a:off x="285480" y="1285920"/>
              <a:ext cx="88585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소득과 지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일의 의미와 경제활동 실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은퇴의 과정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응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행 퇴직제도의 현황과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0" name="그룹 6"/>
            <p:cNvGrpSpPr/>
            <p:nvPr/>
          </p:nvGrpSpPr>
          <p:grpSpPr>
            <a:xfrm>
              <a:off x="214200" y="2143080"/>
              <a:ext cx="8787240" cy="1661400"/>
              <a:chOff x="214200" y="2143080"/>
              <a:chExt cx="8787240" cy="1661400"/>
            </a:xfrm>
          </p:grpSpPr>
          <p:sp>
            <p:nvSpPr>
              <p:cNvPr id="441" name="AutoShape 10"/>
              <p:cNvSpPr/>
              <p:nvPr/>
            </p:nvSpPr>
            <p:spPr>
              <a:xfrm>
                <a:off x="252000" y="2143080"/>
                <a:ext cx="867780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2" name="Text Box 25"/>
              <p:cNvSpPr/>
              <p:nvPr/>
            </p:nvSpPr>
            <p:spPr>
              <a:xfrm>
                <a:off x="214200" y="2143080"/>
                <a:ext cx="631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년기의 건강과 케어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care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직사각형 9"/>
              <p:cNvSpPr/>
              <p:nvPr/>
            </p:nvSpPr>
            <p:spPr>
              <a:xfrm>
                <a:off x="285480" y="2643120"/>
                <a:ext cx="871596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건강과 질병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성 질환의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주요 질환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질병 양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동작능력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영양관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환자의 케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care)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의 건강문제로 인한 사회적 비용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10"/>
            <p:cNvSpPr/>
            <p:nvPr/>
          </p:nvSpPr>
          <p:spPr>
            <a:xfrm>
              <a:off x="252000" y="39304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214200" y="39290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직사각형 12"/>
            <p:cNvSpPr/>
            <p:nvPr/>
          </p:nvSpPr>
          <p:spPr>
            <a:xfrm>
              <a:off x="285480" y="443052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개념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원인과 유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증상과 경과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예방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진단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환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 간호방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가족의 부양부담과 지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10"/>
            <p:cNvSpPr/>
            <p:nvPr/>
          </p:nvSpPr>
          <p:spPr>
            <a:xfrm>
              <a:off x="252000" y="529272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214200" y="52862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여가생활과 교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직사각형 15"/>
            <p:cNvSpPr/>
            <p:nvPr/>
          </p:nvSpPr>
          <p:spPr>
            <a:xfrm>
              <a:off x="285480" y="579276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의 의의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 유형의 변화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여가활동 참여실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및 촉진방안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자원봉사활동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교육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AutoShape 5"/>
          <p:cNvSpPr/>
          <p:nvPr/>
        </p:nvSpPr>
        <p:spPr>
          <a:xfrm>
            <a:off x="214200" y="71280"/>
            <a:ext cx="5786640" cy="50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제 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2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부 노인의 삶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욕구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문제</a:t>
            </a:r>
            <a:endParaRPr b="0" lang="en-US" sz="3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4"/>
          <p:cNvGrpSpPr/>
          <p:nvPr/>
        </p:nvGrpSpPr>
        <p:grpSpPr>
          <a:xfrm>
            <a:off x="214200" y="357120"/>
            <a:ext cx="8786880" cy="5441040"/>
            <a:chOff x="214200" y="357120"/>
            <a:chExt cx="8786880" cy="5441040"/>
          </a:xfrm>
        </p:grpSpPr>
        <p:sp>
          <p:nvSpPr>
            <p:cNvPr id="452" name="AutoShape 10"/>
            <p:cNvSpPr/>
            <p:nvPr/>
          </p:nvSpPr>
          <p:spPr>
            <a:xfrm>
              <a:off x="252000" y="35712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285480" y="357120"/>
              <a:ext cx="728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주거생활과 고령친화산업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직사각형 3"/>
            <p:cNvSpPr/>
            <p:nvPr/>
          </p:nvSpPr>
          <p:spPr>
            <a:xfrm>
              <a:off x="285480" y="1000080"/>
              <a:ext cx="8572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주거환경의 중요성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주거형태와 현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을 위한 주거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환경의 계획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시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고령친화산업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elderly market)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AutoShape 10"/>
            <p:cNvSpPr/>
            <p:nvPr/>
          </p:nvSpPr>
          <p:spPr>
            <a:xfrm>
              <a:off x="252000" y="206064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Text Box 25"/>
            <p:cNvSpPr/>
            <p:nvPr/>
          </p:nvSpPr>
          <p:spPr>
            <a:xfrm>
              <a:off x="214200" y="2060280"/>
              <a:ext cx="52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중간고사 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10"/>
            <p:cNvSpPr/>
            <p:nvPr/>
          </p:nvSpPr>
          <p:spPr>
            <a:xfrm>
              <a:off x="252000" y="307188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3071520"/>
              <a:ext cx="564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사회관계망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10"/>
            <p:cNvSpPr/>
            <p:nvPr/>
          </p:nvSpPr>
          <p:spPr>
            <a:xfrm>
              <a:off x="285480" y="3643200"/>
              <a:ext cx="871560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관계망과 지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가족의 구조와 기능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가족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친구 및 이웃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252000" y="479628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25"/>
            <p:cNvSpPr/>
            <p:nvPr/>
          </p:nvSpPr>
          <p:spPr>
            <a:xfrm>
              <a:off x="214200" y="4786200"/>
              <a:ext cx="55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삶의 이면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裏面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직사각형 13"/>
            <p:cNvSpPr/>
            <p:nvPr/>
          </p:nvSpPr>
          <p:spPr>
            <a:xfrm>
              <a:off x="285480" y="5369040"/>
              <a:ext cx="8572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죽음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호스피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생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권과 학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보화와 노년공학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안전과 범죄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1"/>
          <p:cNvGrpSpPr/>
          <p:nvPr/>
        </p:nvGrpSpPr>
        <p:grpSpPr>
          <a:xfrm>
            <a:off x="214200" y="71280"/>
            <a:ext cx="8786880" cy="5786640"/>
            <a:chOff x="214200" y="71280"/>
            <a:chExt cx="8786880" cy="5786640"/>
          </a:xfrm>
        </p:grpSpPr>
        <p:sp>
          <p:nvSpPr>
            <p:cNvPr id="464" name="AutoShape 5"/>
            <p:cNvSpPr/>
            <p:nvPr/>
          </p:nvSpPr>
          <p:spPr>
            <a:xfrm>
              <a:off x="214200" y="7128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제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부 노인복지 정책과 실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20"/>
            <p:cNvGrpSpPr/>
            <p:nvPr/>
          </p:nvGrpSpPr>
          <p:grpSpPr>
            <a:xfrm>
              <a:off x="214200" y="928440"/>
              <a:ext cx="8786880" cy="4929480"/>
              <a:chOff x="214200" y="928440"/>
              <a:chExt cx="8786880" cy="4929480"/>
            </a:xfrm>
          </p:grpSpPr>
          <p:sp>
            <p:nvSpPr>
              <p:cNvPr id="466" name="AutoShape 10"/>
              <p:cNvSpPr/>
              <p:nvPr/>
            </p:nvSpPr>
            <p:spPr>
              <a:xfrm>
                <a:off x="252000" y="9284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25"/>
              <p:cNvSpPr/>
              <p:nvPr/>
            </p:nvSpPr>
            <p:spPr>
              <a:xfrm>
                <a:off x="214200" y="928440"/>
                <a:ext cx="864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1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와 노인복지정책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직사각형 5"/>
              <p:cNvSpPr/>
              <p:nvPr/>
            </p:nvSpPr>
            <p:spPr>
              <a:xfrm>
                <a:off x="285480" y="1428480"/>
                <a:ext cx="8572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칙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구성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달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발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정책의 이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정책의 개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9" name="그룹 6"/>
              <p:cNvGrpSpPr/>
              <p:nvPr/>
            </p:nvGrpSpPr>
            <p:grpSpPr>
              <a:xfrm>
                <a:off x="214200" y="2171520"/>
                <a:ext cx="8786880" cy="898920"/>
                <a:chOff x="214200" y="2171520"/>
                <a:chExt cx="8786880" cy="898920"/>
              </a:xfrm>
            </p:grpSpPr>
            <p:sp>
              <p:nvSpPr>
                <p:cNvPr id="470" name="AutoShape 10"/>
                <p:cNvSpPr/>
                <p:nvPr/>
              </p:nvSpPr>
              <p:spPr>
                <a:xfrm>
                  <a:off x="252000" y="2171520"/>
                  <a:ext cx="874908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Text Box 25"/>
                <p:cNvSpPr/>
                <p:nvPr/>
              </p:nvSpPr>
              <p:spPr>
                <a:xfrm>
                  <a:off x="214200" y="2180880"/>
                  <a:ext cx="631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2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주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현행 노인복지 정책과 서비스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직사각형 9"/>
                <p:cNvSpPr/>
                <p:nvPr/>
              </p:nvSpPr>
              <p:spPr>
                <a:xfrm>
                  <a:off x="285480" y="2671560"/>
                  <a:ext cx="8715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080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소득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고용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주거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건강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사회 서비스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AutoShape 10"/>
              <p:cNvSpPr/>
              <p:nvPr/>
            </p:nvSpPr>
            <p:spPr>
              <a:xfrm>
                <a:off x="252000" y="307800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25"/>
              <p:cNvSpPr/>
              <p:nvPr/>
            </p:nvSpPr>
            <p:spPr>
              <a:xfrm>
                <a:off x="214200" y="307152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직사각형 12"/>
              <p:cNvSpPr/>
              <p:nvPr/>
            </p:nvSpPr>
            <p:spPr>
              <a:xfrm>
                <a:off x="285480" y="3578040"/>
                <a:ext cx="8215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조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조직의 프로그램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개발의 과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제안서 작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AutoShape 10"/>
              <p:cNvSpPr/>
              <p:nvPr/>
            </p:nvSpPr>
            <p:spPr>
              <a:xfrm>
                <a:off x="252000" y="42926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214200" y="428616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실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직사각형 15"/>
              <p:cNvSpPr/>
              <p:nvPr/>
            </p:nvSpPr>
            <p:spPr>
              <a:xfrm>
                <a:off x="285480" y="4792680"/>
                <a:ext cx="871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실천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상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례관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AutoShape 10"/>
              <p:cNvSpPr/>
              <p:nvPr/>
            </p:nvSpPr>
            <p:spPr>
              <a:xfrm>
                <a:off x="252000" y="5286600"/>
                <a:ext cx="874908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25"/>
              <p:cNvSpPr/>
              <p:nvPr/>
            </p:nvSpPr>
            <p:spPr>
              <a:xfrm>
                <a:off x="214200" y="528660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5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말고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3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의교재 및 평가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83" name="그룹 9"/>
          <p:cNvGrpSpPr/>
          <p:nvPr/>
        </p:nvGrpSpPr>
        <p:grpSpPr>
          <a:xfrm>
            <a:off x="285840" y="1500120"/>
            <a:ext cx="8643960" cy="4143600"/>
            <a:chOff x="285840" y="1500120"/>
            <a:chExt cx="8643960" cy="4143600"/>
          </a:xfrm>
        </p:grpSpPr>
        <p:sp>
          <p:nvSpPr>
            <p:cNvPr id="484" name="AutoShape 10"/>
            <p:cNvSpPr/>
            <p:nvPr/>
          </p:nvSpPr>
          <p:spPr>
            <a:xfrm>
              <a:off x="655560" y="2143080"/>
              <a:ext cx="827424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5"/>
            <p:cNvSpPr/>
            <p:nvPr/>
          </p:nvSpPr>
          <p:spPr>
            <a:xfrm>
              <a:off x="285840" y="15001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교재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직사각형 13"/>
            <p:cNvSpPr/>
            <p:nvPr/>
          </p:nvSpPr>
          <p:spPr>
            <a:xfrm>
              <a:off x="714240" y="2181240"/>
              <a:ext cx="69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권중돈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7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서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9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AutoShape 10"/>
            <p:cNvSpPr/>
            <p:nvPr/>
          </p:nvSpPr>
          <p:spPr>
            <a:xfrm>
              <a:off x="655560" y="3714840"/>
              <a:ext cx="8274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Text Box 25"/>
            <p:cNvSpPr/>
            <p:nvPr/>
          </p:nvSpPr>
          <p:spPr>
            <a:xfrm>
              <a:off x="285840" y="3129120"/>
              <a:ext cx="285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고문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직사각형 19"/>
            <p:cNvSpPr/>
            <p:nvPr/>
          </p:nvSpPr>
          <p:spPr>
            <a:xfrm>
              <a:off x="689040" y="3772080"/>
              <a:ext cx="809784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선희 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대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6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혜영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5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창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최혜경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6.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건복지부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19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보건복지사업안내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직사각형 14"/>
          <p:cNvSpPr/>
          <p:nvPr/>
        </p:nvSpPr>
        <p:spPr>
          <a:xfrm>
            <a:off x="0" y="0"/>
            <a:ext cx="9144000" cy="6429240"/>
          </a:xfrm>
          <a:prstGeom prst="rect">
            <a:avLst/>
          </a:prstGeom>
          <a:solidFill>
            <a:srgbClr val="0099cc"/>
          </a:soli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493" name="그림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4"/>
          <p:cNvGrpSpPr/>
          <p:nvPr/>
        </p:nvGrpSpPr>
        <p:grpSpPr>
          <a:xfrm>
            <a:off x="357120" y="79200"/>
            <a:ext cx="8572680" cy="6278760"/>
            <a:chOff x="357120" y="79200"/>
            <a:chExt cx="8572680" cy="6278760"/>
          </a:xfrm>
        </p:grpSpPr>
        <p:sp>
          <p:nvSpPr>
            <p:cNvPr id="495" name="AutoShape 10"/>
            <p:cNvSpPr/>
            <p:nvPr/>
          </p:nvSpPr>
          <p:spPr>
            <a:xfrm>
              <a:off x="823680" y="3143160"/>
              <a:ext cx="81061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5"/>
            <p:cNvSpPr/>
            <p:nvPr/>
          </p:nvSpPr>
          <p:spPr>
            <a:xfrm>
              <a:off x="357120" y="79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보고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7" name="AutoShape 10"/>
            <p:cNvSpPr/>
            <p:nvPr/>
          </p:nvSpPr>
          <p:spPr>
            <a:xfrm>
              <a:off x="752400" y="714240"/>
              <a:ext cx="817740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8" name="Text Box 25"/>
            <p:cNvSpPr/>
            <p:nvPr/>
          </p:nvSpPr>
          <p:spPr>
            <a:xfrm>
              <a:off x="714240" y="722160"/>
              <a:ext cx="67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 프로그램 개발 보고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9" name="직사각형 7"/>
            <p:cNvSpPr/>
            <p:nvPr/>
          </p:nvSpPr>
          <p:spPr>
            <a:xfrm>
              <a:off x="928440" y="1214280"/>
              <a:ext cx="79297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직접 실행할 수 있는 노인복지프로그램을 개발하여 제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양식은 사회복지공동모금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www.chest.or.kr)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에서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download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AutoShape 5"/>
            <p:cNvSpPr/>
            <p:nvPr/>
          </p:nvSpPr>
          <p:spPr>
            <a:xfrm>
              <a:off x="428400" y="2500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평가기준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Text Box 25"/>
            <p:cNvSpPr/>
            <p:nvPr/>
          </p:nvSpPr>
          <p:spPr>
            <a:xfrm>
              <a:off x="785520" y="3146400"/>
              <a:ext cx="6715440" cy="12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출석 및 참여도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 프로그램 개발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시험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중간고사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5%,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말고사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35%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428400" y="4786200"/>
              <a:ext cx="364320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강의 관련 자료 및 문의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AutoShape 10"/>
            <p:cNvSpPr/>
            <p:nvPr/>
          </p:nvSpPr>
          <p:spPr>
            <a:xfrm>
              <a:off x="823680" y="5429520"/>
              <a:ext cx="696312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Text Box 25"/>
            <p:cNvSpPr/>
            <p:nvPr/>
          </p:nvSpPr>
          <p:spPr>
            <a:xfrm>
              <a:off x="785520" y="5432400"/>
              <a:ext cx="81442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e-mail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kjd716@mokwon.ac.kr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Tel: 042-829-7513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2:12Z</dcterms:modified>
  <cp:revision>18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