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6142-895A-47CF-BEA4-74AE9FA3EE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EA3F-ACC7-4D96-A47C-F2439B17E56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5B37-8D7E-4FDC-9514-FDBFD3AEDA1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EE52-4BE5-4E21-BA51-44788ECBF31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B712-AEC6-4EEB-A67E-CACCFCBC714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EB96-1B3B-4C62-B643-E7FB570157E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668CD-65C5-443F-BEB4-8231E0FE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1317A-0342-4943-9159-71ECB94E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AA2A3-64E9-4786-A341-9DDBE875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0EC0DF-DEE1-4A0D-A4EE-C6B19092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17E86-3A8E-472A-94AD-2128434E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9B1ED-581A-4237-B907-BBADE307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67077-47F7-4953-B2F4-60A3A9F1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06939-A446-4195-98EB-5278BEF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5D32F-C8F9-4C3A-AF92-2F0098B9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A3726-19E1-43E8-ADAC-A77FEFEC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1B112-5A07-4DA4-9F71-3C8343EF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16E044-11AA-4849-9D7D-F229E632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2A293-FCF7-4F76-9DD3-0414C9BB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0430F-6E5B-4205-A30A-790461CA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DE118-B6B2-462B-8678-DE6EDB58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4941F-B74E-4BEC-8DAE-AC91B0D7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B988F-E890-4A08-BA5F-B46201AE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7DA4C-AAD8-4784-8B17-AA957549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D4BCE-44DA-490A-9CAC-22143E53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205D11-C44E-42A3-8D85-BBD111F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0FCB2-9E04-48F9-9B1C-7F9FAA56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B8F9B-6632-48E3-A2B1-11A1DBB0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8C78B-5BC7-4820-B934-5A69FB93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22ACE-0D34-493C-8511-1A2B8DB8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4AA1B-D913-43AE-9B20-4D6E897E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F47B4-32CD-47F8-962E-72F8E04E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C6FC5-CAAA-430F-995E-ED75A9C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9F48DE-D1ED-4D6F-AE51-AA704961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8363B-B90C-403D-9F52-ED5B844B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872A6-60D0-4034-8C32-A26AC83E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3E30A3-13C8-4D0A-B0E2-8E874138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5D9309-8017-424C-881C-6FED2310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3FEF7-F9B0-4757-A694-484BAC3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616F0-0D8E-4C84-AE3B-441D791E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C9D960-53BF-467E-98AE-87391300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A0DED0-B0F5-4FBB-A988-C30FDF4A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CD204-B961-4A74-9403-49814B52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32CC-476B-4B03-BD5E-1BCAFA45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BFF7-3A9C-40F9-9AE1-081C0B0E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3A70C-D090-4D20-B037-25838DE4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DE92-D125-4356-A7C1-34B56391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FBC1-60E0-4387-8373-DA35DE44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C436A-DE45-4D45-99F8-105B15DB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B617-1AF0-406B-8503-5C5B24E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FEE0F-55A5-444F-9587-766D930E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4092F-2646-4A73-9E22-5DF1478E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159CA-9E48-4024-BC1A-BDBAFCFC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69FA9-06E7-4E0A-BD40-63E45200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0992-A0E0-40E6-B21D-095A572F752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FC21-B636-4D94-B007-5680651B6DD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9217-B137-48FB-9888-F17AA8298DC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E860-D659-4148-BD4B-2E02DF3F5DE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5450-3896-40BB-B12A-944E92F4018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E1FD-7FEB-421E-A4CA-CE11DBB3EE7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FE00-2C8D-47AE-B6F5-1371F1701A1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AF4-3102-48DF-B830-70818670914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2FA9-AF6D-4167-9306-6133BC9EDE3E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CE6B-A745-4CBC-80EC-587D38665EA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0CF9-A4AE-4146-99FF-3F6CDE2079C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EDD8-5CAD-4DE4-8585-37809AA6ABE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4D98-2A20-47AC-B277-DA3B6569A82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9D31-1D01-49CA-B18B-2EE6EDA667A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B74-9D14-4373-B4FB-891DEEFF139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A030-CD96-4DD2-AABD-4809659D0D7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8310-2B75-4C1B-93A5-504D98839E3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그룹 7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pic>
          <p:nvPicPr>
            <p:cNvPr id="10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9" name="그룹 20"/>
            <p:cNvGrpSpPr/>
            <p:nvPr/>
          </p:nvGrpSpPr>
          <p:grpSpPr>
            <a:xfrm>
              <a:off x="285480" y="1785960"/>
              <a:ext cx="8750520" cy="4429080"/>
              <a:chOff x="285480" y="1785960"/>
              <a:chExt cx="8750520" cy="4429080"/>
            </a:xfrm>
          </p:grpSpPr>
          <p:sp>
            <p:nvSpPr>
              <p:cNvPr id="1050" name="AutoShape 2"/>
              <p:cNvSpPr/>
              <p:nvPr/>
            </p:nvSpPr>
            <p:spPr>
              <a:xfrm>
                <a:off x="285480" y="1785960"/>
                <a:ext cx="875052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1" name="Text Box 25"/>
              <p:cNvSpPr/>
              <p:nvPr/>
            </p:nvSpPr>
            <p:spPr>
              <a:xfrm>
                <a:off x="428040" y="1896840"/>
                <a:ext cx="860292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性談論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’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 뿐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2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4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5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6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7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8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9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0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Text Box 6"/>
              <p:cNvSpPr/>
              <p:nvPr/>
            </p:nvSpPr>
            <p:spPr>
              <a:xfrm>
                <a:off x="357120" y="3136680"/>
                <a:ext cx="814392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2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4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5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7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그룹 10"/>
          <p:cNvGrpSpPr/>
          <p:nvPr/>
        </p:nvGrpSpPr>
        <p:grpSpPr>
          <a:xfrm>
            <a:off x="0" y="0"/>
            <a:ext cx="9501120" cy="6357600"/>
            <a:chOff x="0" y="0"/>
            <a:chExt cx="9501120" cy="6357600"/>
          </a:xfrm>
        </p:grpSpPr>
        <p:pic>
          <p:nvPicPr>
            <p:cNvPr id="10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1" name="그룹 34"/>
            <p:cNvGrpSpPr/>
            <p:nvPr/>
          </p:nvGrpSpPr>
          <p:grpSpPr>
            <a:xfrm>
              <a:off x="285480" y="1785600"/>
              <a:ext cx="8643960" cy="4572000"/>
              <a:chOff x="285480" y="1785600"/>
              <a:chExt cx="8643960" cy="4572000"/>
            </a:xfrm>
          </p:grpSpPr>
          <p:sp>
            <p:nvSpPr>
              <p:cNvPr id="1072" name="AutoShape 2"/>
              <p:cNvSpPr/>
              <p:nvPr/>
            </p:nvSpPr>
            <p:spPr>
              <a:xfrm>
                <a:off x="285480" y="2384280"/>
                <a:ext cx="8643960" cy="3973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3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4" name="Text Box 6"/>
              <p:cNvSpPr/>
              <p:nvPr/>
            </p:nvSpPr>
            <p:spPr>
              <a:xfrm>
                <a:off x="499680" y="2594880"/>
                <a:ext cx="84297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 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업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5" name="그룹 15"/>
            <p:cNvGrpSpPr/>
            <p:nvPr/>
          </p:nvGrpSpPr>
          <p:grpSpPr>
            <a:xfrm>
              <a:off x="285480" y="785520"/>
              <a:ext cx="8643960" cy="857160"/>
              <a:chOff x="285480" y="785520"/>
              <a:chExt cx="8643960" cy="85716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785520"/>
                <a:ext cx="864396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Text Box 6"/>
              <p:cNvSpPr/>
              <p:nvPr/>
            </p:nvSpPr>
            <p:spPr>
              <a:xfrm>
                <a:off x="428040" y="799560"/>
                <a:ext cx="778680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79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0" name="그룹 10"/>
            <p:cNvGrpSpPr/>
            <p:nvPr/>
          </p:nvGrpSpPr>
          <p:grpSpPr>
            <a:xfrm>
              <a:off x="285480" y="142920"/>
              <a:ext cx="8643960" cy="6079680"/>
              <a:chOff x="285480" y="142920"/>
              <a:chExt cx="8643960" cy="6079680"/>
            </a:xfrm>
          </p:grpSpPr>
          <p:sp>
            <p:nvSpPr>
              <p:cNvPr id="1081" name="AutoShape 4"/>
              <p:cNvSpPr/>
              <p:nvPr/>
            </p:nvSpPr>
            <p:spPr>
              <a:xfrm>
                <a:off x="285480" y="142920"/>
                <a:ext cx="41432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2" name="Text Box 6"/>
              <p:cNvSpPr/>
              <p:nvPr/>
            </p:nvSpPr>
            <p:spPr>
              <a:xfrm>
                <a:off x="285480" y="1095480"/>
                <a:ext cx="8643960" cy="51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, stereotype, prejudice, discriminati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식과 기술의 낙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그룹 29"/>
          <p:cNvGrpSpPr/>
          <p:nvPr/>
        </p:nvGrpSpPr>
        <p:grpSpPr>
          <a:xfrm>
            <a:off x="179280" y="27000"/>
            <a:ext cx="8750520" cy="6402240"/>
            <a:chOff x="179280" y="27000"/>
            <a:chExt cx="8750520" cy="6402240"/>
          </a:xfrm>
        </p:grpSpPr>
        <p:grpSp>
          <p:nvGrpSpPr>
            <p:cNvPr id="1084" name="그룹 18"/>
            <p:cNvGrpSpPr/>
            <p:nvPr/>
          </p:nvGrpSpPr>
          <p:grpSpPr>
            <a:xfrm>
              <a:off x="179280" y="27000"/>
              <a:ext cx="8750520" cy="984240"/>
              <a:chOff x="179280" y="27000"/>
              <a:chExt cx="8750520" cy="984240"/>
            </a:xfrm>
          </p:grpSpPr>
          <p:sp>
            <p:nvSpPr>
              <p:cNvPr id="1085" name="AutoShape 2"/>
              <p:cNvSpPr/>
              <p:nvPr/>
            </p:nvSpPr>
            <p:spPr>
              <a:xfrm>
                <a:off x="217080" y="57132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25"/>
              <p:cNvSpPr/>
              <p:nvPr/>
            </p:nvSpPr>
            <p:spPr>
              <a:xfrm>
                <a:off x="288360" y="642960"/>
                <a:ext cx="86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7" name="AutoShape 4"/>
              <p:cNvSpPr/>
              <p:nvPr/>
            </p:nvSpPr>
            <p:spPr>
              <a:xfrm>
                <a:off x="179280" y="27000"/>
                <a:ext cx="364356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88" name="그룹 11"/>
            <p:cNvGrpSpPr/>
            <p:nvPr/>
          </p:nvGrpSpPr>
          <p:grpSpPr>
            <a:xfrm>
              <a:off x="213840" y="1000080"/>
              <a:ext cx="8644320" cy="1055520"/>
              <a:chOff x="213840" y="1000080"/>
              <a:chExt cx="8644320" cy="105552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3840" y="1356480"/>
                <a:ext cx="864432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6"/>
              <p:cNvSpPr/>
              <p:nvPr/>
            </p:nvSpPr>
            <p:spPr>
              <a:xfrm>
                <a:off x="213840" y="1356840"/>
                <a:ext cx="85730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직사각형 17"/>
              <p:cNvSpPr/>
              <p:nvPr/>
            </p:nvSpPr>
            <p:spPr>
              <a:xfrm>
                <a:off x="213840" y="10000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2" name="AutoShape 2"/>
            <p:cNvSpPr/>
            <p:nvPr/>
          </p:nvSpPr>
          <p:spPr>
            <a:xfrm>
              <a:off x="285480" y="2428920"/>
              <a:ext cx="864432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3" name="Text Box 6"/>
            <p:cNvSpPr/>
            <p:nvPr/>
          </p:nvSpPr>
          <p:spPr>
            <a:xfrm>
              <a:off x="285480" y="2428920"/>
              <a:ext cx="857304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4" name="직사각형 24"/>
            <p:cNvSpPr/>
            <p:nvPr/>
          </p:nvSpPr>
          <p:spPr>
            <a:xfrm>
              <a:off x="213840" y="207144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5" name="그룹 15"/>
            <p:cNvGrpSpPr/>
            <p:nvPr/>
          </p:nvGrpSpPr>
          <p:grpSpPr>
            <a:xfrm>
              <a:off x="285480" y="4929120"/>
              <a:ext cx="8644320" cy="1500120"/>
              <a:chOff x="285480" y="4929120"/>
              <a:chExt cx="8644320" cy="1500120"/>
            </a:xfrm>
          </p:grpSpPr>
          <p:sp>
            <p:nvSpPr>
              <p:cNvPr id="1096" name="AutoShape 2"/>
              <p:cNvSpPr/>
              <p:nvPr/>
            </p:nvSpPr>
            <p:spPr>
              <a:xfrm>
                <a:off x="285480" y="5288040"/>
                <a:ext cx="864432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7" name="Text Box 6"/>
              <p:cNvSpPr/>
              <p:nvPr/>
            </p:nvSpPr>
            <p:spPr>
              <a:xfrm>
                <a:off x="285480" y="5295600"/>
                <a:ext cx="864432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베이비붐 세대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노인이 되면 노인권익운동이 활성화될 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15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8" name="직사각형 28"/>
              <p:cNvSpPr/>
              <p:nvPr/>
            </p:nvSpPr>
            <p:spPr>
              <a:xfrm>
                <a:off x="285480" y="492912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0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1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실천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옴부즈맨제도가 대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3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4" name="그룹 11"/>
            <p:cNvGrpSpPr/>
            <p:nvPr/>
          </p:nvGrpSpPr>
          <p:grpSpPr>
            <a:xfrm>
              <a:off x="214200" y="1217520"/>
              <a:ext cx="8644320" cy="5091120"/>
              <a:chOff x="214200" y="1217520"/>
              <a:chExt cx="8644320" cy="50911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4200" y="1556280"/>
                <a:ext cx="864432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09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0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1-32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1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0"/>
          <p:cNvGrpSpPr/>
          <p:nvPr/>
        </p:nvGrpSpPr>
        <p:grpSpPr>
          <a:xfrm>
            <a:off x="285840" y="79200"/>
            <a:ext cx="8643960" cy="6350040"/>
            <a:chOff x="285840" y="79200"/>
            <a:chExt cx="8643960" cy="6350040"/>
          </a:xfrm>
        </p:grpSpPr>
        <p:grpSp>
          <p:nvGrpSpPr>
            <p:cNvPr id="1113" name="그룹 11"/>
            <p:cNvGrpSpPr/>
            <p:nvPr/>
          </p:nvGrpSpPr>
          <p:grpSpPr>
            <a:xfrm>
              <a:off x="285840" y="713880"/>
              <a:ext cx="8643960" cy="2481120"/>
              <a:chOff x="285840" y="713880"/>
              <a:chExt cx="8643960" cy="2481120"/>
            </a:xfrm>
          </p:grpSpPr>
          <p:sp>
            <p:nvSpPr>
              <p:cNvPr id="1114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5" name="Text Box 6"/>
              <p:cNvSpPr/>
              <p:nvPr/>
            </p:nvSpPr>
            <p:spPr>
              <a:xfrm>
                <a:off x="357120" y="1071000"/>
                <a:ext cx="8572680" cy="20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abuse, abandonment, neglect, exploitation, maltreatment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bus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maltreatment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6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17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18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19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Text Box 6"/>
              <p:cNvSpPr/>
              <p:nvPr/>
            </p:nvSpPr>
            <p:spPr>
              <a:xfrm>
                <a:off x="357120" y="3714480"/>
                <a:ext cx="850140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1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그룹 18"/>
          <p:cNvGrpSpPr/>
          <p:nvPr/>
        </p:nvGrpSpPr>
        <p:grpSpPr>
          <a:xfrm>
            <a:off x="285840" y="500040"/>
            <a:ext cx="8858160" cy="5857920"/>
            <a:chOff x="285840" y="500040"/>
            <a:chExt cx="8858160" cy="5857920"/>
          </a:xfrm>
        </p:grpSpPr>
        <p:sp>
          <p:nvSpPr>
            <p:cNvPr id="1123" name="AutoShape 2"/>
            <p:cNvSpPr/>
            <p:nvPr/>
          </p:nvSpPr>
          <p:spPr>
            <a:xfrm>
              <a:off x="285840" y="928440"/>
              <a:ext cx="83739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4" name="Text Box 6"/>
            <p:cNvSpPr/>
            <p:nvPr/>
          </p:nvSpPr>
          <p:spPr>
            <a:xfrm>
              <a:off x="63180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경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5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권익운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27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356760" y="1069920"/>
              <a:ext cx="8573040" cy="51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학대 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13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광의의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5.1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법정 학대 경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7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8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노인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배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62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8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방임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5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6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원 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4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1" name="직사각형 19"/>
            <p:cNvSpPr/>
            <p:nvPr/>
          </p:nvSpPr>
          <p:spPr>
            <a:xfrm>
              <a:off x="285480" y="71280"/>
              <a:ext cx="564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2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3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4" name="Text Box 6"/>
              <p:cNvSpPr/>
              <p:nvPr/>
            </p:nvSpPr>
            <p:spPr>
              <a:xfrm>
                <a:off x="465480" y="983880"/>
                <a:ext cx="878652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ombudsman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5" name="직사각형 14"/>
              <p:cNvSpPr/>
              <p:nvPr/>
            </p:nvSpPr>
            <p:spPr>
              <a:xfrm>
                <a:off x="285480" y="356760"/>
                <a:ext cx="564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9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0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1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2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3%, 70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 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4%, 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017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 노인실태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a2f96"/>
                    </a:buClr>
                    <a:buFont typeface="HY강M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그룹 14"/>
          <p:cNvGrpSpPr/>
          <p:nvPr/>
        </p:nvGrpSpPr>
        <p:grpSpPr>
          <a:xfrm>
            <a:off x="285840" y="0"/>
            <a:ext cx="8786880" cy="6572160"/>
            <a:chOff x="285840" y="0"/>
            <a:chExt cx="8786880" cy="6572160"/>
          </a:xfrm>
        </p:grpSpPr>
        <p:grpSp>
          <p:nvGrpSpPr>
            <p:cNvPr id="1145" name="그룹 11"/>
            <p:cNvGrpSpPr/>
            <p:nvPr/>
          </p:nvGrpSpPr>
          <p:grpSpPr>
            <a:xfrm>
              <a:off x="285840" y="4857840"/>
              <a:ext cx="8786880" cy="1714320"/>
              <a:chOff x="285840" y="4857840"/>
              <a:chExt cx="8786880" cy="1714320"/>
            </a:xfrm>
          </p:grpSpPr>
          <p:sp>
            <p:nvSpPr>
              <p:cNvPr id="1146" name="AutoShape 2"/>
              <p:cNvSpPr/>
              <p:nvPr/>
            </p:nvSpPr>
            <p:spPr>
              <a:xfrm>
                <a:off x="285840" y="5214960"/>
                <a:ext cx="8644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7" name="Text Box 6"/>
              <p:cNvSpPr/>
              <p:nvPr/>
            </p:nvSpPr>
            <p:spPr>
              <a:xfrm>
                <a:off x="285840" y="5214960"/>
                <a:ext cx="8786880" cy="11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~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 응급안전 돌보미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8" name="직사각형 13"/>
              <p:cNvSpPr/>
              <p:nvPr/>
            </p:nvSpPr>
            <p:spPr>
              <a:xfrm>
                <a:off x="285840" y="48578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49" name="그룹 11"/>
            <p:cNvGrpSpPr/>
            <p:nvPr/>
          </p:nvGrpSpPr>
          <p:grpSpPr>
            <a:xfrm>
              <a:off x="285840" y="500040"/>
              <a:ext cx="8715600" cy="3458880"/>
              <a:chOff x="285840" y="500040"/>
              <a:chExt cx="871560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840" y="857160"/>
                <a:ext cx="8644320" cy="3072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84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</a:t>
                </a:r>
                <a:r>
                  <a:rPr b="0" lang="ko-KR" sz="14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상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84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85840" y="4000320"/>
              <a:ext cx="8644320" cy="785520"/>
              <a:chOff x="285840" y="4000320"/>
              <a:chExt cx="8644320" cy="78552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840" y="4357080"/>
                <a:ext cx="8644320" cy="428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85840" y="4357440"/>
                <a:ext cx="85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3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4290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운전과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6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,71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767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지속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 등이 요구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범죄에 대한 두려움 속에서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21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7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3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61320"/>
              <a:chOff x="285480" y="2298600"/>
              <a:chExt cx="8712360" cy="156132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 사기상술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28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당판매 피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391440"/>
            <a:chOff x="0" y="0"/>
            <a:chExt cx="9215280" cy="639144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     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1161360"/>
              <a:chOff x="252360" y="857160"/>
              <a:chExt cx="8962920" cy="116136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1143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노년기의 죽음 문제에 대한 개입은 활성화되지 못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428920"/>
              <a:ext cx="8820000" cy="3962520"/>
              <a:chOff x="252360" y="2428920"/>
              <a:chExt cx="8820000" cy="39625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428920"/>
                <a:ext cx="8820000" cy="3962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428400" y="2573280"/>
                <a:ext cx="8572680" cy="37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ying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의 권리와 관련된 이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207144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139920"/>
              <a:ext cx="8429760" cy="21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상당수는 묘지준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명치료 반대 등 죽음을 자연스러운 것으로 수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well-dying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87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생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.7%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0.9%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7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7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1.6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의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체가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 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침제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1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2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3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당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인하여 사랑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4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4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26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2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29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0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 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2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그룹 13"/>
          <p:cNvGrpSpPr/>
          <p:nvPr/>
        </p:nvGrpSpPr>
        <p:grpSpPr>
          <a:xfrm>
            <a:off x="71280" y="0"/>
            <a:ext cx="9001440" cy="6429240"/>
            <a:chOff x="71280" y="0"/>
            <a:chExt cx="9001440" cy="6429240"/>
          </a:xfrm>
        </p:grpSpPr>
        <p:sp>
          <p:nvSpPr>
            <p:cNvPr id="1034" name="AutoShape 2"/>
            <p:cNvSpPr/>
            <p:nvPr/>
          </p:nvSpPr>
          <p:spPr>
            <a:xfrm>
              <a:off x="71280" y="500040"/>
              <a:ext cx="900144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5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36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7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8" name="AutoShape 2"/>
            <p:cNvSpPr/>
            <p:nvPr/>
          </p:nvSpPr>
          <p:spPr>
            <a:xfrm>
              <a:off x="71280" y="214308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1714320"/>
              <a:ext cx="8787240" cy="2191320"/>
              <a:chOff x="213840" y="1714320"/>
              <a:chExt cx="8787240" cy="21913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228744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서비스와 간접적 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442908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3929040"/>
              <a:ext cx="8787240" cy="2494440"/>
              <a:chOff x="213840" y="3929040"/>
              <a:chExt cx="8787240" cy="249444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392904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의 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 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6:51:09Z</dcterms:modified>
  <cp:revision>4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