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26E0-85F9-41D5-B72F-479E111300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FD9F-18D0-45C4-8E22-03DECF91A29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A813-7A23-4051-BA39-9BEB2DB3086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7832-4427-4DF1-BB4B-A09B88BF5E4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EF8B-C818-4284-91C1-6904637212D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C352-EA09-4AB7-A881-5D1BB44D939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AB3D3-3F25-4F21-8221-CAFB4682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C4F4E-4BD9-4955-A644-886FACCD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73687-9494-48F1-BA50-31AB4CE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71855-B1CE-4D9C-BC5A-5E1BC733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1AA15-1E31-4FA1-B0F8-89903956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8DF6F-F353-4467-9BE2-827BA9F1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603F0-0752-4E21-AD04-DC57DD5F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CA950-AB03-4923-A128-6F1DF8D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BEB36-7EB3-48CE-B7D8-4FC2C163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8115F-606C-44FE-8AF5-54C6F58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7E0F6-599C-4B58-8FC4-8CEC9068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8952-D119-441B-B536-AB02BAE2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12883-04A7-40BD-B4CA-24C0CD17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2BC80-C1B7-4F24-ACF9-C6B3AF08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CCA5F-766D-4AB4-96C8-C4CA0231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F8D3FC-5F0A-4395-8D44-3453623D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A9784-2E6D-48BC-B4B8-70DC0303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12559-7B53-4040-BA16-3DF66221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C272F-FF4E-4889-8DE2-CFA5CA4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C76B0-10FC-40B2-AD0F-7D76CE2E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40150-4D32-4385-9823-3BA068BD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448CD-DC13-46C8-AE8E-8ACA0092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561CB3-F44B-40E4-A152-50ED9E56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E3D50-9BD3-47D8-8DB5-C8400939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3669-8408-4359-90C3-BB75652204A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79A4-EA11-42A9-AEA2-40F7750AF94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B23E-0610-4DEC-A0C4-CAABFDCA31F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7500-E54B-4FA5-B5A1-1452B8D9CA3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87B1-DA5E-429A-AAE6-2F97E5C4D1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231C-5CD8-4809-860E-4F584A47135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8B72-9E3E-473B-82B0-121C6BFA041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3831-DFD8-4B64-AD8E-FE4F3DB50C6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9A0F-6F5F-4BF5-9B21-FE10CDACB3F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E7B0-04EA-4301-A402-59F8EA5C9A3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8200"/>
            <a:chOff x="214200" y="189000"/>
            <a:chExt cx="8929800" cy="305820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8200"/>
              <a:chOff x="285480" y="189000"/>
              <a:chExt cx="8858520" cy="305820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864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520"/>
            <a:chOff x="285840" y="119160"/>
            <a:chExt cx="8715240" cy="616752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‘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의 선택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관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68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1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5400720" cy="64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480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재인 정부의 저출산고령사회 기본계획 수정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9. 2.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함께 만들어가는 행복한 노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79-38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층적 노후소득 보장체계 내실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중년 새로운 인생출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의 다양한 사회참여 기회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중심의 건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 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한 노년기를 위한 기반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43960" cy="4500720"/>
              <a:chOff x="285840" y="71280"/>
              <a:chExt cx="864396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616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57268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편안하고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의 욕구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인 생리적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000"/>
              <a:ext cx="8606160" cy="3710520"/>
              <a:chOff x="323640" y="2565000"/>
              <a:chExt cx="8606160" cy="371052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696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례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00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의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128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7480"/>
              <a:chOff x="357120" y="285840"/>
              <a:chExt cx="8501040" cy="593748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376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,21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1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 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4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예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0.8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은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320"/>
            <a:chOff x="0" y="0"/>
            <a:chExt cx="9358200" cy="641232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440"/>
              <a:chOff x="285480" y="785520"/>
              <a:chExt cx="8572680" cy="290844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632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仁政 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을 대상으로 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待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耆老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民院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老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致仕制度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40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400"/>
              <a:ext cx="8572680" cy="2554920"/>
              <a:chOff x="285480" y="385740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40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04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6:34:53Z</dcterms:modified>
  <cp:revision>30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