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1B0E-C4C8-48D7-93F8-B2A9CE7263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1A06-D4D8-45F5-8BAD-22C71B407B4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74AA-D199-436B-9D1B-6CFC81AF686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E131-29C7-4C43-9AED-649636CE88F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4F23-F303-4A2E-82C0-7054CDBDAAB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1D536-A55B-44C4-892F-2191FC90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74A2B-E974-4021-8AE2-2DA0D3A5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36C64-3DE6-45D6-A65C-43BE96D0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F629F-9092-4EC1-8C2D-C11FBEF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C01CB-4A3F-4C0C-BAC4-A88493C5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1D137-F5CA-42E9-9E7A-D9CEBCC8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75BA5-1413-4868-A89D-24777C54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12ECC-2A5A-4714-9ED5-5DBD478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92DE0-3928-4F28-9291-02FDB912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74FBF-D304-4F03-9603-9C59AE15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A9393-230E-4FD4-8891-BE0008C9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AB8C2-2F1F-465F-9B78-D662531E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5C53C-0E8F-4BAA-80FD-6DF8A919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54D90-A2D2-4549-8CF0-7B71BBAF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1F5B9-9C72-48A5-A6F4-DB6B2FAE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219F0-903B-403E-9C17-C0EDD2B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D260A-138B-43EB-85B9-2B750EAC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9D6B4-B982-4A45-9535-9049BFA5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E03E4-9EE2-49C5-AEAC-C1D1BFA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DF60F-0925-4B2D-B3E1-98BA7AF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C59F2-A5AB-41CD-B2B0-E7D7F6FB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18B31-FEEB-4067-B3BF-E2BB7F27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C57A1-7FEA-4E74-9C14-BAD09D38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22585-733A-4B61-B397-7BCEB87F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CE42-5890-4EBF-8502-445A45CD692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59F-2BBD-4671-81E9-0917B1EF994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F2BB-9362-4D7D-88BC-AF46B3B9B24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D85-821A-46BF-A3E4-7D5C698A10B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AA6F-6FFC-4005-80E9-E676D5DD54D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1784-0D06-41D2-AA13-6A84A62BAF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5113-B967-45E7-AE4E-CD07E75B48BD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민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080"/>
            <a:chOff x="0" y="0"/>
            <a:chExt cx="9358200" cy="647208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4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에게 적합한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및 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5040"/>
              <a:ext cx="8715600" cy="2642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8640"/>
              <a:ext cx="8572680" cy="3043440"/>
              <a:chOff x="285480" y="3428640"/>
              <a:chExt cx="857268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864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 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3999960"/>
                <a:ext cx="857268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 업무 국토교통부에서 주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분야 연구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시 주택분양우선권 제도로 노인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에서 이미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감사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천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5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,64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라는 용어가 타당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할 수  있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적 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 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28760" y="58680"/>
            <a:ext cx="8572320" cy="6370560"/>
            <a:chOff x="428760" y="58680"/>
            <a:chExt cx="8572320" cy="6370560"/>
          </a:xfrm>
        </p:grpSpPr>
        <p:sp>
          <p:nvSpPr>
            <p:cNvPr id="531" name="AutoShape 2"/>
            <p:cNvSpPr/>
            <p:nvPr/>
          </p:nvSpPr>
          <p:spPr>
            <a:xfrm>
              <a:off x="428760" y="387000"/>
              <a:ext cx="842976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500040" y="387000"/>
              <a:ext cx="85010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 보장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로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5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35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5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4.7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76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28760" y="2130120"/>
              <a:ext cx="8429760" cy="429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500040" y="2196720"/>
              <a:ext cx="845964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수급자 노인 중 희망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0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 지원사업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및 등록관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조기검진 및 예빵괸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쉼터운영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 지원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인식개선 및 교육홍보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년후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안심센터 운영실적관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모델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0.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조직구성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검진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선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진단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감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용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치료관리비 지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저소득 치매노인 약제 및 진료비 연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실종노인 발생예방 및 찾기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회가능 노인 인식표 배부사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공립치매요양병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법 제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의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8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비비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99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5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저소득노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명 이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건보공단의 경로당 등의 노인운동지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76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8"/>
          <p:cNvGrpSpPr/>
          <p:nvPr/>
        </p:nvGrpSpPr>
        <p:grpSpPr>
          <a:xfrm>
            <a:off x="428760" y="500040"/>
            <a:ext cx="8572320" cy="5429160"/>
            <a:chOff x="428760" y="500040"/>
            <a:chExt cx="8572320" cy="5429160"/>
          </a:xfrm>
        </p:grpSpPr>
        <p:grpSp>
          <p:nvGrpSpPr>
            <p:cNvPr id="538" name="그룹 6"/>
            <p:cNvGrpSpPr/>
            <p:nvPr/>
          </p:nvGrpSpPr>
          <p:grpSpPr>
            <a:xfrm>
              <a:off x="428760" y="500040"/>
              <a:ext cx="8572320" cy="1214280"/>
              <a:chOff x="428760" y="500040"/>
              <a:chExt cx="8572320" cy="121428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428760" y="887400"/>
                <a:ext cx="8429760" cy="826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500040" y="898560"/>
                <a:ext cx="850104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 설치 반대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3"/>
              <p:cNvSpPr/>
              <p:nvPr/>
            </p:nvSpPr>
            <p:spPr>
              <a:xfrm>
                <a:off x="428760" y="500040"/>
                <a:ext cx="621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2" name="AutoShape 2"/>
            <p:cNvSpPr/>
            <p:nvPr/>
          </p:nvSpPr>
          <p:spPr>
            <a:xfrm>
              <a:off x="428760" y="2714400"/>
              <a:ext cx="84297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이나 시설에서 요양서비스를 제공하여 노후의 건강증진 및 생활안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 시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의 적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428760" y="2071440"/>
              <a:ext cx="37144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그룹 7"/>
          <p:cNvGrpSpPr/>
          <p:nvPr/>
        </p:nvGrpSpPr>
        <p:grpSpPr>
          <a:xfrm>
            <a:off x="214200" y="214200"/>
            <a:ext cx="8858520" cy="6015240"/>
            <a:chOff x="214200" y="214200"/>
            <a:chExt cx="8858520" cy="6015240"/>
          </a:xfrm>
        </p:grpSpPr>
        <p:sp>
          <p:nvSpPr>
            <p:cNvPr id="545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285480" y="649440"/>
              <a:ext cx="878724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 질환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1-11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19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%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 등급 인정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285480" y="3087360"/>
              <a:ext cx="87872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20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2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285480" y="928440"/>
              <a:ext cx="8572680" cy="48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1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6.55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 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1,820-69,1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1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9,160-56,89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5,140-55,7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2,5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,8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5,230-53,1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63e6a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456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40,7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80,8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이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4"/>
          <p:cNvGrpSpPr/>
          <p:nvPr/>
        </p:nvGrpSpPr>
        <p:grpSpPr>
          <a:xfrm>
            <a:off x="142920" y="357120"/>
            <a:ext cx="8786880" cy="5786640"/>
            <a:chOff x="142920" y="357120"/>
            <a:chExt cx="8786880" cy="5786640"/>
          </a:xfrm>
        </p:grpSpPr>
        <p:sp>
          <p:nvSpPr>
            <p:cNvPr id="556" name="AutoShape 2"/>
            <p:cNvSpPr/>
            <p:nvPr/>
          </p:nvSpPr>
          <p:spPr>
            <a:xfrm>
              <a:off x="142920" y="785520"/>
              <a:ext cx="8786880" cy="535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1152360"/>
              <a:ext cx="857268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이유로 시군구청장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취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6"/>
            <p:cNvSpPr/>
            <p:nvPr/>
          </p:nvSpPr>
          <p:spPr>
            <a:xfrm>
              <a:off x="285480" y="3571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0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상담센터 운영비 지원부족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인력 확보와 운영비 지원 확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급판정의 공정성 문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 노동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행 초기 제도상의 문제점 지속 보완 필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4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적 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이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그룹 8"/>
          <p:cNvGrpSpPr/>
          <p:nvPr/>
        </p:nvGrpSpPr>
        <p:grpSpPr>
          <a:xfrm>
            <a:off x="142920" y="139680"/>
            <a:ext cx="9001080" cy="6147000"/>
            <a:chOff x="142920" y="139680"/>
            <a:chExt cx="9001080" cy="6147000"/>
          </a:xfrm>
        </p:grpSpPr>
        <p:sp>
          <p:nvSpPr>
            <p:cNvPr id="570" name="AutoShape 4"/>
            <p:cNvSpPr/>
            <p:nvPr/>
          </p:nvSpPr>
          <p:spPr>
            <a:xfrm>
              <a:off x="214200" y="139680"/>
              <a:ext cx="428616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2"/>
            <p:cNvSpPr/>
            <p:nvPr/>
          </p:nvSpPr>
          <p:spPr>
            <a:xfrm>
              <a:off x="142920" y="1214280"/>
              <a:ext cx="8858520" cy="28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4681800"/>
              <a:ext cx="885852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357120" y="4822920"/>
              <a:ext cx="87868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립생활 영위가 어려운 노인과 독거노인에게 욕구에 따라 안전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활동 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서비스 등의 맞춤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구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기본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응급안전알림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가노인사랑잇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연고 독거노인 장례지원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공동생활 홈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활성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1"/>
          <p:cNvGrpSpPr/>
          <p:nvPr/>
        </p:nvGrpSpPr>
        <p:grpSpPr>
          <a:xfrm>
            <a:off x="106200" y="-19080"/>
            <a:ext cx="8930160" cy="6612120"/>
            <a:chOff x="106200" y="-19080"/>
            <a:chExt cx="8930160" cy="6612120"/>
          </a:xfrm>
        </p:grpSpPr>
        <p:sp>
          <p:nvSpPr>
            <p:cNvPr id="578" name="AutoShape 2"/>
            <p:cNvSpPr/>
            <p:nvPr/>
          </p:nvSpPr>
          <p:spPr>
            <a:xfrm>
              <a:off x="356040" y="3071880"/>
              <a:ext cx="8643960" cy="984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AutoShape 2"/>
            <p:cNvSpPr/>
            <p:nvPr/>
          </p:nvSpPr>
          <p:spPr>
            <a:xfrm>
              <a:off x="356040" y="428400"/>
              <a:ext cx="8643960" cy="2119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56040" y="-19080"/>
              <a:ext cx="8572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돌봄기본서비스</a:t>
              </a:r>
              <a:r>
                <a:rPr b="0" lang="en-US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거노인의 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을 제공해 사회안전망 구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양의무자 유무 등에 관계없이 홀로 사는 노인으로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상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접촉 등의 수준을 평가하여 서비스 욕구가 높은 노인 선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방법 활용한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황조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사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별 서비스 계획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립 → 맞춤형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인력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 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관리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비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급자 지원방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2"/>
            <p:cNvSpPr/>
            <p:nvPr/>
          </p:nvSpPr>
          <p:spPr>
            <a:xfrm>
              <a:off x="213120" y="4462200"/>
              <a:ext cx="8786880" cy="2130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84760" y="4005000"/>
              <a:ext cx="864432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 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공동생활 홈서비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생활을 지원함으로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화경 등의 문제 해소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시지역 독거노인을 위해 주거지없거나 주거가 열악한 저소득 노인이 다가구 주택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에서 공동생활할 수 있도록 임대료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형에 따라 안부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서비스 연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밑반찬 배달 등 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자체의 자체 운영 또는 조례 제정으로 실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직사각형 7"/>
            <p:cNvSpPr/>
            <p:nvPr/>
          </p:nvSpPr>
          <p:spPr>
            <a:xfrm>
              <a:off x="1792080" y="2700000"/>
              <a:ext cx="57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응급안전알림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사랑잇기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무연고 독거노인 장례지원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106200" y="3020040"/>
              <a:ext cx="89301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응급안전알림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응급구조 정보시스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무연고 독거노인 장례지원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관리사가 상주로서 최소한의 장례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그룹 10"/>
          <p:cNvGrpSpPr/>
          <p:nvPr/>
        </p:nvGrpSpPr>
        <p:grpSpPr>
          <a:xfrm>
            <a:off x="214200" y="284040"/>
            <a:ext cx="8786880" cy="5742360"/>
            <a:chOff x="214200" y="284040"/>
            <a:chExt cx="8786880" cy="5742360"/>
          </a:xfrm>
        </p:grpSpPr>
        <p:sp>
          <p:nvSpPr>
            <p:cNvPr id="586" name="AutoShape 2"/>
            <p:cNvSpPr/>
            <p:nvPr/>
          </p:nvSpPr>
          <p:spPr>
            <a:xfrm>
              <a:off x="357120" y="731520"/>
              <a:ext cx="8643960" cy="1696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356760" y="284040"/>
              <a:ext cx="8572680" cy="19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사회관계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의 절친한 친구관계 형성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경감과 자살예방을 위한 상호돌봄체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유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은둔형 고독사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제한형 자살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형 자살위험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업내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례괸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진단과 투약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정신치료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활동 프로그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8"/>
            <p:cNvGrpSpPr/>
            <p:nvPr/>
          </p:nvGrpSpPr>
          <p:grpSpPr>
            <a:xfrm>
              <a:off x="214200" y="2796120"/>
              <a:ext cx="8786880" cy="3230280"/>
              <a:chOff x="214200" y="2796120"/>
              <a:chExt cx="8786880" cy="323028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214200" y="3300120"/>
                <a:ext cx="8786880" cy="2721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6"/>
              <p:cNvSpPr/>
              <p:nvPr/>
            </p:nvSpPr>
            <p:spPr>
              <a:xfrm>
                <a:off x="285480" y="2796120"/>
                <a:ext cx="8644320" cy="32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노인돌봄종합서비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spcBef>
                    <a:spcPts val="15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상생활을 영위하기 어려운 노인에게 가사지원 및 활동지원서비스를 제공하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된 노후생활 보장과 가족의 사회경제적 활동기반 조성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대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구 중위소득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60%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과 건강상태 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기요양 등급외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A, B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이용절차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청 → 방문조사 → 서비스 대상 확정 → 개인별 서비스 계획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수립 → 이용 계약 체결 → 맞춤 방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야간보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단기가사서비스 등 이용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인력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돌보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호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 이상 자격 소지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비용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수준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종류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용일수와 시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에 따라 무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정 금액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본인부담금 선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원금액은 전자식 바우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85%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급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142920" y="146160"/>
            <a:ext cx="8858160" cy="6171120"/>
            <a:chOff x="142920" y="146160"/>
            <a:chExt cx="8858160" cy="6171120"/>
          </a:xfrm>
        </p:grpSpPr>
        <p:grpSp>
          <p:nvGrpSpPr>
            <p:cNvPr id="592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 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14200" y="1388880"/>
              <a:ext cx="8786880" cy="27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교환 장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순소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난방연료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범경로당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및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평가 사업을실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정보센터와 학대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킴이센터로서의 기능 수행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당순회프로그램지도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군구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14200" y="4318200"/>
              <a:ext cx="8786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1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6"/>
            <p:cNvSpPr/>
            <p:nvPr/>
          </p:nvSpPr>
          <p:spPr>
            <a:xfrm>
              <a:off x="214200" y="257040"/>
              <a:ext cx="874872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비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vi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인 노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를 위한 사회참여 여건조성 및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의 다양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내실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복지연계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4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35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08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09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1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2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3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급여 수급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등급외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의존적 재가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서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주거개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여가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역자원개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자원연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서비스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그룹 5"/>
          <p:cNvGrpSpPr/>
          <p:nvPr/>
        </p:nvGrpSpPr>
        <p:grpSpPr>
          <a:xfrm>
            <a:off x="142920" y="214200"/>
            <a:ext cx="8858160" cy="6023160"/>
            <a:chOff x="142920" y="214200"/>
            <a:chExt cx="8858160" cy="6023160"/>
          </a:xfrm>
        </p:grpSpPr>
        <p:sp>
          <p:nvSpPr>
            <p:cNvPr id="617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"/>
            <p:cNvSpPr/>
            <p:nvPr/>
          </p:nvSpPr>
          <p:spPr>
            <a:xfrm>
              <a:off x="142920" y="836640"/>
              <a:ext cx="885816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6"/>
            <p:cNvSpPr/>
            <p:nvPr/>
          </p:nvSpPr>
          <p:spPr>
            <a:xfrm>
              <a:off x="214200" y="979200"/>
              <a:ext cx="8786880" cy="51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당 등 제공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6"/>
          <p:cNvGrpSpPr/>
          <p:nvPr/>
        </p:nvGrpSpPr>
        <p:grpSpPr>
          <a:xfrm>
            <a:off x="285840" y="71280"/>
            <a:ext cx="8643960" cy="6074280"/>
            <a:chOff x="285840" y="71280"/>
            <a:chExt cx="8643960" cy="6074280"/>
          </a:xfrm>
        </p:grpSpPr>
        <p:grpSp>
          <p:nvGrpSpPr>
            <p:cNvPr id="621" name="그룹 22"/>
            <p:cNvGrpSpPr/>
            <p:nvPr/>
          </p:nvGrpSpPr>
          <p:grpSpPr>
            <a:xfrm>
              <a:off x="285840" y="821160"/>
              <a:ext cx="8643960" cy="5324400"/>
              <a:chOff x="285840" y="821160"/>
              <a:chExt cx="8643960" cy="5324400"/>
            </a:xfrm>
          </p:grpSpPr>
          <p:sp>
            <p:nvSpPr>
              <p:cNvPr id="622" name="AutoShape 2"/>
              <p:cNvSpPr/>
              <p:nvPr/>
            </p:nvSpPr>
            <p:spPr>
              <a:xfrm>
                <a:off x="285840" y="821160"/>
                <a:ext cx="8643960" cy="5324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Text Box 6"/>
              <p:cNvSpPr/>
              <p:nvPr/>
            </p:nvSpPr>
            <p:spPr>
              <a:xfrm>
                <a:off x="500040" y="95004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증질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에 국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4" name="AutoShape 4"/>
            <p:cNvSpPr/>
            <p:nvPr/>
          </p:nvSpPr>
          <p:spPr>
            <a:xfrm>
              <a:off x="357120" y="71280"/>
              <a:ext cx="5214960" cy="59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Text Box 6"/>
            <p:cNvSpPr/>
            <p:nvPr/>
          </p:nvSpPr>
          <p:spPr>
            <a:xfrm>
              <a:off x="500040" y="369432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27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28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0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285120" y="357120"/>
                <a:ext cx="8748000" cy="35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부족 및 참여저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3" name="Text Box 6"/>
            <p:cNvSpPr/>
            <p:nvPr/>
          </p:nvSpPr>
          <p:spPr>
            <a:xfrm>
              <a:off x="285480" y="4000680"/>
              <a:ext cx="87490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프로그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1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3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1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원 이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201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7.1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금 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3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백여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.9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8.9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적 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2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.2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6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이상이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적 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434640"/>
            <a:chOff x="0" y="0"/>
            <a:chExt cx="9144000" cy="643464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7280"/>
              <a:chOff x="323640" y="928440"/>
              <a:chExt cx="8606160" cy="235728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76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425760"/>
              <a:ext cx="8606160" cy="1142640"/>
              <a:chOff x="323640" y="3425760"/>
              <a:chExt cx="8606160" cy="114264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861720"/>
                <a:ext cx="860616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9258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4257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5000400"/>
              <a:ext cx="8786880" cy="1434240"/>
              <a:chOff x="357120" y="5000400"/>
              <a:chExt cx="8786880" cy="14342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424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5000400"/>
                <a:ext cx="8715600" cy="143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 고령자 고용촉진 기본계획 수립 추진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을 통해 활력 있는 장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평생직업생활 준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숙련유지 및 향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기회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사회 대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64364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324000" y="333360"/>
            <a:ext cx="8715240" cy="5975280"/>
            <a:chOff x="324000" y="333360"/>
            <a:chExt cx="8715240" cy="59752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324000" y="817200"/>
              <a:ext cx="8715240" cy="5491440"/>
              <a:chOff x="324000" y="817200"/>
              <a:chExt cx="8715240" cy="549144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324000" y="817200"/>
                <a:ext cx="8605800" cy="549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858240"/>
                <a:ext cx="8534520" cy="53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평생직업생활 준비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애경력개발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진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진로설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관리 계획 수립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지원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스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창업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친화적 노동시장 조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정년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년근로시간단축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고용연장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원금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터혁신컨설팅 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성공패키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단계에 따른 맞춤형 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적합직무 고용창출 장려금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숙련유지 및 행상 지원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내일배움카드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국가기간 전략산업 훈련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폴리텍 대학 베이비부머 양성훈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-39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새로운 일하기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사회공헌활동 지원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니어 창업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귀농귀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종합센터 운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기업 설립지원 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98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고용서비스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고용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새로일하기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자제의 장년지원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50+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생이모작지원센터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9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33336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715600" cy="6024600"/>
            <a:chOff x="214200" y="154080"/>
            <a:chExt cx="87156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715600" cy="5540760"/>
              <a:chOff x="214200" y="637920"/>
              <a:chExt cx="87156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616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53488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알선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센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 활동 연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 작업과 지역특산물 생산 위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1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4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 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의 신청자 중에서 연령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사업 참여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사회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파견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업연계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9:15:22Z</dcterms:modified>
  <cp:revision>4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