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DD9A-1C04-43E9-A050-77621FF021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BCEC-9CFF-48C7-99E4-55A007A1CFD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A446-EFCD-4283-B0DA-0242BFA50E0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4730-69F2-467F-8BB8-659A80B0FBC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1C5A-72F4-4D52-9DEF-CDCE3F383C4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2F59-78D1-4B12-80B3-FE75A8C9B8A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623BA-9754-4A54-952D-F027AB49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B116B-F508-423E-AB1B-4FB8979D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2B2AC-F045-47C1-AF9B-E3923AC2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6A688-8C22-48D5-9F76-A82356FF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1760B-B096-453D-ACB0-B364BCA7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04AFD-8569-4C0B-9977-6BD1C297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F922C-E3E0-4A68-98F6-BD529278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BCC77-2875-4DAD-8263-D8D3C7FC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2912A-E892-4164-874B-8116DEB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2451F-351D-45B9-9706-3CDC53E1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9E20C-8E58-4904-898E-F4D71F2A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B78B7-E922-449A-8FAD-53E79447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1DA33-3599-4101-A74C-7ACE21D8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9C3F7-C3AF-4F7B-9C56-AF19260A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64CFA-0F36-46EF-8344-E6D2E28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3490C-9A7F-40C7-B2C4-333502F3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DC496-B462-4145-A3B9-1378B663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4EF39-E672-4C50-93A0-D1057A15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77352-5F90-4012-B2BE-9E784693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89671D-F6C9-42EB-BECB-6C75C6AC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B2F911-FEB4-4809-85EB-33C07630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09B29E-BCB5-4952-BE51-403051E1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59BDD-F8EB-4A92-883F-CA249726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9F6AF-D5A7-4551-9862-641D852F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1A15-3508-40E2-9488-67D0628D347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9ABF-4FCA-44AA-AC77-B56C456BFB3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907C-4F62-45AB-AD46-1371E835F22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E3F5-91F9-4CA3-9245-23677CABC70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C845-591B-477B-A9B8-8F17280AA59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45FC-F690-461D-B67C-72B6E8155A2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D760-8345-4357-9A27-BED8A191A46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732B-1808-42D5-ADDA-18BB5E1A9C0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F64B-C02D-4C86-9267-18145306B06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2CF-A00F-4AC5-81BF-5C1C4583194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8200"/>
            <a:chOff x="214200" y="189000"/>
            <a:chExt cx="8929800" cy="305820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8200"/>
              <a:chOff x="285480" y="189000"/>
              <a:chExt cx="8858520" cy="305820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864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520"/>
            <a:chOff x="285840" y="119160"/>
            <a:chExt cx="8715240" cy="616752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‘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의 선택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관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68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1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5400720" cy="64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480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재인 정부의 저출산고령사회 기본계획 수정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9. 2.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함께 만들어가는 행복한 노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79-38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층적 노후소득 보장체계 내실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중년 새로운 인생출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의 다양한 사회참여 기회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중심의 건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 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한 노년기를 위한 기반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43960" cy="4500720"/>
              <a:chOff x="285840" y="71280"/>
              <a:chExt cx="864396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616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57268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편안하고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의 욕구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인 생리적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000"/>
              <a:ext cx="8606160" cy="3710520"/>
              <a:chOff x="323640" y="2565000"/>
              <a:chExt cx="8606160" cy="371052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696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례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00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의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128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7480"/>
              <a:chOff x="357120" y="285840"/>
              <a:chExt cx="8501040" cy="593748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376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,21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1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 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4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예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0.8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은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320"/>
            <a:chOff x="0" y="0"/>
            <a:chExt cx="9358200" cy="641232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440"/>
              <a:chOff x="285480" y="785520"/>
              <a:chExt cx="8572680" cy="290844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632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仁政 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을 대상으로 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待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耆老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民院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老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致仕制度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40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400"/>
              <a:ext cx="8572680" cy="2554920"/>
              <a:chOff x="285480" y="385740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40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04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6:34:53Z</dcterms:modified>
  <cp:revision>30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