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F6DA-1E6A-4B1F-ABFD-6F6227C00A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D78A-FC33-40CA-ABBC-CF009CA6209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EB2B-BA05-4CA8-AA60-855517DDD25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B3C7-FB4E-487F-B781-6989114C0E4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8CF1-7A71-4634-BBF6-33EED027812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18E47-24F1-43DB-A49C-5EB816A6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793B5-522C-410C-A812-0E208B12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345ED-B213-4F99-A337-F0D13D38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933AA-7FDF-4560-8A70-F5F7B8CC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D0485-C6F4-4EA6-8FA1-2787EBCB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EE1A7-1158-47AE-BDFA-7457D27E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977AC-BF83-45EE-A87A-536E9C31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9BBFC-130A-478D-9BD8-5B1923A4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4D8C7-E95A-47FF-BFCC-B29B2278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DA5C9-A7A6-4147-B2DC-1608DAEE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6F6EB-5F30-4151-8915-10DF5B5C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0D078-DBCD-4690-B488-645E58F8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B0A0E5-6548-45D9-B8DA-7329A871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86FECA-A0EC-46EA-AFFC-C871DBE6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0E6B98-02E4-4D7E-AB5B-AB091FB6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3004FD-4902-437D-AF9D-D2AFC675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F63E89-2411-4538-BD8C-A1C52BE9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2E9725-6FEB-4886-B5CD-1BA8C8FB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FB1187-35ED-4DDF-84E4-89CB3BB9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B64F9C-3BFA-4621-847E-F09E0AC5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CDACFA-4959-47AC-A7F6-949FA63F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918114-05B8-45E1-825D-9498689E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F81C3E-3F46-4FBF-82DD-56F70E69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0059E4-6E01-4067-BA4F-109701B9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D75E-7CB3-4F7C-8B44-EE711C168AA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5A16-2553-4954-A9DD-05B7908906A9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2D3D-BA03-4F9F-836D-EF541A229A9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3FCF-E4C1-40B5-8A53-A51CC6B6354B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F42C-55C6-4BC1-9EB3-7944051FCB7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9337-4949-46AF-9231-ABA3317DB3D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39A4-B801-43BC-837B-75DABA9CBAC8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1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11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그룹 6"/>
          <p:cNvGrpSpPr/>
          <p:nvPr/>
        </p:nvGrpSpPr>
        <p:grpSpPr>
          <a:xfrm>
            <a:off x="285840" y="214200"/>
            <a:ext cx="8831160" cy="6143760"/>
            <a:chOff x="285840" y="214200"/>
            <a:chExt cx="8831160" cy="6143760"/>
          </a:xfrm>
        </p:grpSpPr>
        <p:pic>
          <p:nvPicPr>
            <p:cNvPr id="498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643800" y="5143680"/>
              <a:ext cx="24732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AutoShape 2"/>
            <p:cNvSpPr/>
            <p:nvPr/>
          </p:nvSpPr>
          <p:spPr>
            <a:xfrm>
              <a:off x="285840" y="642600"/>
              <a:ext cx="8715600" cy="5572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0" name="그룹 10"/>
            <p:cNvGrpSpPr/>
            <p:nvPr/>
          </p:nvGrpSpPr>
          <p:grpSpPr>
            <a:xfrm>
              <a:off x="357120" y="214200"/>
              <a:ext cx="8572680" cy="5876640"/>
              <a:chOff x="357120" y="214200"/>
              <a:chExt cx="8572680" cy="5876640"/>
            </a:xfrm>
          </p:grpSpPr>
          <p:sp>
            <p:nvSpPr>
              <p:cNvPr id="501" name="AutoShape 4"/>
              <p:cNvSpPr/>
              <p:nvPr/>
            </p:nvSpPr>
            <p:spPr>
              <a:xfrm>
                <a:off x="357120" y="21420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고용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Text Box 6"/>
              <p:cNvSpPr/>
              <p:nvPr/>
            </p:nvSpPr>
            <p:spPr>
              <a:xfrm>
                <a:off x="428400" y="911160"/>
                <a:ext cx="8501400" cy="51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고용차별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업의 구조조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기퇴직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기회 제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년연장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등정년제도개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분정년제 도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제도 강화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자 생활보장 대책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고용촉진법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상 연령차별을 금지함에도 불구하고 노인 근로자 채용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연령별 기준고용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고용업체 지원 기준 완화 및 지원 수준 상향 조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기회 확대에만 초점을 둔 고용보장제도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동환경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정 임금보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산업안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복지증진 노력 거의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기회 확대와 함께 노동환경 개선 및 복지증진 정책 시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취업지원 기관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참여노인에 대한 낮은 지원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취업지원센터 등에 설치비 운영비 지원 낮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일자리 및 사회활동 지원 사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정상적 일자리 창출의 문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지원기관 지원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 참여기간과 급여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고용정보 제한과 직업능력 개발 프로그램 접근도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정보제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직업훈련기관 노인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민센터에서 취업정보센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담당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1"/>
          <p:cNvGrpSpPr/>
          <p:nvPr/>
        </p:nvGrpSpPr>
        <p:grpSpPr>
          <a:xfrm>
            <a:off x="0" y="0"/>
            <a:ext cx="9358200" cy="6472080"/>
            <a:chOff x="0" y="0"/>
            <a:chExt cx="9358200" cy="6472080"/>
          </a:xfrm>
        </p:grpSpPr>
        <p:sp>
          <p:nvSpPr>
            <p:cNvPr id="504" name="AutoShape 2"/>
            <p:cNvSpPr/>
            <p:nvPr/>
          </p:nvSpPr>
          <p:spPr>
            <a:xfrm>
              <a:off x="285480" y="1142640"/>
              <a:ext cx="8715600" cy="2214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0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5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주거보장</a:t>
              </a:r>
              <a:endParaRPr b="0" lang="en-US" sz="3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7" name="그룹 10"/>
            <p:cNvGrpSpPr/>
            <p:nvPr/>
          </p:nvGrpSpPr>
          <p:grpSpPr>
            <a:xfrm>
              <a:off x="285480" y="785520"/>
              <a:ext cx="8572680" cy="2557800"/>
              <a:chOff x="285480" y="785520"/>
              <a:chExt cx="8572680" cy="2557800"/>
            </a:xfrm>
          </p:grpSpPr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주거보장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285480" y="1336320"/>
                <a:ext cx="857268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의 건설과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와 관련된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을 전제로 정주권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소 거주면적의 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주기회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등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실현을 목적으로 하는 노인에게 적합한 주거환경 조성 노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의 방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목적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리 및 개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 융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 및 재산세 변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영주택입주 우선권 부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목적 주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운영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0" name="AutoShape 2"/>
            <p:cNvSpPr/>
            <p:nvPr/>
          </p:nvSpPr>
          <p:spPr>
            <a:xfrm>
              <a:off x="285480" y="3785040"/>
              <a:ext cx="8715600" cy="2642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1" name="그룹 10"/>
            <p:cNvGrpSpPr/>
            <p:nvPr/>
          </p:nvGrpSpPr>
          <p:grpSpPr>
            <a:xfrm>
              <a:off x="285480" y="3428640"/>
              <a:ext cx="8572680" cy="3043440"/>
              <a:chOff x="285480" y="3428640"/>
              <a:chExt cx="8572680" cy="3043440"/>
            </a:xfrm>
          </p:grpSpPr>
          <p:sp>
            <p:nvSpPr>
              <p:cNvPr id="512" name="AutoShape 4"/>
              <p:cNvSpPr/>
              <p:nvPr/>
            </p:nvSpPr>
            <p:spPr>
              <a:xfrm>
                <a:off x="356760" y="342864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현행 주거보장 체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285480" y="3999960"/>
                <a:ext cx="857268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 무주택 재가노인 주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 업무 국토교통부에서 주관하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분야 연구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재가노인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임대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공동생활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급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부양 자녀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 세대주에 대한 주택자금할증융자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자녀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계존속 부양시 주택분양우선권 제도로 노인주거보장정책으로는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담보 노후생활자금 연금형태 지급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8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유농지 담보로 정액종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기간정액형 등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가지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285840" y="142920"/>
            <a:ext cx="8715240" cy="6215040"/>
            <a:chOff x="285840" y="142920"/>
            <a:chExt cx="8715240" cy="6215040"/>
          </a:xfrm>
        </p:grpSpPr>
        <p:pic>
          <p:nvPicPr>
            <p:cNvPr id="515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500880" y="4857840"/>
              <a:ext cx="2473200" cy="14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AutoShape 2"/>
            <p:cNvSpPr/>
            <p:nvPr/>
          </p:nvSpPr>
          <p:spPr>
            <a:xfrm>
              <a:off x="285840" y="57132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7" name="그룹 10"/>
            <p:cNvGrpSpPr/>
            <p:nvPr/>
          </p:nvGrpSpPr>
          <p:grpSpPr>
            <a:xfrm>
              <a:off x="357120" y="142920"/>
              <a:ext cx="8572680" cy="6049080"/>
              <a:chOff x="357120" y="142920"/>
              <a:chExt cx="8572680" cy="6049080"/>
            </a:xfrm>
          </p:grpSpPr>
          <p:sp>
            <p:nvSpPr>
              <p:cNvPr id="518" name="AutoShape 4"/>
              <p:cNvSpPr/>
              <p:nvPr/>
            </p:nvSpPr>
            <p:spPr>
              <a:xfrm>
                <a:off x="357120" y="14292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주거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428400" y="839520"/>
                <a:ext cx="8501400" cy="53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주택 노인과 부양자녀 주택공급에 치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계획주거 인식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 적합주택 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택개조비 지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 수급자격 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 노인을 위한 주거지원정책 부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임대주택공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집단가정이 전부이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지원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보조와 할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산세 면제 등 지원책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주거시설 공급 제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장기요양보험제도의 시행으로 중증환자 위주로 시설 입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여유 있는 노인을 위한 노인전용 주거시설 확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단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간 설치 운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점과 개선방안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에서 이미 논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주거보장 관련 연구 부족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축학 등 산발적 연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다분야의 구체적이고 다양한 연구 활성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12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sp>
          <p:nvSpPr>
            <p:cNvPr id="521" name="AutoShape 2"/>
            <p:cNvSpPr/>
            <p:nvPr/>
          </p:nvSpPr>
          <p:spPr>
            <a:xfrm>
              <a:off x="428400" y="1143000"/>
              <a:ext cx="84297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2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건강보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4" name="AutoShape 2"/>
            <p:cNvSpPr/>
            <p:nvPr/>
          </p:nvSpPr>
          <p:spPr>
            <a:xfrm>
              <a:off x="428400" y="3959280"/>
              <a:ext cx="8429760" cy="2469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5" name="AutoShape 4"/>
            <p:cNvSpPr/>
            <p:nvPr/>
          </p:nvSpPr>
          <p:spPr>
            <a:xfrm>
              <a:off x="428400" y="78552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건강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6" name="Text Box 6"/>
            <p:cNvSpPr/>
            <p:nvPr/>
          </p:nvSpPr>
          <p:spPr>
            <a:xfrm>
              <a:off x="500040" y="3959280"/>
              <a:ext cx="8501040" cy="24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해 등으로 소요되는 비용이나 수입감사에 대한 보상을 목적으로 하는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험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무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장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77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81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국민건강보험제도로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요내용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9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보험 이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진료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8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천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진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당 진료일수와 진료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원일수 등의 주요 지표 지속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의료비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2005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5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→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1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,64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8.0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7" name="직사각형 11"/>
            <p:cNvSpPr/>
            <p:nvPr/>
          </p:nvSpPr>
          <p:spPr>
            <a:xfrm>
              <a:off x="428400" y="36432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국민건강보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8" name="Text Box 6"/>
            <p:cNvSpPr/>
            <p:nvPr/>
          </p:nvSpPr>
          <p:spPr>
            <a:xfrm>
              <a:off x="428400" y="1214280"/>
              <a:ext cx="8429760" cy="18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medical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용어가 사용되지만 질병치료 등의 소극적 의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처럼 건강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health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라는 용어가 타당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망 등의 요인으로 인한 생활불안을 예방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미 발생한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와 신체 및 정신적 건강생활을 유지할 수  있도록 국가가 개입하여 보장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주는 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방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적 부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9" name="AutoShape 4"/>
            <p:cNvSpPr/>
            <p:nvPr/>
          </p:nvSpPr>
          <p:spPr>
            <a:xfrm>
              <a:off x="428400" y="321480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건강보장 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그룹 7"/>
          <p:cNvGrpSpPr/>
          <p:nvPr/>
        </p:nvGrpSpPr>
        <p:grpSpPr>
          <a:xfrm>
            <a:off x="428760" y="58680"/>
            <a:ext cx="8572320" cy="6370560"/>
            <a:chOff x="428760" y="58680"/>
            <a:chExt cx="8572320" cy="6370560"/>
          </a:xfrm>
        </p:grpSpPr>
        <p:sp>
          <p:nvSpPr>
            <p:cNvPr id="531" name="AutoShape 2"/>
            <p:cNvSpPr/>
            <p:nvPr/>
          </p:nvSpPr>
          <p:spPr>
            <a:xfrm>
              <a:off x="428760" y="387000"/>
              <a:ext cx="8429760" cy="1326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Text Box 6"/>
            <p:cNvSpPr/>
            <p:nvPr/>
          </p:nvSpPr>
          <p:spPr>
            <a:xfrm>
              <a:off x="500040" y="387000"/>
              <a:ext cx="8501040" cy="13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저소득 국민에 대해 국가재정으로 의료문제 해결 보장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호제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979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의료급여제도로 전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본인부담 도입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외래진료 본인부담액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,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국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-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병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,500-2,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1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여명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,35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 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5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급여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4.7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직사각형 3"/>
            <p:cNvSpPr/>
            <p:nvPr/>
          </p:nvSpPr>
          <p:spPr>
            <a:xfrm>
              <a:off x="428760" y="58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의료급여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AutoShape 2"/>
            <p:cNvSpPr/>
            <p:nvPr/>
          </p:nvSpPr>
          <p:spPr>
            <a:xfrm>
              <a:off x="428760" y="2130120"/>
              <a:ext cx="8429760" cy="4299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5" name="Text Box 6"/>
            <p:cNvSpPr/>
            <p:nvPr/>
          </p:nvSpPr>
          <p:spPr>
            <a:xfrm>
              <a:off x="500040" y="2196720"/>
              <a:ext cx="8459640" cy="41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01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진단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8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수급자 노인 중 희망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1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진단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3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애전환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6,40,66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검진과 연계 시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실명예방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0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실명예방재단 주관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내장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망막질환 개안수술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초수급자 등에 한해 본인부담금 전액 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무릎인공관절 수술 지원사업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기초수급자 등에 검사비 등 최대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2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 지원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안심센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담 및 등록관리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조기검진 및 예빵괸리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환자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쉼터운영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가족 지원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인식개선 및 교육홍보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노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년후견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안심센터 운영실적관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운영모델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0.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조직구성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201"/>
                </a:spcBef>
                <a:buClr>
                  <a:srgbClr val="181373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검진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선별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＋진단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＋감별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용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치료관리비 지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저소득 치매노인 약제 및 진료비 연 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36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실종노인 발생예방 및 찾기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배회가능 노인 인식표 배부사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공립치매요양병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법 제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의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98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비비 지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로식당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99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결식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181373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결식노인 무료급식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식사배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: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지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5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저소득노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명 이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관 등의 영양개선 및 운동관리프로그램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건보공단의 경로당 등의 노인운동지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직사각형 6"/>
            <p:cNvSpPr/>
            <p:nvPr/>
          </p:nvSpPr>
          <p:spPr>
            <a:xfrm>
              <a:off x="428760" y="1785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노인건강지원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8"/>
          <p:cNvGrpSpPr/>
          <p:nvPr/>
        </p:nvGrpSpPr>
        <p:grpSpPr>
          <a:xfrm>
            <a:off x="428760" y="500040"/>
            <a:ext cx="8572320" cy="5429160"/>
            <a:chOff x="428760" y="500040"/>
            <a:chExt cx="8572320" cy="5429160"/>
          </a:xfrm>
        </p:grpSpPr>
        <p:grpSp>
          <p:nvGrpSpPr>
            <p:cNvPr id="538" name="그룹 6"/>
            <p:cNvGrpSpPr/>
            <p:nvPr/>
          </p:nvGrpSpPr>
          <p:grpSpPr>
            <a:xfrm>
              <a:off x="428760" y="500040"/>
              <a:ext cx="8572320" cy="1214280"/>
              <a:chOff x="428760" y="500040"/>
              <a:chExt cx="8572320" cy="121428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428760" y="887400"/>
                <a:ext cx="8429760" cy="826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Text Box 6"/>
              <p:cNvSpPr/>
              <p:nvPr/>
            </p:nvSpPr>
            <p:spPr>
              <a:xfrm>
                <a:off x="500040" y="898560"/>
                <a:ext cx="850104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책방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매장 억제 및 화장 등의 장려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민인식개선 통한 장사문화개선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과 문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률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3%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시설 부족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서비스 불친절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시설 설치 반대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직사각형 3"/>
              <p:cNvSpPr/>
              <p:nvPr/>
            </p:nvSpPr>
            <p:spPr>
              <a:xfrm>
                <a:off x="428760" y="500040"/>
                <a:ext cx="621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장사서비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2" name="AutoShape 2"/>
            <p:cNvSpPr/>
            <p:nvPr/>
          </p:nvSpPr>
          <p:spPr>
            <a:xfrm>
              <a:off x="428760" y="2714400"/>
              <a:ext cx="842976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부터 정책과제로 검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간의 시범사업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법의 제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7. 4.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을 통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8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부터 시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산재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용보험에 이은 다섯번째 사회보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성 질환 등으로 일상생활을 혼자서 수행하기 어려운 노인에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이나 시설에서 요양서비스를 제공하여 노후의 건강증진 및 생활안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도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의 부양부담 경감을 도모하는 사회보험제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u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다는 중증환자의 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a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중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 시에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의 적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3" name="AutoShape 4"/>
            <p:cNvSpPr/>
            <p:nvPr/>
          </p:nvSpPr>
          <p:spPr>
            <a:xfrm>
              <a:off x="428760" y="2071440"/>
              <a:ext cx="371448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장기요양보험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그룹 7"/>
          <p:cNvGrpSpPr/>
          <p:nvPr/>
        </p:nvGrpSpPr>
        <p:grpSpPr>
          <a:xfrm>
            <a:off x="214200" y="214200"/>
            <a:ext cx="8858520" cy="6015240"/>
            <a:chOff x="214200" y="214200"/>
            <a:chExt cx="8858520" cy="6015240"/>
          </a:xfrm>
        </p:grpSpPr>
        <p:sp>
          <p:nvSpPr>
            <p:cNvPr id="545" name="AutoShape 2"/>
            <p:cNvSpPr/>
            <p:nvPr/>
          </p:nvSpPr>
          <p:spPr>
            <a:xfrm>
              <a:off x="214200" y="3000240"/>
              <a:ext cx="8787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AutoShape 2"/>
            <p:cNvSpPr/>
            <p:nvPr/>
          </p:nvSpPr>
          <p:spPr>
            <a:xfrm>
              <a:off x="214200" y="642600"/>
              <a:ext cx="8787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Text Box 6"/>
            <p:cNvSpPr/>
            <p:nvPr/>
          </p:nvSpPr>
          <p:spPr>
            <a:xfrm>
              <a:off x="285480" y="649440"/>
              <a:ext cx="8787240" cy="17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적용대상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전국민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 가입자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대상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등급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-5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지지원등급을 받은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5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상 노인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4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하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성 질환자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en-US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표 </a:t>
              </a:r>
              <a:r>
                <a:rPr b="0" lang="en-US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1-11 </a:t>
              </a:r>
              <a:r>
                <a:rPr b="0" lang="ko-KR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참조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, 2019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월 현재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65+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구의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9%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가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 등급 인정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8" name="직사각형 3"/>
            <p:cNvSpPr/>
            <p:nvPr/>
          </p:nvSpPr>
          <p:spPr>
            <a:xfrm>
              <a:off x="285480" y="21420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대상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직사각형 4"/>
            <p:cNvSpPr/>
            <p:nvPr/>
          </p:nvSpPr>
          <p:spPr>
            <a:xfrm>
              <a:off x="285480" y="257472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인정 및 이용절차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Text Box 6"/>
            <p:cNvSpPr/>
            <p:nvPr/>
          </p:nvSpPr>
          <p:spPr>
            <a:xfrm>
              <a:off x="285480" y="3087360"/>
              <a:ext cx="878724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 신청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건강보험 지사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신청서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소견서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조사항목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2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판정절차와 등급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1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방문조사결과 입력하여 장기요양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정점수 산출 </a:t>
              </a:r>
              <a:r>
                <a:rPr b="0" lang="en-US" sz="2000" spc="-1" strike="noStrike">
                  <a:solidFill>
                    <a:srgbClr val="163e6a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장기요양등급판정위원회에서 심사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판정 수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 장기요양인정서와 표준장기요양이용계획서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지하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1-5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또는 인지지원등급은 재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/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서비스 신청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계약 이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 이용절차 및 관리운영체계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그룹 5"/>
          <p:cNvGrpSpPr/>
          <p:nvPr/>
        </p:nvGrpSpPr>
        <p:grpSpPr>
          <a:xfrm>
            <a:off x="214200" y="360360"/>
            <a:ext cx="8786880" cy="5854680"/>
            <a:chOff x="214200" y="360360"/>
            <a:chExt cx="8786880" cy="5854680"/>
          </a:xfrm>
        </p:grpSpPr>
        <p:sp>
          <p:nvSpPr>
            <p:cNvPr id="552" name="AutoShape 2"/>
            <p:cNvSpPr/>
            <p:nvPr/>
          </p:nvSpPr>
          <p:spPr>
            <a:xfrm>
              <a:off x="214200" y="785520"/>
              <a:ext cx="878688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Text Box 6"/>
            <p:cNvSpPr/>
            <p:nvPr/>
          </p:nvSpPr>
          <p:spPr>
            <a:xfrm>
              <a:off x="285480" y="928440"/>
              <a:ext cx="8572680" cy="48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국가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보험료 예상수입액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)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수급권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본인부담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위원회에서 결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2012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건강보험료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×6.55%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건강보험료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합 납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본인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재가급여는 비용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%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초수급권자는 면제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와 건보료 순위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0-60%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감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비급여 항목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미용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상급침실 이용비 등은 전액 본인 부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급여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설종류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1,820-69,15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 참조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특별현금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가족요양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4,12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-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3,94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간에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9,160-56,89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9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5,140-55,71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량이용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72,54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미이용시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0,84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간호서비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5,230-53,17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복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용구 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연간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6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63e6a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가급여 월한도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456,4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240,7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980,8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이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직사각형 4"/>
            <p:cNvSpPr/>
            <p:nvPr/>
          </p:nvSpPr>
          <p:spPr>
            <a:xfrm>
              <a:off x="285480" y="3603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재정 및 급여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그룹 4"/>
          <p:cNvGrpSpPr/>
          <p:nvPr/>
        </p:nvGrpSpPr>
        <p:grpSpPr>
          <a:xfrm>
            <a:off x="142920" y="357120"/>
            <a:ext cx="8786880" cy="5786640"/>
            <a:chOff x="142920" y="357120"/>
            <a:chExt cx="8786880" cy="5786640"/>
          </a:xfrm>
        </p:grpSpPr>
        <p:sp>
          <p:nvSpPr>
            <p:cNvPr id="556" name="AutoShape 2"/>
            <p:cNvSpPr/>
            <p:nvPr/>
          </p:nvSpPr>
          <p:spPr>
            <a:xfrm>
              <a:off x="142920" y="785520"/>
              <a:ext cx="8786880" cy="5358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Text Box 6"/>
            <p:cNvSpPr/>
            <p:nvPr/>
          </p:nvSpPr>
          <p:spPr>
            <a:xfrm>
              <a:off x="285480" y="1152360"/>
              <a:ext cx="8572680" cy="46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중앙 및 지방정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건강보험공단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의 역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존 노인복지법에 의해 설립된 재가 및 의료복지시설은 시군구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 받아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법에 의거 설치된 기관은 별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절차가 필요 없으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을 받지 않으면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 청구 못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의 폐업 또는 휴업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예정일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전까지 건강보험공단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신고서 제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 기준 부적합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 학대 등을 이유로 시군구청장은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경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영업정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폐쇄명령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취소 등의 조치 취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요원은 요양보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조무사 및 치과위생사 등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자격을 갖추어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요양보호사 교육과정은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제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c00000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직사각형 6"/>
            <p:cNvSpPr/>
            <p:nvPr/>
          </p:nvSpPr>
          <p:spPr>
            <a:xfrm>
              <a:off x="285480" y="357120"/>
              <a:ext cx="62150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관리운영체계</a:t>
              </a: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그룹 6"/>
          <p:cNvGrpSpPr/>
          <p:nvPr/>
        </p:nvGrpSpPr>
        <p:grpSpPr>
          <a:xfrm>
            <a:off x="285840" y="71280"/>
            <a:ext cx="8858160" cy="6357960"/>
            <a:chOff x="285840" y="71280"/>
            <a:chExt cx="8858160" cy="6357960"/>
          </a:xfrm>
        </p:grpSpPr>
        <p:sp>
          <p:nvSpPr>
            <p:cNvPr id="560" name="AutoShape 2"/>
            <p:cNvSpPr/>
            <p:nvPr/>
          </p:nvSpPr>
          <p:spPr>
            <a:xfrm>
              <a:off x="285840" y="499680"/>
              <a:ext cx="871560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AutoShape 4"/>
            <p:cNvSpPr/>
            <p:nvPr/>
          </p:nvSpPr>
          <p:spPr>
            <a:xfrm>
              <a:off x="357120" y="71280"/>
              <a:ext cx="54007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건강보장의 문제점과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Text Box 6"/>
            <p:cNvSpPr/>
            <p:nvPr/>
          </p:nvSpPr>
          <p:spPr>
            <a:xfrm>
              <a:off x="428400" y="714240"/>
              <a:ext cx="8715600" cy="56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로 인한 국가재정 위기 가능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료이용 증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수가 인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병원비용 증가 등으로 인한 노인의료비 급격한 증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인 건강증진 및 예방사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본인부담금 할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입원 억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보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가개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시설과 서비스에 대한 감독 강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보호시설 접근성의 차별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의료기관 도시집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농촌 순회 진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소 기능강화 등 공공보건체계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시설 및 재가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기관 확대 설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건강지원사업의 실효성 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저소득 노인에 국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치매상담센터 운영비 지원부족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수준 향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인력 확보와 운영비 지원 확대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매</a:t>
              </a:r>
              <a:r>
                <a:rPr b="1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증질환 노인가족에 대한 지원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환자의 치료와 보호에 치중된 건강보장 체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가족 건강지원서비스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증환자 가족 부양수당 지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장기요양보험제도의 문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 체계 미구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기교육 인력활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등급판정의 공정성 문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기요양요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 노동조건 악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일부 기관의 부당청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돌봄서비스와 주거복지시설 연계 미흡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행 초기 제도상의 문제점 지속 보완 필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소득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고용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주거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건강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회서비스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57200" y="274680"/>
            <a:ext cx="7858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11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그룹 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sp>
          <p:nvSpPr>
            <p:cNvPr id="564" name="AutoShape 2"/>
            <p:cNvSpPr/>
            <p:nvPr/>
          </p:nvSpPr>
          <p:spPr>
            <a:xfrm>
              <a:off x="285480" y="1571760"/>
              <a:ext cx="8572680" cy="4714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6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회서비스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7" name="AutoShape 4"/>
            <p:cNvSpPr/>
            <p:nvPr/>
          </p:nvSpPr>
          <p:spPr>
            <a:xfrm>
              <a:off x="428400" y="928440"/>
              <a:ext cx="3643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사회서비스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8" name="Text Box 6"/>
            <p:cNvSpPr/>
            <p:nvPr/>
          </p:nvSpPr>
          <p:spPr>
            <a:xfrm>
              <a:off x="428400" y="1643040"/>
              <a:ext cx="8358120" cy="45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심리사회적 적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발달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상생활 문제해결을 위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화폐적 서비스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로도 불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방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근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양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프로그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서비스 제공장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보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원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도 제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위 유지를 위한 지원 기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적 서비스의 장애요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client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를 수치로 생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 침해 우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제공자의 노인 이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제공자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차별적 시각과 부정적 감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달체계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보부재로 인한 전달체계와의 단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낮은 접근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부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그룹 8"/>
          <p:cNvGrpSpPr/>
          <p:nvPr/>
        </p:nvGrpSpPr>
        <p:grpSpPr>
          <a:xfrm>
            <a:off x="142920" y="139680"/>
            <a:ext cx="9001080" cy="6147000"/>
            <a:chOff x="142920" y="139680"/>
            <a:chExt cx="9001080" cy="6147000"/>
          </a:xfrm>
        </p:grpSpPr>
        <p:sp>
          <p:nvSpPr>
            <p:cNvPr id="570" name="AutoShape 4"/>
            <p:cNvSpPr/>
            <p:nvPr/>
          </p:nvSpPr>
          <p:spPr>
            <a:xfrm>
              <a:off x="214200" y="139680"/>
              <a:ext cx="428616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행 사회서비스 체계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1" name="AutoShape 2"/>
            <p:cNvSpPr/>
            <p:nvPr/>
          </p:nvSpPr>
          <p:spPr>
            <a:xfrm>
              <a:off x="142920" y="1214280"/>
              <a:ext cx="8858520" cy="28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2" name="Text Box 6"/>
            <p:cNvSpPr/>
            <p:nvPr/>
          </p:nvSpPr>
          <p:spPr>
            <a:xfrm>
              <a:off x="214200" y="1214280"/>
              <a:ext cx="8786880" cy="28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는 서비스의 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에서 제공하는 모든 비화폐적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내용으로는 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 등의 여가와 사회참여 지원 서비스 포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보험 시행과 함께 재가노인복지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간호 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건강보장 급여로 분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따라서 노인복지서비스는 노인돌봄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생교육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참여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권익보호서비스로 한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직사각형 16"/>
            <p:cNvSpPr/>
            <p:nvPr/>
          </p:nvSpPr>
          <p:spPr>
            <a:xfrm>
              <a:off x="214200" y="7855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서비스의 범위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2"/>
            <p:cNvSpPr/>
            <p:nvPr/>
          </p:nvSpPr>
          <p:spPr>
            <a:xfrm>
              <a:off x="142920" y="4681800"/>
              <a:ext cx="8858520" cy="1604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Text Box 6"/>
            <p:cNvSpPr/>
            <p:nvPr/>
          </p:nvSpPr>
          <p:spPr>
            <a:xfrm>
              <a:off x="357120" y="4822920"/>
              <a:ext cx="8786880" cy="14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3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립생활 영위가 어려운 노인과 독거노인에게 욕구에 따라 안전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활동 지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간보호서비스 등의 맞춤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8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구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돌봄기본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응급안전알림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가노인사랑잇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무연고 독거노인 장례지원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공동생활 홈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관계 활성화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돌봄종합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6" name="직사각형 19"/>
            <p:cNvSpPr/>
            <p:nvPr/>
          </p:nvSpPr>
          <p:spPr>
            <a:xfrm>
              <a:off x="214200" y="42465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돌봄서비스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그룹 1"/>
          <p:cNvGrpSpPr/>
          <p:nvPr/>
        </p:nvGrpSpPr>
        <p:grpSpPr>
          <a:xfrm>
            <a:off x="106200" y="-19080"/>
            <a:ext cx="8930160" cy="6612120"/>
            <a:chOff x="106200" y="-19080"/>
            <a:chExt cx="8930160" cy="6612120"/>
          </a:xfrm>
        </p:grpSpPr>
        <p:sp>
          <p:nvSpPr>
            <p:cNvPr id="578" name="AutoShape 2"/>
            <p:cNvSpPr/>
            <p:nvPr/>
          </p:nvSpPr>
          <p:spPr>
            <a:xfrm>
              <a:off x="356040" y="3071880"/>
              <a:ext cx="8643960" cy="984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9" name="AutoShape 2"/>
            <p:cNvSpPr/>
            <p:nvPr/>
          </p:nvSpPr>
          <p:spPr>
            <a:xfrm>
              <a:off x="356040" y="428400"/>
              <a:ext cx="8643960" cy="2119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Text Box 6"/>
            <p:cNvSpPr/>
            <p:nvPr/>
          </p:nvSpPr>
          <p:spPr>
            <a:xfrm>
              <a:off x="356040" y="-19080"/>
              <a:ext cx="8572680" cy="26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돌봄기본서비스</a:t>
              </a:r>
              <a:r>
                <a:rPr b="0" lang="en-US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거노인의 안전확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연계 및 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생활교육을 제공해 사회안전망 구축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대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수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양의무자 유무 등에 관계없이 홀로 사는 노인으로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상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주거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접촉 등의 수준을 평가하여 서비스 욕구가 높은 노인 선정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 방법 활용한 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황조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&gt;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욕구사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&gt;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인별 서비스 계획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립 → 맞춤형 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안전확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생활교육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연계 및 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인력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돌봄서비스 관리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+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생활관리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비용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무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급자 지원방식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2"/>
            <p:cNvSpPr/>
            <p:nvPr/>
          </p:nvSpPr>
          <p:spPr>
            <a:xfrm>
              <a:off x="213120" y="4462200"/>
              <a:ext cx="8786880" cy="2130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Text Box 6"/>
            <p:cNvSpPr/>
            <p:nvPr/>
          </p:nvSpPr>
          <p:spPr>
            <a:xfrm>
              <a:off x="284760" y="4005000"/>
              <a:ext cx="8644320" cy="256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 </a:t>
              </a: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독거노인공동생활 홈서비스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농촌지역 독거노인을 위해 마을회관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등을 개보수 신축하여 독거노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동생활을 지원함으로써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고독사 예방 및 취약한 주거화경 등의 문제 해소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도시지역 독거노인을 위해 주거지없거나 주거가 열악한 저소득 노인이 다가구 주택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등에서 공동생활할 수 있도록 임대료 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유형에 따라 안부확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서비스 연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밑반찬 배달 등 서비스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자체의 자체 운영 또는 조례 제정으로 실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직사각형 7"/>
            <p:cNvSpPr/>
            <p:nvPr/>
          </p:nvSpPr>
          <p:spPr>
            <a:xfrm>
              <a:off x="1792080" y="2700000"/>
              <a:ext cx="57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독거노인 응급안전알림서비스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사랑잇기서비스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무연고 독거노인 장례지원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6"/>
            <p:cNvSpPr/>
            <p:nvPr/>
          </p:nvSpPr>
          <p:spPr>
            <a:xfrm>
              <a:off x="106200" y="3020040"/>
              <a:ext cx="893016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응급안전알림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화재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활동감지센서 이용 응급구조 정보시스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사랑잇기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;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 및 민간콜센터 자원봉사자가 주 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-3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회 안부확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말벗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무연고 독거노인 장례지원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생활관리사가 상주로서 최소한의 장례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그룹 10"/>
          <p:cNvGrpSpPr/>
          <p:nvPr/>
        </p:nvGrpSpPr>
        <p:grpSpPr>
          <a:xfrm>
            <a:off x="214200" y="284040"/>
            <a:ext cx="8786880" cy="5742360"/>
            <a:chOff x="214200" y="284040"/>
            <a:chExt cx="8786880" cy="5742360"/>
          </a:xfrm>
        </p:grpSpPr>
        <p:sp>
          <p:nvSpPr>
            <p:cNvPr id="586" name="AutoShape 2"/>
            <p:cNvSpPr/>
            <p:nvPr/>
          </p:nvSpPr>
          <p:spPr>
            <a:xfrm>
              <a:off x="357120" y="731520"/>
              <a:ext cx="8643960" cy="1696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7" name="Text Box 6"/>
            <p:cNvSpPr/>
            <p:nvPr/>
          </p:nvSpPr>
          <p:spPr>
            <a:xfrm>
              <a:off x="356760" y="284040"/>
              <a:ext cx="8572680" cy="19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독거노인 사회관계 활성화 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의 절친한 친구관계 형성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우울증 경감과 자살예방을 위한 상호돌봄체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구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집단유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은둔형 고독사위험군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활동제한형 자살위험군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우울형 자살위험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업내용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례괸리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우울증 진단과 투약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집단정신치료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집단활동 프로그램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자조모임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8"/>
            <p:cNvGrpSpPr/>
            <p:nvPr/>
          </p:nvGrpSpPr>
          <p:grpSpPr>
            <a:xfrm>
              <a:off x="214200" y="2796120"/>
              <a:ext cx="8786880" cy="3230280"/>
              <a:chOff x="214200" y="2796120"/>
              <a:chExt cx="8786880" cy="3230280"/>
            </a:xfrm>
          </p:grpSpPr>
          <p:sp>
            <p:nvSpPr>
              <p:cNvPr id="589" name="AutoShape 2"/>
              <p:cNvSpPr/>
              <p:nvPr/>
            </p:nvSpPr>
            <p:spPr>
              <a:xfrm>
                <a:off x="214200" y="3300120"/>
                <a:ext cx="8786880" cy="2721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Text Box 6"/>
              <p:cNvSpPr/>
              <p:nvPr/>
            </p:nvSpPr>
            <p:spPr>
              <a:xfrm>
                <a:off x="285480" y="2796120"/>
                <a:ext cx="8644320" cy="32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 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노인돌봄종합서비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20000"/>
                  </a:lnSpc>
                  <a:spcBef>
                    <a:spcPts val="15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상생활을 영위하기 어려운 노인에게 가사지원 및 활동지원서비스를 제공하여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정된 노후생활 보장과 가족의 사회경제적 활동기반 조성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대상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득기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구 중위소득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160%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이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과 건강상태 기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기요양 등급외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A, B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이용절차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청 → 방문조사 → 서비스 대상 확정 → 개인별 서비스 계획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수립 → 이용 계약 체결 → 맞춤 방문서비스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야간보호서비스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단기가사서비스 등 이용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인력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돌보미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호사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급 이상 자격 소지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비용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득수준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종류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이용일수와 시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득에 따라 무료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정 금액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본인부담금 선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원금액은 전자식 바우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85%)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급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그룹 10"/>
          <p:cNvGrpSpPr/>
          <p:nvPr/>
        </p:nvGrpSpPr>
        <p:grpSpPr>
          <a:xfrm>
            <a:off x="142920" y="146160"/>
            <a:ext cx="8858160" cy="6171120"/>
            <a:chOff x="142920" y="146160"/>
            <a:chExt cx="8858160" cy="6171120"/>
          </a:xfrm>
        </p:grpSpPr>
        <p:grpSp>
          <p:nvGrpSpPr>
            <p:cNvPr id="592" name="그룹 12"/>
            <p:cNvGrpSpPr/>
            <p:nvPr/>
          </p:nvGrpSpPr>
          <p:grpSpPr>
            <a:xfrm>
              <a:off x="142920" y="642960"/>
              <a:ext cx="8858160" cy="500040"/>
              <a:chOff x="142920" y="642960"/>
              <a:chExt cx="8858160" cy="500040"/>
            </a:xfrm>
          </p:grpSpPr>
          <p:sp>
            <p:nvSpPr>
              <p:cNvPr id="593" name="AutoShape 2"/>
              <p:cNvSpPr/>
              <p:nvPr/>
            </p:nvSpPr>
            <p:spPr>
              <a:xfrm>
                <a:off x="142920" y="642960"/>
                <a:ext cx="885816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Text Box 6"/>
              <p:cNvSpPr/>
              <p:nvPr/>
            </p:nvSpPr>
            <p:spPr>
              <a:xfrm>
                <a:off x="214200" y="714240"/>
                <a:ext cx="878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여가복지시설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경로당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관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교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5" name="직사각형 3"/>
            <p:cNvSpPr/>
            <p:nvPr/>
          </p:nvSpPr>
          <p:spPr>
            <a:xfrm>
              <a:off x="142920" y="146160"/>
              <a:ext cx="6215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여가 지원서비스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AutoShape 2"/>
            <p:cNvSpPr/>
            <p:nvPr/>
          </p:nvSpPr>
          <p:spPr>
            <a:xfrm>
              <a:off x="142920" y="1388880"/>
              <a:ext cx="8858160" cy="274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7" name="Text Box 6"/>
            <p:cNvSpPr/>
            <p:nvPr/>
          </p:nvSpPr>
          <p:spPr>
            <a:xfrm>
              <a:off x="214200" y="1388880"/>
              <a:ext cx="8786880" cy="27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로당 활성화 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노인 친목도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취미활동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동작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보교환 장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현황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6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천여 개소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규모시설과 재정열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편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순소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운영지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난방연료비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월 운영비 지원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모범경로당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활성화사업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관과 연계하여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참여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화정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 및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욕구평가 사업을실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정보센터와 학대노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킴이센터로서의 기능 수행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공동작업장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공동생활홈서비스 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로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당순회프로그램지도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군구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 지도 및 연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광역지원센터 운영 및 모범경로당 선정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8" name="AutoShape 2"/>
            <p:cNvSpPr/>
            <p:nvPr/>
          </p:nvSpPr>
          <p:spPr>
            <a:xfrm>
              <a:off x="142920" y="4291200"/>
              <a:ext cx="8858160" cy="1995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9" name="Text Box 6"/>
            <p:cNvSpPr/>
            <p:nvPr/>
          </p:nvSpPr>
          <p:spPr>
            <a:xfrm>
              <a:off x="214200" y="4318200"/>
              <a:ext cx="8786880" cy="19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교양ㆍ취미생활 및 사회참여활동 등에 대한 각종 정보와 서비스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하고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 및 질병예방과 소득보장ㆍ재가복지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그 밖에 노인의 복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에 필요한 서비스를 제공함을 목적으로 하는 노인여가복지시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면적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00m2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무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식당 및 조리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실 또는 강당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화장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리치료실 또는 건강증진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상재해대비시설 각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 이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그룹 10"/>
          <p:cNvGrpSpPr/>
          <p:nvPr/>
        </p:nvGrpSpPr>
        <p:grpSpPr>
          <a:xfrm>
            <a:off x="142920" y="214200"/>
            <a:ext cx="8858160" cy="6069240"/>
            <a:chOff x="142920" y="214200"/>
            <a:chExt cx="8858160" cy="6069240"/>
          </a:xfrm>
        </p:grpSpPr>
        <p:sp>
          <p:nvSpPr>
            <p:cNvPr id="601" name="AutoShape 2"/>
            <p:cNvSpPr/>
            <p:nvPr/>
          </p:nvSpPr>
          <p:spPr>
            <a:xfrm>
              <a:off x="142920" y="214200"/>
              <a:ext cx="8858160" cy="3857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2" name="Text Box 6"/>
            <p:cNvSpPr/>
            <p:nvPr/>
          </p:nvSpPr>
          <p:spPr>
            <a:xfrm>
              <a:off x="214200" y="257040"/>
              <a:ext cx="8748720" cy="37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명과 비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mission)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공적 노후생활 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전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vision)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한 노후를 위한 예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케어 기반구축 및 확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활동적인 노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를 위한 사회참여 여건조성 및 활성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안정적 노후를 위한 소득보장의 다양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와 내실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원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립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책임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본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평생교육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취미여가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지원사업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택사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용 및 소득지원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복지연계사업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대상과 기능별 주요 사업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4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재정 및 인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초자치단체 규모 등에 따라 차등지원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별도 인력배치 기준 없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3" name="그룹 5"/>
            <p:cNvGrpSpPr/>
            <p:nvPr/>
          </p:nvGrpSpPr>
          <p:grpSpPr>
            <a:xfrm>
              <a:off x="142920" y="4071960"/>
              <a:ext cx="8858160" cy="2211480"/>
              <a:chOff x="142920" y="4071960"/>
              <a:chExt cx="8858160" cy="2211480"/>
            </a:xfrm>
          </p:grpSpPr>
          <p:sp>
            <p:nvSpPr>
              <p:cNvPr id="604" name="직사각형 6"/>
              <p:cNvSpPr/>
              <p:nvPr/>
            </p:nvSpPr>
            <p:spPr>
              <a:xfrm>
                <a:off x="142920" y="407196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평생교육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5" name="AutoShape 2"/>
              <p:cNvSpPr/>
              <p:nvPr/>
            </p:nvSpPr>
            <p:spPr>
              <a:xfrm>
                <a:off x="142920" y="4497480"/>
                <a:ext cx="8858160" cy="1785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6" name="Text Box 6"/>
              <p:cNvSpPr/>
              <p:nvPr/>
            </p:nvSpPr>
            <p:spPr>
              <a:xfrm>
                <a:off x="214200" y="4497480"/>
                <a:ext cx="878688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교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학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대학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경로대학 등으로 불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부 등록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,356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등록 운영하는 곳 많아 정확한 실태 파악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운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주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도농간 편차 매우 크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 오락 위주 프로그램에 치중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관은 우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과 개선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 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그룹 21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grpSp>
          <p:nvGrpSpPr>
            <p:cNvPr id="608" name="그룹 8"/>
            <p:cNvGrpSpPr/>
            <p:nvPr/>
          </p:nvGrpSpPr>
          <p:grpSpPr>
            <a:xfrm>
              <a:off x="142920" y="142920"/>
              <a:ext cx="8858160" cy="3571920"/>
              <a:chOff x="142920" y="142920"/>
              <a:chExt cx="8858160" cy="3571920"/>
            </a:xfrm>
          </p:grpSpPr>
          <p:sp>
            <p:nvSpPr>
              <p:cNvPr id="609" name="직사각형 4"/>
              <p:cNvSpPr/>
              <p:nvPr/>
            </p:nvSpPr>
            <p:spPr>
              <a:xfrm>
                <a:off x="142920" y="1429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사회참여지원서비스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AutoShape 2"/>
              <p:cNvSpPr/>
              <p:nvPr/>
            </p:nvSpPr>
            <p:spPr>
              <a:xfrm>
                <a:off x="142920" y="525240"/>
                <a:ext cx="8858160" cy="3189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1" name="Text Box 6"/>
              <p:cNvSpPr/>
              <p:nvPr/>
            </p:nvSpPr>
            <p:spPr>
              <a:xfrm>
                <a:off x="214200" y="525240"/>
                <a:ext cx="8786880" cy="317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사회단체 참여율은 낮은 편으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6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이미 논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활동지원은 노인 일거리 마련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200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시작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일자리사업으로 편입되었으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노인자원봉사사업으로 재추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지원 주요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 클럽 지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 매뉴얼 개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대축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단체간 협의회 운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클럽은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-3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명 내외 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월 운영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원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월 이내 지원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외에 노인 교통자원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퇴직노인 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기관의 자발적 노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원봉사단이 조직되어 활동 중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촉진 및 관리 방안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참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2" name="그룹 17"/>
            <p:cNvGrpSpPr/>
            <p:nvPr/>
          </p:nvGrpSpPr>
          <p:grpSpPr>
            <a:xfrm>
              <a:off x="142920" y="3786120"/>
              <a:ext cx="8858160" cy="2571840"/>
              <a:chOff x="142920" y="3786120"/>
              <a:chExt cx="8858160" cy="2571840"/>
            </a:xfrm>
          </p:grpSpPr>
          <p:sp>
            <p:nvSpPr>
              <p:cNvPr id="613" name="직사각형 18"/>
              <p:cNvSpPr/>
              <p:nvPr/>
            </p:nvSpPr>
            <p:spPr>
              <a:xfrm>
                <a:off x="142920" y="37861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재가노인지원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4" name="AutoShape 2"/>
              <p:cNvSpPr/>
              <p:nvPr/>
            </p:nvSpPr>
            <p:spPr>
              <a:xfrm>
                <a:off x="142920" y="4211640"/>
                <a:ext cx="8858160" cy="2146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5" name="Text Box 6"/>
              <p:cNvSpPr/>
              <p:nvPr/>
            </p:nvSpPr>
            <p:spPr>
              <a:xfrm>
                <a:off x="214200" y="4211640"/>
                <a:ext cx="878688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보험으로 중등도 이하 질병 앓는 노인을 위한 사회서비스 오히려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급여 수급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등급외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기초수급자와 의존적 재가노인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 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ADL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서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주거개선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여가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상담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지역자원개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자원연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긴급지원서비스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인력과 재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사 등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자체 기준 의거 재정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어촌 재가노인복지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문요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간보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기보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그룹 5"/>
          <p:cNvGrpSpPr/>
          <p:nvPr/>
        </p:nvGrpSpPr>
        <p:grpSpPr>
          <a:xfrm>
            <a:off x="142920" y="214200"/>
            <a:ext cx="8858160" cy="6023160"/>
            <a:chOff x="142920" y="214200"/>
            <a:chExt cx="8858160" cy="6023160"/>
          </a:xfrm>
        </p:grpSpPr>
        <p:sp>
          <p:nvSpPr>
            <p:cNvPr id="617" name="직사각형 1"/>
            <p:cNvSpPr/>
            <p:nvPr/>
          </p:nvSpPr>
          <p:spPr>
            <a:xfrm>
              <a:off x="142920" y="21420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노인권익보호서비스</a:t>
              </a:r>
              <a:r>
                <a:rPr b="0" lang="en-US" sz="26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8" name="AutoShape 2"/>
            <p:cNvSpPr/>
            <p:nvPr/>
          </p:nvSpPr>
          <p:spPr>
            <a:xfrm>
              <a:off x="142920" y="836640"/>
              <a:ext cx="8858160" cy="54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9" name="Text Box 6"/>
            <p:cNvSpPr/>
            <p:nvPr/>
          </p:nvSpPr>
          <p:spPr>
            <a:xfrm>
              <a:off x="214200" y="979200"/>
              <a:ext cx="8786880" cy="51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4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노인복지법 개정으로 긴급전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☏1577-1389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설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중앙노인보호전문기관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 인권정책 제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 연구와 프로그램 개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업무지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원 교육 및 대외협력사업 등 추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지역노인보호전문기관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신고전화 운영 및 사례접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해노인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행위자 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사례관리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예방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행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노인 쉼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자살예방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학대 지킴이단 운영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의 사례관리서비스 절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학대피해노인 전용쉼터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피해노인의 숙식제공 등 쉼터생활 지원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문심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담 등의 치유프로그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료비 지원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행위자 상당 등 제공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원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5-9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이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장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신보건전문요원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2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요양보호사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배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인권보호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인권보호 및 안전관리지침 시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6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운영자 및 종사자 인권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8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가인권위원회의 노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교육교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8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및 노인 인권 길라잡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4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간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인권지킴이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복지중앙회 인권매뉴얼 발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9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종합복지관협회의 노인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ombudsman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범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년후견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그룹 6"/>
          <p:cNvGrpSpPr/>
          <p:nvPr/>
        </p:nvGrpSpPr>
        <p:grpSpPr>
          <a:xfrm>
            <a:off x="285840" y="71280"/>
            <a:ext cx="8643960" cy="6074280"/>
            <a:chOff x="285840" y="71280"/>
            <a:chExt cx="8643960" cy="6074280"/>
          </a:xfrm>
        </p:grpSpPr>
        <p:grpSp>
          <p:nvGrpSpPr>
            <p:cNvPr id="621" name="그룹 22"/>
            <p:cNvGrpSpPr/>
            <p:nvPr/>
          </p:nvGrpSpPr>
          <p:grpSpPr>
            <a:xfrm>
              <a:off x="285840" y="821160"/>
              <a:ext cx="8643960" cy="5324400"/>
              <a:chOff x="285840" y="821160"/>
              <a:chExt cx="8643960" cy="5324400"/>
            </a:xfrm>
          </p:grpSpPr>
          <p:sp>
            <p:nvSpPr>
              <p:cNvPr id="622" name="AutoShape 2"/>
              <p:cNvSpPr/>
              <p:nvPr/>
            </p:nvSpPr>
            <p:spPr>
              <a:xfrm>
                <a:off x="285840" y="821160"/>
                <a:ext cx="8643960" cy="5324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3" name="Text Box 6"/>
              <p:cNvSpPr/>
              <p:nvPr/>
            </p:nvSpPr>
            <p:spPr>
              <a:xfrm>
                <a:off x="500040" y="950040"/>
                <a:ext cx="8358480" cy="26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돌봄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업대상이 저소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증질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거노인에 국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부담 경감서비스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서비스와의 연계성 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의 전문성과 업무부담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돌봄기능 지원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돌봄서비스간 연계와 통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 전문성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지원사업 전반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시설부족과 낮은 접근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및 프로그램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여가 인식증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양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다양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4" name="AutoShape 4"/>
            <p:cNvSpPr/>
            <p:nvPr/>
          </p:nvSpPr>
          <p:spPr>
            <a:xfrm>
              <a:off x="357120" y="71280"/>
              <a:ext cx="5214960" cy="599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회서비스의 문제점과 과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5" name="Text Box 6"/>
            <p:cNvSpPr/>
            <p:nvPr/>
          </p:nvSpPr>
          <p:spPr>
            <a:xfrm>
              <a:off x="500040" y="3694320"/>
              <a:ext cx="8358480" cy="23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로당의 문제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설기준과 운영지원 기준 낮아 동네 사랑방 역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로당활성화사업 확대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도자 리더십개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자원연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 운영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관간 편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의 편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관 및 분관 확대설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특성화 및 사회참여지원 사업 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그룹 8"/>
          <p:cNvGrpSpPr/>
          <p:nvPr/>
        </p:nvGrpSpPr>
        <p:grpSpPr>
          <a:xfrm>
            <a:off x="71280" y="142920"/>
            <a:ext cx="8963280" cy="6666840"/>
            <a:chOff x="71280" y="142920"/>
            <a:chExt cx="8963280" cy="6666840"/>
          </a:xfrm>
        </p:grpSpPr>
        <p:grpSp>
          <p:nvGrpSpPr>
            <p:cNvPr id="627" name="그룹 12"/>
            <p:cNvGrpSpPr/>
            <p:nvPr/>
          </p:nvGrpSpPr>
          <p:grpSpPr>
            <a:xfrm>
              <a:off x="71280" y="5643720"/>
              <a:ext cx="7572600" cy="1166040"/>
              <a:chOff x="71280" y="5643720"/>
              <a:chExt cx="7572600" cy="1166040"/>
            </a:xfrm>
          </p:grpSpPr>
          <p:pic>
            <p:nvPicPr>
              <p:cNvPr id="628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71280" y="5643720"/>
                <a:ext cx="100008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9" name="Rectangle 4"/>
              <p:cNvSpPr/>
              <p:nvPr/>
            </p:nvSpPr>
            <p:spPr>
              <a:xfrm>
                <a:off x="856800" y="5786280"/>
                <a:ext cx="678708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 프로그램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0" name="그룹 22"/>
            <p:cNvGrpSpPr/>
            <p:nvPr/>
          </p:nvGrpSpPr>
          <p:grpSpPr>
            <a:xfrm>
              <a:off x="213840" y="142920"/>
              <a:ext cx="8820720" cy="5529960"/>
              <a:chOff x="213840" y="142920"/>
              <a:chExt cx="8820720" cy="5529960"/>
            </a:xfrm>
          </p:grpSpPr>
          <p:sp>
            <p:nvSpPr>
              <p:cNvPr id="631" name="AutoShape 2"/>
              <p:cNvSpPr/>
              <p:nvPr/>
            </p:nvSpPr>
            <p:spPr>
              <a:xfrm>
                <a:off x="213840" y="142920"/>
                <a:ext cx="8820720" cy="552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2" name="Text Box 6"/>
              <p:cNvSpPr/>
              <p:nvPr/>
            </p:nvSpPr>
            <p:spPr>
              <a:xfrm>
                <a:off x="285120" y="357120"/>
                <a:ext cx="8748000" cy="358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시편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강사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원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육환경 미흡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법개정 통해 노인교실을 평생교육기관으로 재규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체계적 교육과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재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문인력 양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교육기관간 유기적 협력 체계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참여 지원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인식부족 및 참여저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및 지원체계 미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보상체계의 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성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의식 제고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 프로그램 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봉사 지도자 양성 및 봉사조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관리체계 구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관의 체계적 노인봉사자 관리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자생적 봉사클럽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사업과의 차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3" name="Text Box 6"/>
            <p:cNvSpPr/>
            <p:nvPr/>
          </p:nvSpPr>
          <p:spPr>
            <a:xfrm>
              <a:off x="285480" y="4000680"/>
              <a:ext cx="8749080" cy="15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보호서비스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대문제에 치중한 소극적 인권보호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률 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·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정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술연구 및 프로그램 개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보호 전문기관의 기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확대 강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권보호서비스 강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년후견제도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 옴부즈맨 프로그램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도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0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442" name="AutoShape 2"/>
            <p:cNvSpPr/>
            <p:nvPr/>
          </p:nvSpPr>
          <p:spPr>
            <a:xfrm>
              <a:off x="142560" y="1285920"/>
              <a:ext cx="88585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64304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소득보장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142560" y="1369800"/>
              <a:ext cx="8929800" cy="22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빈곤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을 위한 사회보장제도의 일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 등과 같은 국가의 직접적 소득이전 프로그램을 통하여 최저 한도 이상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을 보장해주려는 사회적 노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체계의 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층구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접적 소득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보장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간접적 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용할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증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혜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의 특성 비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4"/>
            <p:cNvSpPr/>
            <p:nvPr/>
          </p:nvSpPr>
          <p:spPr>
            <a:xfrm>
              <a:off x="214200" y="85716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소득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2"/>
            <p:cNvSpPr/>
            <p:nvPr/>
          </p:nvSpPr>
          <p:spPr>
            <a:xfrm>
              <a:off x="142560" y="485784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142560" y="4857840"/>
              <a:ext cx="8929800" cy="13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을 초래하는 사회적 위험들 중 노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으로 발생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적 어려움에 대응하기 위한 사회대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현행제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수직역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군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립학교교직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식 공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초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AutoShape 4"/>
            <p:cNvSpPr/>
            <p:nvPr/>
          </p:nvSpPr>
          <p:spPr>
            <a:xfrm>
              <a:off x="214200" y="3929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소득보장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0" name="직사각형 16"/>
            <p:cNvSpPr/>
            <p:nvPr/>
          </p:nvSpPr>
          <p:spPr>
            <a:xfrm>
              <a:off x="285480" y="45007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연금제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0"/>
          <p:cNvGrpSpPr/>
          <p:nvPr/>
        </p:nvGrpSpPr>
        <p:grpSpPr>
          <a:xfrm>
            <a:off x="142920" y="214200"/>
            <a:ext cx="8929800" cy="6168600"/>
            <a:chOff x="142920" y="214200"/>
            <a:chExt cx="8929800" cy="6168600"/>
          </a:xfrm>
        </p:grpSpPr>
        <p:sp>
          <p:nvSpPr>
            <p:cNvPr id="452" name="AutoShape 2"/>
            <p:cNvSpPr/>
            <p:nvPr/>
          </p:nvSpPr>
          <p:spPr>
            <a:xfrm>
              <a:off x="142920" y="214200"/>
              <a:ext cx="8858520" cy="2214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142920" y="250560"/>
              <a:ext cx="8715600" cy="21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국민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월소득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9%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로 통일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종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애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유족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반환일시금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 현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2017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337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6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천여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+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특수직역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,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 급여액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3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초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 하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7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독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37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19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00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원 이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액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인정액과 가구형태에 따라 차등 지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2018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노인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67.1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금 수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142920" y="29286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Text Box 25"/>
            <p:cNvSpPr/>
            <p:nvPr/>
          </p:nvSpPr>
          <p:spPr>
            <a:xfrm>
              <a:off x="142920" y="2928960"/>
              <a:ext cx="892980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능력을 상실한 자와 일정 생활수준에 미달한 자에 대하여 국가가 최저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보장과 자립촉진을 목적으로 한 경제적 보호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기초생활보장제도의 내용 및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중위소득 기준의 맞춤형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17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5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 이상 노인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3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백여명 수급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인구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.9%,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수급권자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8.9%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직사각형 6"/>
            <p:cNvSpPr/>
            <p:nvPr/>
          </p:nvSpPr>
          <p:spPr>
            <a:xfrm>
              <a:off x="285480" y="25714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공적 부조제도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"/>
            <p:cNvSpPr/>
            <p:nvPr/>
          </p:nvSpPr>
          <p:spPr>
            <a:xfrm>
              <a:off x="142920" y="50004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142920" y="5000760"/>
              <a:ext cx="8929800" cy="13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에 의해 특정 인구집단을 대상으로 보편주의원칙에 의거하여 연금 또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를 제공하는 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 등이 시행되었으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으로는 노인교통수당만 존재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08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기초연금제도에 통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재 일부 지자체 장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 수당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9"/>
            <p:cNvSpPr/>
            <p:nvPr/>
          </p:nvSpPr>
          <p:spPr>
            <a:xfrm>
              <a:off x="285480" y="46306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사회수당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그룹 7"/>
          <p:cNvGrpSpPr/>
          <p:nvPr/>
        </p:nvGrpSpPr>
        <p:grpSpPr>
          <a:xfrm>
            <a:off x="142920" y="142920"/>
            <a:ext cx="8858160" cy="6072120"/>
            <a:chOff x="142920" y="142920"/>
            <a:chExt cx="8858160" cy="6072120"/>
          </a:xfrm>
        </p:grpSpPr>
        <p:sp>
          <p:nvSpPr>
            <p:cNvPr id="461" name="AutoShape 2"/>
            <p:cNvSpPr/>
            <p:nvPr/>
          </p:nvSpPr>
          <p:spPr>
            <a:xfrm>
              <a:off x="142920" y="583920"/>
              <a:ext cx="8858160" cy="1987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Text Box 25"/>
            <p:cNvSpPr/>
            <p:nvPr/>
          </p:nvSpPr>
          <p:spPr>
            <a:xfrm>
              <a:off x="214200" y="642960"/>
              <a:ext cx="8786880" cy="19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저축 등 개인 스스로 노후소득 준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과 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금융권에서 노후생활자금 목적으로 판매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확한 현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파악 안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급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기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기업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7.2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근로자는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.2%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적립액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6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0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억원이나 지속 증가추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3" name="직사각형 3"/>
            <p:cNvSpPr/>
            <p:nvPr/>
          </p:nvSpPr>
          <p:spPr>
            <a:xfrm>
              <a:off x="214200" y="14292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사적 소득보장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2"/>
            <p:cNvSpPr/>
            <p:nvPr/>
          </p:nvSpPr>
          <p:spPr>
            <a:xfrm>
              <a:off x="142920" y="3370320"/>
              <a:ext cx="8858160" cy="2844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Text Box 25"/>
            <p:cNvSpPr/>
            <p:nvPr/>
          </p:nvSpPr>
          <p:spPr>
            <a:xfrm>
              <a:off x="214200" y="3517920"/>
              <a:ext cx="8786880" cy="24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지출 경감을 통한 노후 소득보전방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도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부문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9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폐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 시행 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KTX 3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박물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원 입장료 무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항공기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객선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할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속세 및 증여세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세 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가족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양도소득세 감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거 전환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자소득 및 배당소득 비과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 이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결연사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국노인복지중앙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좌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연노인에게 후원금 전액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직사각형 6"/>
            <p:cNvSpPr/>
            <p:nvPr/>
          </p:nvSpPr>
          <p:spPr>
            <a:xfrm>
              <a:off x="214200" y="29289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경로우대제도 및 각종 감면혜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468" name="AutoShape 2"/>
            <p:cNvSpPr/>
            <p:nvPr/>
          </p:nvSpPr>
          <p:spPr>
            <a:xfrm>
              <a:off x="142920" y="571320"/>
              <a:ext cx="878688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9" name="그룹 10"/>
            <p:cNvGrpSpPr/>
            <p:nvPr/>
          </p:nvGrpSpPr>
          <p:grpSpPr>
            <a:xfrm>
              <a:off x="357120" y="142920"/>
              <a:ext cx="8643960" cy="5952960"/>
              <a:chOff x="357120" y="142920"/>
              <a:chExt cx="8643960" cy="5952960"/>
            </a:xfrm>
          </p:grpSpPr>
          <p:sp>
            <p:nvSpPr>
              <p:cNvPr id="470" name="AutoShape 4"/>
              <p:cNvSpPr/>
              <p:nvPr/>
            </p:nvSpPr>
            <p:spPr>
              <a:xfrm>
                <a:off x="357120" y="142920"/>
                <a:ext cx="50007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후소득보장의 문제와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6"/>
              <p:cNvSpPr/>
              <p:nvPr/>
            </p:nvSpPr>
            <p:spPr>
              <a:xfrm>
                <a:off x="499680" y="642960"/>
                <a:ext cx="8501400" cy="545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후소득보장의 역할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연금 수급자 제외하면 현재 노인의 절반 이상이 공적 소득보장 급여 못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세방식 기초연금제 확대하여 다층소득보장체계 구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적 부조제도 확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의 자발적 노후소득보장 노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연금제도의 지속가능성과 안정적 노후소득보장 가능성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여체계로 인해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중후반에 연금 기금 적자 및 고갈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령연금 급여액의 노후 생계비 보장의 한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급여체계로 전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금운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험료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급여액 쟁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기초생활보장제도의 급여 대상과 수준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위소득에 기준한 맞춤형 급여체계로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계급여 선정 소득기준이 상대적으로 낮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는 실 임대로 반영 못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합리적 중위소득 기준 마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노인 기초생활 및 주거와 의료욕구 반영한 급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접적 소득보장제도의 낮은 보조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문화활동 감면혜택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세제감면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부모 부양수당 대상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자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전 차량에 대한 비용 감면제도 도입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적 노후소득보장 노력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연금 제도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연금과 저축 활성화 방안 모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6"/>
          <p:cNvGrpSpPr/>
          <p:nvPr/>
        </p:nvGrpSpPr>
        <p:grpSpPr>
          <a:xfrm>
            <a:off x="0" y="0"/>
            <a:ext cx="9144000" cy="6434640"/>
            <a:chOff x="0" y="0"/>
            <a:chExt cx="9144000" cy="6434640"/>
          </a:xfrm>
        </p:grpSpPr>
        <p:pic>
          <p:nvPicPr>
            <p:cNvPr id="47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고용보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5" name="그룹 17"/>
            <p:cNvGrpSpPr/>
            <p:nvPr/>
          </p:nvGrpSpPr>
          <p:grpSpPr>
            <a:xfrm>
              <a:off x="323640" y="928440"/>
              <a:ext cx="8606160" cy="2357280"/>
              <a:chOff x="323640" y="928440"/>
              <a:chExt cx="8606160" cy="235728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323640" y="1364760"/>
                <a:ext cx="8606160" cy="192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394920" y="1428480"/>
                <a:ext cx="8534880" cy="181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가 고용에 관한 정책을 시행하여 국민의 능력을 최대로 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게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장 효율성 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력의 수급균형을 도모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 지위의 향상을 도모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용보장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정책기본법에 의한 고용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재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능력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안전보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평등 중에서 노인복지분야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취업촉진대책이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AutoShape 4"/>
              <p:cNvSpPr/>
              <p:nvPr/>
            </p:nvSpPr>
            <p:spPr>
              <a:xfrm>
                <a:off x="394920" y="9284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고용보장의 이해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9" name="그룹 17"/>
            <p:cNvGrpSpPr/>
            <p:nvPr/>
          </p:nvGrpSpPr>
          <p:grpSpPr>
            <a:xfrm>
              <a:off x="323640" y="3425760"/>
              <a:ext cx="8606160" cy="1142640"/>
              <a:chOff x="323640" y="3425760"/>
              <a:chExt cx="8606160" cy="1142640"/>
            </a:xfrm>
          </p:grpSpPr>
          <p:sp>
            <p:nvSpPr>
              <p:cNvPr id="480" name="AutoShape 2"/>
              <p:cNvSpPr/>
              <p:nvPr/>
            </p:nvSpPr>
            <p:spPr>
              <a:xfrm>
                <a:off x="323640" y="3861720"/>
                <a:ext cx="8606160" cy="706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Text Box 25"/>
              <p:cNvSpPr/>
              <p:nvPr/>
            </p:nvSpPr>
            <p:spPr>
              <a:xfrm>
                <a:off x="394920" y="3925800"/>
                <a:ext cx="853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고용보장제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에 의한 고용촉진대책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한 노인취업 지원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AutoShape 4"/>
              <p:cNvSpPr/>
              <p:nvPr/>
            </p:nvSpPr>
            <p:spPr>
              <a:xfrm>
                <a:off x="394920" y="342576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현행 고용보장체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3" name="그룹 17"/>
            <p:cNvGrpSpPr/>
            <p:nvPr/>
          </p:nvGrpSpPr>
          <p:grpSpPr>
            <a:xfrm>
              <a:off x="357120" y="5000400"/>
              <a:ext cx="8786880" cy="1434240"/>
              <a:chOff x="357120" y="5000400"/>
              <a:chExt cx="8786880" cy="1434240"/>
            </a:xfrm>
          </p:grpSpPr>
          <p:sp>
            <p:nvSpPr>
              <p:cNvPr id="484" name="AutoShape 2"/>
              <p:cNvSpPr/>
              <p:nvPr/>
            </p:nvSpPr>
            <p:spPr>
              <a:xfrm>
                <a:off x="357120" y="5004360"/>
                <a:ext cx="8606160" cy="1424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Text Box 25"/>
              <p:cNvSpPr/>
              <p:nvPr/>
            </p:nvSpPr>
            <p:spPr>
              <a:xfrm>
                <a:off x="428400" y="5000400"/>
                <a:ext cx="8715600" cy="143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등의 고용연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자리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과 연령차별금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 고령자 고용촉진 기본계획 수립 추진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을 통해 활력 있는 장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평생직업생활 준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숙련유지 및 향상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 기회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사회 대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25"/>
            <p:cNvSpPr/>
            <p:nvPr/>
          </p:nvSpPr>
          <p:spPr>
            <a:xfrm>
              <a:off x="428400" y="4643640"/>
              <a:ext cx="61596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고령자고용촉진법에 의한 장년고용서비스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그룹 1"/>
          <p:cNvGrpSpPr/>
          <p:nvPr/>
        </p:nvGrpSpPr>
        <p:grpSpPr>
          <a:xfrm>
            <a:off x="324000" y="333360"/>
            <a:ext cx="8715240" cy="5975280"/>
            <a:chOff x="324000" y="333360"/>
            <a:chExt cx="8715240" cy="5975280"/>
          </a:xfrm>
        </p:grpSpPr>
        <p:grpSp>
          <p:nvGrpSpPr>
            <p:cNvPr id="488" name="그룹 17"/>
            <p:cNvGrpSpPr/>
            <p:nvPr/>
          </p:nvGrpSpPr>
          <p:grpSpPr>
            <a:xfrm>
              <a:off x="324000" y="817200"/>
              <a:ext cx="8715240" cy="5491440"/>
              <a:chOff x="324000" y="817200"/>
              <a:chExt cx="8715240" cy="549144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324000" y="817200"/>
                <a:ext cx="8605800" cy="549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Text Box 25"/>
              <p:cNvSpPr/>
              <p:nvPr/>
            </p:nvSpPr>
            <p:spPr>
              <a:xfrm>
                <a:off x="504720" y="858240"/>
                <a:ext cx="8534520" cy="537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평생직업생활 준비 지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애경력개발서비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력진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진로설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력관리 계획 수립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직지원서비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직스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창업정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담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년친화적 노동시장 조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 정년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년근로시간단축제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고용연장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원금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터혁신컨설팅 서비스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6-29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취업지원서비스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취업성공패키지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취업단계에 따른 맞춤형 취업지원서비스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신중년 적합직무 고용창출 장려금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숙련유지 및 행상 지원서비스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내일배움카드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국가기간 전략산업 훈련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폴리텍 대학 베이비부머 양성훈련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7-398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새로운 일하기 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신중년 사회공헌활동 지원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니어 창업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귀농귀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종합센터 운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 기업 설립지원 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398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년고용서비스기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고용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중장년일자리희망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새로일하기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자제의 장년지원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50+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생이모작지원센터 등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9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1" name="직사각형 4"/>
            <p:cNvSpPr/>
            <p:nvPr/>
          </p:nvSpPr>
          <p:spPr>
            <a:xfrm>
              <a:off x="395280" y="333360"/>
              <a:ext cx="70246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고령자고용촉진법에 의한 장년고용서비스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8"/>
          <p:cNvGrpSpPr/>
          <p:nvPr/>
        </p:nvGrpSpPr>
        <p:grpSpPr>
          <a:xfrm>
            <a:off x="214200" y="154080"/>
            <a:ext cx="8715600" cy="6024600"/>
            <a:chOff x="214200" y="154080"/>
            <a:chExt cx="8715600" cy="6024600"/>
          </a:xfrm>
        </p:grpSpPr>
        <p:grpSp>
          <p:nvGrpSpPr>
            <p:cNvPr id="493" name="그룹 17"/>
            <p:cNvGrpSpPr/>
            <p:nvPr/>
          </p:nvGrpSpPr>
          <p:grpSpPr>
            <a:xfrm>
              <a:off x="214200" y="637920"/>
              <a:ext cx="8715600" cy="5540760"/>
              <a:chOff x="214200" y="637920"/>
              <a:chExt cx="8715600" cy="5540760"/>
            </a:xfrm>
          </p:grpSpPr>
          <p:sp>
            <p:nvSpPr>
              <p:cNvPr id="494" name="AutoShape 2"/>
              <p:cNvSpPr/>
              <p:nvPr/>
            </p:nvSpPr>
            <p:spPr>
              <a:xfrm>
                <a:off x="214200" y="637920"/>
                <a:ext cx="8606160" cy="554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25"/>
              <p:cNvSpPr/>
              <p:nvPr/>
            </p:nvSpPr>
            <p:spPr>
              <a:xfrm>
                <a:off x="394920" y="678960"/>
                <a:ext cx="8534880" cy="542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취업알선기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노인회 노인취업지원센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상담과 알선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참여 활동 연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로당 공동작업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 작업과 지역특산물 생산 위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력개발기관과 노인일자리지원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력개발기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한국노인인력개발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개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조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협력사업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클럽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주로 시장형 일자리 사업 추진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2018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현재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148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사회활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일자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원 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 등을 통한 적극적 사회참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득보전 등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문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예방과 노인복지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세 이상의 신청자 중에서 연령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사업 참여 등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평가하여 선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업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사회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공익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일자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회서비스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장형 사업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력파견형 사업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인턴십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고령자친화기업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기업연계형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 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근무조건과 보수지원 수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6" name="직사각형 4"/>
            <p:cNvSpPr/>
            <p:nvPr/>
          </p:nvSpPr>
          <p:spPr>
            <a:xfrm>
              <a:off x="285480" y="1540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복지법에 의한 고용보장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19:15:22Z</dcterms:modified>
  <cp:revision>40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