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2A6A-6458-4CB6-AE5B-57CB188C8F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4B41-E0E6-445A-8D88-42BE9CF8E26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20E6-A34D-45CA-828A-36B7FF93D77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2C430-A577-4DE1-ACBE-2387B86A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AF51E-6980-4F37-AE2A-23D75060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86070-E5A6-4066-84A5-5CD5933D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F89F3-7DE5-4D08-9A4C-DD635B35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B9F75-7700-458B-87B8-AC74E84E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41ACD-8279-4BBD-93AF-49ED912D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808C0-72B5-41BB-A845-118012F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0CCC7-CC19-416B-8468-9BEE184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EDA99-6507-4695-8356-1C967C39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9661E-3441-4346-9F19-4246C9A7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DF089-EB65-43E4-AA46-8D76120F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F59D1-2926-4DF2-B060-270FAC30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4608-EF56-4945-A11D-2D2F569A3B6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1D2E-9871-4D2B-BB6E-53791372D1D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F40-C820-4982-956B-B3BC8C030EF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7A1-7E14-4365-B930-BC26D1B0720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91F1-C1F9-4F18-B29F-9964E8DC57C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285840" y="71280"/>
            <a:ext cx="8643960" cy="6286680"/>
            <a:chOff x="285840" y="71280"/>
            <a:chExt cx="8643960" cy="6286680"/>
          </a:xfrm>
        </p:grpSpPr>
        <p:sp>
          <p:nvSpPr>
            <p:cNvPr id="371" name="AutoShape 2"/>
            <p:cNvSpPr/>
            <p:nvPr/>
          </p:nvSpPr>
          <p:spPr>
            <a:xfrm>
              <a:off x="285840" y="571320"/>
              <a:ext cx="864396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571320" y="642600"/>
              <a:ext cx="835848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84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원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280" y="1857240"/>
              <a:ext cx="85316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스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운 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.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 사회관계망과 지지의 변화 이해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망과 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400"/>
            <a:chOff x="0" y="0"/>
            <a:chExt cx="9144000" cy="635940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35848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oup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식지 않는 거리의 별거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840"/>
              <a:chOff x="285480" y="3571560"/>
              <a:chExt cx="8643960" cy="278784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2280"/>
                <a:ext cx="8643960" cy="233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80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2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7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급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복지부 노인실태조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신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6017760"/>
            <a:chOff x="214200" y="285840"/>
            <a:chExt cx="8858520" cy="60177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52560"/>
              <a:ext cx="8858520" cy="53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별거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6-59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3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4-63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7-7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시 부양가족은 자원부족과 부양능력 약화로 스트레스와 부양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879520"/>
            <a:chOff x="142920" y="142920"/>
            <a:chExt cx="8929800" cy="587952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54000"/>
              <a:ext cx="8929800" cy="50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-5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별한 여성 고령 독신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될 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적 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67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500040"/>
              <a:ext cx="8573040" cy="2857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57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6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20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과 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911160"/>
              <a:ext cx="8643960" cy="3320640"/>
              <a:chOff x="285840" y="911160"/>
              <a:chExt cx="8643960" cy="332064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92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868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9111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 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2320"/>
              <a:ext cx="8643960" cy="2290680"/>
              <a:chOff x="285840" y="4072320"/>
              <a:chExt cx="8643960" cy="229068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 point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TONK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23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4:37:57Z</dcterms:modified>
  <cp:revision>35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