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433B-765C-46E0-B968-40A48994A60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0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FEDA-A052-4D2C-AE35-5D2CB33D4EE6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Arial"/>
              <a:ea typeface="맑은 고딕"/>
            </a:endParaRPr>
          </a:p>
        </p:txBody>
      </p:sp>
      <p:sp>
        <p:nvSpPr>
          <p:cNvPr id="4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2E14-5A7A-4499-B78A-32C2DADD30F0}" type="slidenum">
              <a:rPr b="0" lang="ko-KR" sz="1200" spc="-1" strike="noStrike">
                <a:solidFill>
                  <a:srgbClr val="1d528d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7BB20-FCD8-4C51-8747-3366BA2EC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04560-4C96-4E5C-8109-5C428916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843CF-8F23-4D84-83F4-A1ED9AE8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BC638-A94E-4270-A923-716E29ED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C8699-49DE-49CF-92A1-0CAE06A7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91527-CB80-4103-8B69-9ADDAE2C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282FB-0B86-405B-9D83-AEFF55E8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368B9E-C6D5-46A8-8CA6-12FF2066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8912F-B915-42A1-A223-414FF5EA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3D192-85EE-40FA-A159-F97E1212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22A4A-928F-43A2-9B5A-C006800A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71B43-B6CD-4E2D-A086-04E2A137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2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6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7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C98B-ACC3-4E0B-9289-9C024DC821B4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6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7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7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7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7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8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0F72-1C35-429C-BE5E-137D9DDB0B79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85" name="Object 2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" name="Group 3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88" name="Rectangle 4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90" name="Rectangle 6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92" name="AutoShape 8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3" name="Freeform 9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5" name="Freeform 11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97" name="Group 18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98" name="Picture 19" descr="Untitled-1 copy"/>
            <p:cNvPicPr/>
            <p:nvPr/>
          </p:nvPicPr>
          <p:blipFill>
            <a:blip r:embed="rId6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0" descr="Untitled-1 copy"/>
            <p:cNvPicPr/>
            <p:nvPr/>
          </p:nvPicPr>
          <p:blipFill>
            <a:blip r:embed="rId7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1" descr="Untitled-1 copy"/>
            <p:cNvPicPr/>
            <p:nvPr/>
          </p:nvPicPr>
          <p:blipFill>
            <a:blip r:embed="rId8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2095-4335-4CED-B3E8-2E0ADCF97CD9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43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4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46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48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151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54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155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6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7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0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1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62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3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DA63-E19E-436E-AD7C-ABCCEA090E78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206" name="Rectangle 3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1d52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7" name="Freeform 4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1d528d"/>
                </a:gs>
                <a:gs pos="100000">
                  <a:srgbClr val="0d264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08" name="Freeform 5"/>
            <p:cNvSpPr/>
            <p:nvPr/>
          </p:nvSpPr>
          <p:spPr>
            <a:xfrm>
              <a:off x="0" y="742320"/>
              <a:ext cx="5876640" cy="44712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475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64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11" name="Picture 8" descr="Untitled-1 copy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Untitled-1 copy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grpSp>
        <p:nvGrpSpPr>
          <p:cNvPr id="213" name="Group 13"/>
          <p:cNvGrpSpPr/>
          <p:nvPr/>
        </p:nvGrpSpPr>
        <p:grpSpPr>
          <a:xfrm>
            <a:off x="0" y="6381720"/>
            <a:ext cx="9144000" cy="792360"/>
            <a:chOff x="0" y="6381720"/>
            <a:chExt cx="9144000" cy="792360"/>
          </a:xfrm>
        </p:grpSpPr>
        <p:sp>
          <p:nvSpPr>
            <p:cNvPr id="214" name="AutoShape 14"/>
            <p:cNvSpPr/>
            <p:nvPr/>
          </p:nvSpPr>
          <p:spPr>
            <a:xfrm>
              <a:off x="5665680" y="6381720"/>
              <a:ext cx="993960" cy="792360"/>
            </a:xfrm>
            <a:prstGeom prst="diamond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5" name="Rectangle 15"/>
            <p:cNvSpPr/>
            <p:nvPr/>
          </p:nvSpPr>
          <p:spPr>
            <a:xfrm>
              <a:off x="0" y="6710400"/>
              <a:ext cx="9144000" cy="17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6156360" y="6381720"/>
              <a:ext cx="2987640" cy="406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17" name="Group 17"/>
          <p:cNvGrpSpPr/>
          <p:nvPr/>
        </p:nvGrpSpPr>
        <p:grpSpPr>
          <a:xfrm>
            <a:off x="7724880" y="6283440"/>
            <a:ext cx="1455120" cy="514080"/>
            <a:chOff x="7724880" y="6283440"/>
            <a:chExt cx="1455120" cy="514080"/>
          </a:xfrm>
        </p:grpSpPr>
        <p:sp>
          <p:nvSpPr>
            <p:cNvPr id="218" name="AutoShape 18">
              <a:hlinkClick r:id="" action="ppaction://hlinkshowjump?jump=nextslide"/>
            </p:cNvPr>
            <p:cNvSpPr/>
            <p:nvPr/>
          </p:nvSpPr>
          <p:spPr>
            <a:xfrm>
              <a:off x="8673840" y="6538680"/>
              <a:ext cx="307440" cy="234720"/>
            </a:xfrm>
            <a:custGeom>
              <a:avLst/>
              <a:gdLst>
                <a:gd name="textAreaLeft" fmla="*/ 15120 w 307440"/>
                <a:gd name="textAreaRight" fmla="*/ 292320 w 307440"/>
                <a:gd name="textAreaTop" fmla="*/ 15120 h 234720"/>
                <a:gd name="textAreaBottom" fmla="*/ 219600 h 234720"/>
              </a:gdLst>
              <a:ahLst/>
              <a:rect l="textAreaLeft" t="textAreaTop" r="textAreaRight" b="textAreaBottom"/>
              <a:pathLst>
                <a:path w="28282" h="21600">
                  <a:moveTo>
                    <a:pt x="0" y="0"/>
                  </a:moveTo>
                  <a:lnTo>
                    <a:pt x="28282" y="0"/>
                  </a:lnTo>
                  <a:lnTo>
                    <a:pt x="28282" y="21600"/>
                  </a:lnTo>
                  <a:lnTo>
                    <a:pt x="0" y="21600"/>
                  </a:lnTo>
                  <a:close/>
                </a:path>
                <a:path fill="lightenLess" w="28282" h="21600">
                  <a:moveTo>
                    <a:pt x="0" y="0"/>
                  </a:moveTo>
                  <a:lnTo>
                    <a:pt x="28282" y="0"/>
                  </a:lnTo>
                  <a:lnTo>
                    <a:pt x="26882" y="1400"/>
                  </a:lnTo>
                  <a:lnTo>
                    <a:pt x="1400" y="1400"/>
                  </a:lnTo>
                  <a:close/>
                </a:path>
                <a:path fill="darken" w="28282" h="21600">
                  <a:moveTo>
                    <a:pt x="28282" y="0"/>
                  </a:moveTo>
                  <a:lnTo>
                    <a:pt x="28282" y="21600"/>
                  </a:lnTo>
                  <a:lnTo>
                    <a:pt x="26882" y="20200"/>
                  </a:lnTo>
                  <a:lnTo>
                    <a:pt x="26882" y="1400"/>
                  </a:lnTo>
                  <a:close/>
                </a:path>
                <a:path fill="darkenLess" w="28282" h="21600">
                  <a:moveTo>
                    <a:pt x="2828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882" y="20200"/>
                  </a:lnTo>
                  <a:close/>
                </a:path>
                <a:path fill="lighten" w="2828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282" h="21600">
                  <a:moveTo>
                    <a:pt x="7134" y="3794"/>
                  </a:moveTo>
                  <a:lnTo>
                    <a:pt x="21147" y="10800"/>
                  </a:lnTo>
                  <a:lnTo>
                    <a:pt x="7134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9" name="AutoShape 19">
              <a:hlinkClick r:id="" action="ppaction://hlinkshowjump?jump=previousslide"/>
            </p:cNvPr>
            <p:cNvSpPr/>
            <p:nvPr/>
          </p:nvSpPr>
          <p:spPr>
            <a:xfrm>
              <a:off x="7762680" y="6548040"/>
              <a:ext cx="245520" cy="187200"/>
            </a:xfrm>
            <a:custGeom>
              <a:avLst/>
              <a:gdLst>
                <a:gd name="textAreaLeft" fmla="*/ 11880 w 245520"/>
                <a:gd name="textAreaRight" fmla="*/ 233640 w 245520"/>
                <a:gd name="textAreaTop" fmla="*/ 11880 h 187200"/>
                <a:gd name="textAreaBottom" fmla="*/ 175320 h 187200"/>
              </a:gdLst>
              <a:ahLst/>
              <a:rect l="textAreaLeft" t="textAreaTop" r="textAreaRight" b="textAreaBottom"/>
              <a:pathLst>
                <a:path w="28316" h="21600">
                  <a:moveTo>
                    <a:pt x="0" y="0"/>
                  </a:moveTo>
                  <a:lnTo>
                    <a:pt x="28316" y="0"/>
                  </a:lnTo>
                  <a:lnTo>
                    <a:pt x="28316" y="21600"/>
                  </a:lnTo>
                  <a:lnTo>
                    <a:pt x="0" y="21600"/>
                  </a:lnTo>
                  <a:close/>
                </a:path>
                <a:path fill="lightenLess" w="28316" h="21600">
                  <a:moveTo>
                    <a:pt x="0" y="0"/>
                  </a:moveTo>
                  <a:lnTo>
                    <a:pt x="28316" y="0"/>
                  </a:lnTo>
                  <a:lnTo>
                    <a:pt x="26916" y="1400"/>
                  </a:lnTo>
                  <a:lnTo>
                    <a:pt x="1400" y="1400"/>
                  </a:lnTo>
                  <a:close/>
                </a:path>
                <a:path fill="darken" w="28316" h="21600">
                  <a:moveTo>
                    <a:pt x="28316" y="0"/>
                  </a:moveTo>
                  <a:lnTo>
                    <a:pt x="28316" y="21600"/>
                  </a:lnTo>
                  <a:lnTo>
                    <a:pt x="26916" y="20200"/>
                  </a:lnTo>
                  <a:lnTo>
                    <a:pt x="26916" y="1400"/>
                  </a:lnTo>
                  <a:close/>
                </a:path>
                <a:path fill="darkenLess" w="28316" h="21600">
                  <a:moveTo>
                    <a:pt x="2831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6916" y="20200"/>
                  </a:lnTo>
                  <a:close/>
                </a:path>
                <a:path fill="lighten" w="2831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316" h="21600">
                  <a:moveTo>
                    <a:pt x="7152" y="10800"/>
                  </a:moveTo>
                  <a:lnTo>
                    <a:pt x="21165" y="3794"/>
                  </a:lnTo>
                  <a:lnTo>
                    <a:pt x="21165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0" name="AutoShape 20">
              <a:hlinkClick r:id="" action="ppaction://hlinkshowjump?jump=nextslide"/>
            </p:cNvPr>
            <p:cNvSpPr/>
            <p:nvPr/>
          </p:nvSpPr>
          <p:spPr>
            <a:xfrm>
              <a:off x="8650080" y="6283440"/>
              <a:ext cx="529920" cy="514080"/>
            </a:xfrm>
            <a:custGeom>
              <a:avLst/>
              <a:gdLst>
                <a:gd name="textAreaLeft" fmla="*/ 33120 w 529920"/>
                <a:gd name="textAreaRight" fmla="*/ 496800 w 529920"/>
                <a:gd name="textAreaTop" fmla="*/ 33120 h 514080"/>
                <a:gd name="textAreaBottom" fmla="*/ 480960 h 514080"/>
              </a:gdLst>
              <a:ahLst/>
              <a:rect l="textAreaLeft" t="textAreaTop" r="textAreaRight" b="textAreaBottom"/>
              <a:pathLst>
                <a:path w="22265" h="21600">
                  <a:moveTo>
                    <a:pt x="0" y="0"/>
                  </a:moveTo>
                  <a:lnTo>
                    <a:pt x="22265" y="0"/>
                  </a:lnTo>
                  <a:lnTo>
                    <a:pt x="22265" y="21600"/>
                  </a:lnTo>
                  <a:lnTo>
                    <a:pt x="0" y="21600"/>
                  </a:lnTo>
                  <a:close/>
                </a:path>
                <a:path fill="lightenLess" w="22265" h="21600">
                  <a:moveTo>
                    <a:pt x="0" y="0"/>
                  </a:moveTo>
                  <a:lnTo>
                    <a:pt x="22265" y="0"/>
                  </a:lnTo>
                  <a:lnTo>
                    <a:pt x="20865" y="1400"/>
                  </a:lnTo>
                  <a:lnTo>
                    <a:pt x="1400" y="1400"/>
                  </a:lnTo>
                  <a:close/>
                </a:path>
                <a:path fill="darken" w="22265" h="21600">
                  <a:moveTo>
                    <a:pt x="22265" y="0"/>
                  </a:moveTo>
                  <a:lnTo>
                    <a:pt x="22265" y="21600"/>
                  </a:lnTo>
                  <a:lnTo>
                    <a:pt x="20865" y="20200"/>
                  </a:lnTo>
                  <a:lnTo>
                    <a:pt x="20865" y="1400"/>
                  </a:lnTo>
                  <a:close/>
                </a:path>
                <a:path fill="darkenLess" w="22265" h="21600">
                  <a:moveTo>
                    <a:pt x="2226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865" y="20200"/>
                  </a:lnTo>
                  <a:close/>
                </a:path>
                <a:path fill="lighten" w="2226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2265" h="21600">
                  <a:moveTo>
                    <a:pt x="4126" y="3794"/>
                  </a:moveTo>
                  <a:lnTo>
                    <a:pt x="18139" y="10800"/>
                  </a:lnTo>
                  <a:lnTo>
                    <a:pt x="4126" y="1780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1" name="Oval 21"/>
            <p:cNvSpPr/>
            <p:nvPr/>
          </p:nvSpPr>
          <p:spPr>
            <a:xfrm>
              <a:off x="8205480" y="6509880"/>
              <a:ext cx="2757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2" name="Oval 22"/>
            <p:cNvSpPr/>
            <p:nvPr/>
          </p:nvSpPr>
          <p:spPr>
            <a:xfrm>
              <a:off x="8673840" y="6509880"/>
              <a:ext cx="277560" cy="20952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3" name="AutoShape 23"/>
            <p:cNvSpPr/>
            <p:nvPr/>
          </p:nvSpPr>
          <p:spPr>
            <a:xfrm rot="5400000">
              <a:off x="8748000" y="6570360"/>
              <a:ext cx="139320" cy="91800"/>
            </a:xfrm>
            <a:prstGeom prst="triangle">
              <a:avLst>
                <a:gd name="adj" fmla="val 47792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4" name="Oval 24"/>
            <p:cNvSpPr/>
            <p:nvPr/>
          </p:nvSpPr>
          <p:spPr>
            <a:xfrm>
              <a:off x="7724880" y="6509880"/>
              <a:ext cx="277560" cy="210960"/>
            </a:xfrm>
            <a:prstGeom prst="ellipse">
              <a:avLst/>
            </a:prstGeom>
            <a:solidFill>
              <a:srgbClr val="000800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25" name="AutoShape 25"/>
            <p:cNvSpPr/>
            <p:nvPr/>
          </p:nvSpPr>
          <p:spPr>
            <a:xfrm rot="16200000">
              <a:off x="7776000" y="6596280"/>
              <a:ext cx="139320" cy="93240"/>
            </a:xfrm>
            <a:prstGeom prst="triangle">
              <a:avLst>
                <a:gd name="adj" fmla="val 47056"/>
              </a:avLst>
            </a:prstGeom>
            <a:solidFill>
              <a:srgbClr val="b3d0ef"/>
            </a:solidFill>
            <a:ln w="38160">
              <a:solidFill>
                <a:srgbClr val="b3d0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26" name="Rectangle 26"/>
          <p:cNvSpPr/>
          <p:nvPr/>
        </p:nvSpPr>
        <p:spPr>
          <a:xfrm>
            <a:off x="6453360" y="6472080"/>
            <a:ext cx="205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D159-E1F9-4056-8B39-7F4DCF7972AC}" type="slidenum">
              <a:rPr b="1" lang="ko-KR" sz="1200" spc="-1" strike="noStrike">
                <a:solidFill>
                  <a:srgbClr val="b3d0e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AutoShape 27">
            <a:hlinkClick r:id="" action="ppaction://hlinkshowjump?jump=previousslide"/>
          </p:cNvPr>
          <p:cNvSpPr/>
          <p:nvPr/>
        </p:nvSpPr>
        <p:spPr>
          <a:xfrm>
            <a:off x="7451640" y="638172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10800"/>
                </a:moveTo>
                <a:lnTo>
                  <a:pt x="19024" y="3794"/>
                </a:lnTo>
                <a:lnTo>
                  <a:pt x="190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직사각형 27"/>
          <p:cNvSpPr/>
          <p:nvPr/>
        </p:nvSpPr>
        <p:spPr>
          <a:xfrm>
            <a:off x="0" y="0"/>
            <a:ext cx="9144000" cy="157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9" name="그림 28" descr="title.jpg"/>
          <p:cNvPicPr/>
          <p:nvPr/>
        </p:nvPicPr>
        <p:blipFill>
          <a:blip r:embed="rId4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6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8000" y="285480"/>
            <a:ext cx="9036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2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부 노년기의 삶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욕구와</a:t>
            </a:r>
            <a:r>
              <a:rPr b="1" lang="en-US" sz="4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1" lang="ko-KR" sz="4800" spc="-1" strike="noStrike">
                <a:solidFill>
                  <a:srgbClr val="ffffff"/>
                </a:solidFill>
                <a:latin typeface="HY강B"/>
                <a:ea typeface="HY강B"/>
              </a:rPr>
              <a:t>문제</a:t>
            </a:r>
            <a:endParaRPr b="0" lang="en-US" sz="4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277" name="Picture 4" descr="그림1"/>
          <p:cNvPicPr/>
          <p:nvPr/>
        </p:nvPicPr>
        <p:blipFill>
          <a:blip r:embed="rId1"/>
          <a:stretch/>
        </p:blipFill>
        <p:spPr>
          <a:xfrm>
            <a:off x="-42840" y="1616040"/>
            <a:ext cx="9302760" cy="2803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571680" y="2000160"/>
            <a:ext cx="83152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3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경제생활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4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건강과 케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5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치매의 이해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6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여가생활과 교육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7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주거생활과 고령친화산업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HY강B"/>
                <a:ea typeface="HY강B"/>
              </a:rPr>
              <a:t>8</a:t>
            </a:r>
            <a:r>
              <a:rPr b="1" lang="ko-KR" sz="3600" spc="-1" strike="noStrike">
                <a:solidFill>
                  <a:srgbClr val="ff00ff"/>
                </a:solidFill>
                <a:latin typeface="HY강B"/>
                <a:ea typeface="HY강B"/>
              </a:rPr>
              <a:t>장 노년기의 사회관계망</a:t>
            </a:r>
            <a:endParaRPr b="0" lang="en-US" sz="3600" spc="-1" strike="noStrike">
              <a:solidFill>
                <a:srgbClr val="1d528d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9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장 노년기의 삶의 이면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(</a:t>
            </a:r>
            <a:r>
              <a:rPr b="0" lang="ko-KR" sz="3000" spc="-1" strike="noStrike">
                <a:solidFill>
                  <a:srgbClr val="eaeaea"/>
                </a:solidFill>
                <a:latin typeface="HY강B"/>
                <a:ea typeface="HY강B"/>
              </a:rPr>
              <a:t>裏面</a:t>
            </a:r>
            <a:r>
              <a:rPr b="0" lang="en-US" sz="3000" spc="-1" strike="noStrike">
                <a:solidFill>
                  <a:srgbClr val="eaeaea"/>
                </a:solidFill>
                <a:latin typeface="HY강B"/>
                <a:ea typeface="HY강B"/>
              </a:rPr>
              <a:t>)</a:t>
            </a:r>
            <a:endParaRPr b="0" lang="en-US" sz="3000" spc="-1" strike="noStrike">
              <a:solidFill>
                <a:srgbClr val="1d528d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그룹 11"/>
          <p:cNvGrpSpPr/>
          <p:nvPr/>
        </p:nvGrpSpPr>
        <p:grpSpPr>
          <a:xfrm>
            <a:off x="285840" y="71280"/>
            <a:ext cx="8643960" cy="6286680"/>
            <a:chOff x="285840" y="71280"/>
            <a:chExt cx="8643960" cy="6286680"/>
          </a:xfrm>
        </p:grpSpPr>
        <p:sp>
          <p:nvSpPr>
            <p:cNvPr id="371" name="AutoShape 2"/>
            <p:cNvSpPr/>
            <p:nvPr/>
          </p:nvSpPr>
          <p:spPr>
            <a:xfrm>
              <a:off x="285840" y="571320"/>
              <a:ext cx="8643960" cy="578664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2" name="Text Box 6"/>
            <p:cNvSpPr/>
            <p:nvPr/>
          </p:nvSpPr>
          <p:spPr>
            <a:xfrm>
              <a:off x="571320" y="642600"/>
              <a:ext cx="8358480" cy="56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산업화 이후의 사회변화와 함께 고부관계 급격한 변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통사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는 예속적 지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계계승과 집안일 담당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에의 복종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고부갈등 내재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현대사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가계관리권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높은 학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서구가치관 추종으로 고부갈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능성 상승과 외현화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고부갈등 원인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권력구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역할기대와 수행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애정구조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세대차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친척간 우애 소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부모 의견무시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부모 일 간섭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이기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태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1a2f96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다른 며느리와 비교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의 이기적 태도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와의 대화부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관습 차이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손자녀 양육 갈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고부갈등 예방과 해결</a:t>
              </a:r>
              <a:r>
                <a:rPr b="0" lang="en-US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모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-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며느리의 자기통제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사소통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갈등해결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능력 향상과 투사보다는 자기 탓으로 지각하는 태도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상대방 입장 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이해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제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의 지지적 개입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아들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남편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의 교량적 역할이 중요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800"/>
                </a:spcBef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부갈등 예방과 해결 위한 </a:t>
              </a:r>
              <a:r>
                <a:rPr b="0" lang="en-US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</a:t>
              </a:r>
              <a:r>
                <a:rPr b="0" lang="ko-KR" sz="20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의 구체적 행동지침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-7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73" name="직사각형 14"/>
            <p:cNvSpPr/>
            <p:nvPr/>
          </p:nvSpPr>
          <p:spPr>
            <a:xfrm>
              <a:off x="285840" y="71280"/>
              <a:ext cx="5643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400" spc="-1" strike="noStrike">
                  <a:solidFill>
                    <a:srgbClr val="c00000"/>
                  </a:solidFill>
                  <a:latin typeface="HY강B"/>
                </a:rPr>
                <a:t>고부관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그룹 5"/>
          <p:cNvGrpSpPr/>
          <p:nvPr/>
        </p:nvGrpSpPr>
        <p:grpSpPr>
          <a:xfrm>
            <a:off x="285840" y="71280"/>
            <a:ext cx="8572320" cy="6143760"/>
            <a:chOff x="285840" y="71280"/>
            <a:chExt cx="8572320" cy="6143760"/>
          </a:xfrm>
        </p:grpSpPr>
        <p:grpSp>
          <p:nvGrpSpPr>
            <p:cNvPr id="375" name="그룹 20"/>
            <p:cNvGrpSpPr/>
            <p:nvPr/>
          </p:nvGrpSpPr>
          <p:grpSpPr>
            <a:xfrm>
              <a:off x="357120" y="428400"/>
              <a:ext cx="8501040" cy="5786640"/>
              <a:chOff x="357120" y="428400"/>
              <a:chExt cx="8501040" cy="5786640"/>
            </a:xfrm>
          </p:grpSpPr>
          <p:sp>
            <p:nvSpPr>
              <p:cNvPr id="376" name="AutoShape 2"/>
              <p:cNvSpPr/>
              <p:nvPr/>
            </p:nvSpPr>
            <p:spPr>
              <a:xfrm>
                <a:off x="357120" y="428400"/>
                <a:ext cx="8501040" cy="5786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77" name="Text Box 25"/>
              <p:cNvSpPr/>
              <p:nvPr/>
            </p:nvSpPr>
            <p:spPr>
              <a:xfrm>
                <a:off x="461880" y="642600"/>
                <a:ext cx="8286840" cy="550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평균 수명연장으로 조부모 역할기간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 역할에 대한 가치 규범 부재로 조부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관계 혼란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주변적 가족관계로 전락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관계의 이점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젊음의 재경험과 생의 연속성 경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생산성과 성취감 경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장과 성취를 통한 대리만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문화적 연속성 획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긴장 사전경험을 통한 건전한 심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발달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결속력 증진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역사 계승</a:t>
                </a:r>
                <a:r>
                  <a:rPr b="0" lang="en-US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소속감과 정체감 강화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 양육과정에서 자녀와 갈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의 무용감과 소원한 관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이른 나이에 조부모가 되는 것에 대한 부담감 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 역할 유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8-8 </a:t>
                </a:r>
                <a:r>
                  <a:rPr b="0" lang="ko-KR" sz="18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반적으로 원거리형 또는 소원한 유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미추구형 또는 동료적 유형은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하지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언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혜원천형은 줄어들고 있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Clr>
                    <a:srgbClr val="174578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조부모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손자녀의 잦은 접촉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세대공동활동 확대 필요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78" name="AutoShape 7"/>
            <p:cNvSpPr/>
            <p:nvPr/>
          </p:nvSpPr>
          <p:spPr>
            <a:xfrm>
              <a:off x="285840" y="71280"/>
              <a:ext cx="47149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조부모</a:t>
              </a:r>
              <a:r>
                <a:rPr b="0" lang="en-US" sz="2500" spc="-1" strike="noStrike">
                  <a:solidFill>
                    <a:srgbClr val="ffffff"/>
                  </a:solidFill>
                  <a:latin typeface="HY강B"/>
                </a:rPr>
                <a:t>-</a:t>
              </a:r>
              <a:r>
                <a:rPr b="0" lang="ko-KR" sz="2500" spc="-1" strike="noStrike">
                  <a:solidFill>
                    <a:srgbClr val="ffffff"/>
                  </a:solidFill>
                  <a:latin typeface="HY강B"/>
                </a:rPr>
                <a:t>손자녀 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그룹 11"/>
          <p:cNvGrpSpPr/>
          <p:nvPr/>
        </p:nvGrpSpPr>
        <p:grpSpPr>
          <a:xfrm>
            <a:off x="285840" y="0"/>
            <a:ext cx="8858160" cy="6286680"/>
            <a:chOff x="285840" y="0"/>
            <a:chExt cx="8858160" cy="6286680"/>
          </a:xfrm>
        </p:grpSpPr>
        <p:grpSp>
          <p:nvGrpSpPr>
            <p:cNvPr id="380" name="그룹 11"/>
            <p:cNvGrpSpPr/>
            <p:nvPr/>
          </p:nvGrpSpPr>
          <p:grpSpPr>
            <a:xfrm>
              <a:off x="285840" y="747720"/>
              <a:ext cx="8643960" cy="3038400"/>
              <a:chOff x="285840" y="747720"/>
              <a:chExt cx="8643960" cy="3038400"/>
            </a:xfrm>
          </p:grpSpPr>
          <p:sp>
            <p:nvSpPr>
              <p:cNvPr id="381" name="AutoShape 2"/>
              <p:cNvSpPr/>
              <p:nvPr/>
            </p:nvSpPr>
            <p:spPr>
              <a:xfrm>
                <a:off x="285840" y="1104840"/>
                <a:ext cx="8643960" cy="26812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2" name="Text Box 6"/>
              <p:cNvSpPr/>
              <p:nvPr/>
            </p:nvSpPr>
            <p:spPr>
              <a:xfrm>
                <a:off x="357120" y="1143000"/>
                <a:ext cx="8501400" cy="257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형제관계 특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높은 결속력과 감정이입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영구적이고 지속적 관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감과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서적 지원의 강화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용한 사회화 모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구적 지원자로 기능하므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형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관계 중요성 증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척 연락과 접촉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이상 연락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7%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은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7%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로 별거자녀에 비해 연락과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가 매우 제한적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의 경제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상태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ADL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 높을수록 형제관계 강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형제관계에 대한 연구가 부족하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치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규범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무관심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적대형으로 구분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되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규범형이 가장 많음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9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3" name="직사각형 7"/>
              <p:cNvSpPr/>
              <p:nvPr/>
            </p:nvSpPr>
            <p:spPr>
              <a:xfrm>
                <a:off x="285840" y="74772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형제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84" name="AutoShape 4"/>
            <p:cNvSpPr/>
            <p:nvPr/>
          </p:nvSpPr>
          <p:spPr>
            <a:xfrm>
              <a:off x="357120" y="79200"/>
              <a:ext cx="37861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형제 및 친척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85" name="그룹 11"/>
            <p:cNvGrpSpPr/>
            <p:nvPr/>
          </p:nvGrpSpPr>
          <p:grpSpPr>
            <a:xfrm>
              <a:off x="285840" y="3903840"/>
              <a:ext cx="8643960" cy="2382840"/>
              <a:chOff x="285840" y="3903840"/>
              <a:chExt cx="8643960" cy="2382840"/>
            </a:xfrm>
          </p:grpSpPr>
          <p:sp>
            <p:nvSpPr>
              <p:cNvPr id="386" name="AutoShape 2"/>
              <p:cNvSpPr/>
              <p:nvPr/>
            </p:nvSpPr>
            <p:spPr>
              <a:xfrm>
                <a:off x="285840" y="4260600"/>
                <a:ext cx="8643960" cy="202608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7" name="Text Box 6"/>
              <p:cNvSpPr/>
              <p:nvPr/>
            </p:nvSpPr>
            <p:spPr>
              <a:xfrm>
                <a:off x="357120" y="4286160"/>
                <a:ext cx="857268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민법상 친척범위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8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내 혈족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4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내 인척과 배우자이지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실생활에서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-4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촌 범위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축소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특별한 집안 행사가 있는 경우에 관계유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척과의 연락과 접촉은 매우 제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그러나 친척관계망은 가족행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족위기시의 주요한 도구적 지원과 정서적 지원망의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기능을 수행하므로 중요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사회에서는 처가와의 교류와 지지가 많아지는 경향이 있으나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인은 친가 교류 많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88" name="직사각형 14"/>
              <p:cNvSpPr/>
              <p:nvPr/>
            </p:nvSpPr>
            <p:spPr>
              <a:xfrm>
                <a:off x="285840" y="390384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친척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pic>
          <p:nvPicPr>
            <p:cNvPr id="389" name="Picture 2" descr="C:\DOCUME~1\USER\LOCALS~1\Temp\UNI000006ac76d4.gif"/>
            <p:cNvPicPr/>
            <p:nvPr/>
          </p:nvPicPr>
          <p:blipFill>
            <a:blip r:embed="rId11"/>
            <a:stretch/>
          </p:blipFill>
          <p:spPr>
            <a:xfrm>
              <a:off x="7535880" y="0"/>
              <a:ext cx="1608120" cy="928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그림 3" descr="tit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2"/>
          <p:cNvSpPr/>
          <p:nvPr/>
        </p:nvSpPr>
        <p:spPr>
          <a:xfrm>
            <a:off x="1428840" y="285840"/>
            <a:ext cx="6858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</a:rPr>
              <a:t>4. 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</a:rPr>
              <a:t>친구 및 이웃관계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92" name="그룹 9"/>
          <p:cNvGrpSpPr/>
          <p:nvPr/>
        </p:nvGrpSpPr>
        <p:grpSpPr>
          <a:xfrm>
            <a:off x="142920" y="1071720"/>
            <a:ext cx="8929800" cy="5306760"/>
            <a:chOff x="142920" y="1071720"/>
            <a:chExt cx="8929800" cy="5306760"/>
          </a:xfrm>
        </p:grpSpPr>
        <p:sp>
          <p:nvSpPr>
            <p:cNvPr id="393" name="AutoShape 2"/>
            <p:cNvSpPr/>
            <p:nvPr/>
          </p:nvSpPr>
          <p:spPr>
            <a:xfrm>
              <a:off x="142920" y="1857240"/>
              <a:ext cx="8928360" cy="45007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4" name="Text Box 25"/>
            <p:cNvSpPr/>
            <p:nvPr/>
          </p:nvSpPr>
          <p:spPr>
            <a:xfrm>
              <a:off x="323280" y="1857240"/>
              <a:ext cx="8531640" cy="452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관계의 의의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은퇴와 상실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관계망 축소를 보완해줄 수 있는 심리사회적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지지체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회화의 유용한 모델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자아유용감과 자아지지기반 제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불만족스러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운 가족관계 대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일상생활 사기의 증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의 유형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confidant, friend, acquaintance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친구관계의 장애요인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 접근성 저하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비 부담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사망의 가능성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친구선택 기준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결혼상태 같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제여건과 일이 비슷하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비슷한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경험을 갖고 있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흥미나 취미가 비슷한 사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노년기 친구관계 특성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새 친구 사귈 기회 제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와 이웃 중복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중년기 이후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친구가 대부분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여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남성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농촌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&gt;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도시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건강하고 경제적 여유 있을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단체활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에 적극 참여할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웃에 노인이 많고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동일지역에 오래 거주할수록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젊은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시절에 친구가 많은 사람이 노년기에도 친구가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절친한 친구가 있는 노인이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57%, 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평균 </a:t>
              </a:r>
              <a:r>
                <a:rPr b="0" lang="en-US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1.4</a:t>
              </a:r>
              <a:r>
                <a:rPr b="0" lang="ko-KR" sz="18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명 정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5" name="AutoShape 29"/>
            <p:cNvSpPr/>
            <p:nvPr/>
          </p:nvSpPr>
          <p:spPr>
            <a:xfrm>
              <a:off x="357120" y="1428840"/>
              <a:ext cx="8572680" cy="428400"/>
            </a:xfrm>
            <a:prstGeom prst="roundRect">
              <a:avLst>
                <a:gd name="adj" fmla="val 1374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  </a:t>
              </a:r>
              <a:r>
                <a:rPr b="0" lang="ko-KR" sz="2000" spc="-1" strike="noStrike">
                  <a:solidFill>
                    <a:srgbClr val="c00000"/>
                  </a:solidFill>
                  <a:latin typeface="HY강B"/>
                </a:rPr>
                <a:t>친구관계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96" name="Text Box 25"/>
            <p:cNvSpPr/>
            <p:nvPr/>
          </p:nvSpPr>
          <p:spPr>
            <a:xfrm>
              <a:off x="285480" y="1071720"/>
              <a:ext cx="8787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909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2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과의 분리현상이 가속화됨에 따라 친구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이웃관계 중요성 증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그룹 8"/>
          <p:cNvGrpSpPr/>
          <p:nvPr/>
        </p:nvGrpSpPr>
        <p:grpSpPr>
          <a:xfrm>
            <a:off x="285840" y="142920"/>
            <a:ext cx="8715240" cy="6327720"/>
            <a:chOff x="285840" y="142920"/>
            <a:chExt cx="8715240" cy="6327720"/>
          </a:xfrm>
        </p:grpSpPr>
        <p:grpSp>
          <p:nvGrpSpPr>
            <p:cNvPr id="398" name="그룹 12"/>
            <p:cNvGrpSpPr/>
            <p:nvPr/>
          </p:nvGrpSpPr>
          <p:grpSpPr>
            <a:xfrm>
              <a:off x="2071800" y="5572080"/>
              <a:ext cx="6929280" cy="898560"/>
              <a:chOff x="2071800" y="5572080"/>
              <a:chExt cx="6929280" cy="898560"/>
            </a:xfrm>
          </p:grpSpPr>
          <p:pic>
            <p:nvPicPr>
              <p:cNvPr id="399" name="Picture 4" descr="C:\DOCUME~1\USER\LOCALS~1\Temp\UNI000006c8818c.gif"/>
              <p:cNvPicPr/>
              <p:nvPr/>
            </p:nvPicPr>
            <p:blipFill>
              <a:blip r:embed="rId1"/>
              <a:stretch/>
            </p:blipFill>
            <p:spPr>
              <a:xfrm>
                <a:off x="2071800" y="5572080"/>
                <a:ext cx="1000080" cy="89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Rectangle 4"/>
              <p:cNvSpPr/>
              <p:nvPr/>
            </p:nvSpPr>
            <p:spPr>
              <a:xfrm>
                <a:off x="3022560" y="5911920"/>
                <a:ext cx="5978520" cy="44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다음 주 강의주제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: 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노년기의 삶의 이면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(</a:t>
                </a:r>
                <a:r>
                  <a:rPr b="1" lang="ko-KR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裏面</a:t>
                </a:r>
                <a:r>
                  <a:rPr b="1" lang="en-US" sz="2300" spc="-1" strike="noStrike">
                    <a:solidFill>
                      <a:srgbClr val="827305"/>
                    </a:solidFill>
                    <a:latin typeface="맑은 고딕"/>
                    <a:ea typeface="맑은 고딕"/>
                  </a:rPr>
                  <a:t>)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401" name="그룹 8"/>
            <p:cNvGrpSpPr/>
            <p:nvPr/>
          </p:nvGrpSpPr>
          <p:grpSpPr>
            <a:xfrm>
              <a:off x="285840" y="142920"/>
              <a:ext cx="8640720" cy="5214960"/>
              <a:chOff x="285840" y="142920"/>
              <a:chExt cx="8640720" cy="5214960"/>
            </a:xfrm>
          </p:grpSpPr>
          <p:sp>
            <p:nvSpPr>
              <p:cNvPr id="402" name="AutoShape 2"/>
              <p:cNvSpPr/>
              <p:nvPr/>
            </p:nvSpPr>
            <p:spPr>
              <a:xfrm>
                <a:off x="285840" y="642960"/>
                <a:ext cx="8640720" cy="471492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3" name="Text Box 6"/>
              <p:cNvSpPr/>
              <p:nvPr/>
            </p:nvSpPr>
            <p:spPr>
              <a:xfrm>
                <a:off x="500040" y="704880"/>
                <a:ext cx="8143920" cy="463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의 친구관계와 이웃관계는 대부분 중복됨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년기에 비해 노년기에 전반적으로 이웃 접촉이 증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거의 매일이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8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농촌은 </a:t>
                </a: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65%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8-10 </a:t>
                </a:r>
                <a:r>
                  <a:rPr b="0" lang="ko-KR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HY강M"/>
                    <a:ea typeface="HY강M"/>
                  </a:rPr>
                  <a:t>)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남녀간의 이웃관계 차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성이 남성보다 이웃 교류 많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남성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장생활 등으로 친구나 이웃관계 소홀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접 만나서 교류하는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성향이 강함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사회적 관계의 유지를 더욱 중시하며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직접 만남과 전화나 서신을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통해서도 교류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800"/>
                  </a:spcBef>
                  <a:buSzPct val="10279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20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도농간의 이웃관계 차이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도시보다 농촌 지역 노인의 이웃교류가 많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농촌노인이 동일지역 거주기간이 길고</a:t>
                </a:r>
                <a:r>
                  <a:rPr b="0" lang="en-US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농촌은 개방적 공동체 사회 특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04" name="직사각형 14"/>
              <p:cNvSpPr/>
              <p:nvPr/>
            </p:nvSpPr>
            <p:spPr>
              <a:xfrm>
                <a:off x="318960" y="142920"/>
                <a:ext cx="5072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Arial"/>
                  </a:rPr>
                  <a:t>이웃관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3" descr="그림1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2872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2"/>
          <p:cNvSpPr/>
          <p:nvPr/>
        </p:nvSpPr>
        <p:spPr>
          <a:xfrm>
            <a:off x="6037200" y="6259680"/>
            <a:ext cx="165744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1" name="Group 6"/>
          <p:cNvGrpSpPr/>
          <p:nvPr/>
        </p:nvGrpSpPr>
        <p:grpSpPr>
          <a:xfrm>
            <a:off x="-2388960" y="1999800"/>
            <a:ext cx="4032000" cy="3776760"/>
            <a:chOff x="-2388960" y="1999800"/>
            <a:chExt cx="4032000" cy="3776760"/>
          </a:xfrm>
        </p:grpSpPr>
        <p:sp>
          <p:nvSpPr>
            <p:cNvPr id="282" name="AutoShape 7"/>
            <p:cNvSpPr/>
            <p:nvPr/>
          </p:nvSpPr>
          <p:spPr>
            <a:xfrm rot="5400000">
              <a:off x="-2261160" y="1872000"/>
              <a:ext cx="3776760" cy="4032000"/>
            </a:xfrm>
            <a:custGeom>
              <a:avLst/>
              <a:gdLst>
                <a:gd name="textAreaLeft" fmla="*/ 69840 w 3776760"/>
                <a:gd name="textAreaRight" fmla="*/ 3706920 w 3776760"/>
                <a:gd name="textAreaTop" fmla="*/ 0 h 4032000"/>
                <a:gd name="textAreaBottom" fmla="*/ 2544840 h 40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23" y="10641"/>
                  </a:moveTo>
                  <a:cubicBezTo>
                    <a:pt x="410" y="4916"/>
                    <a:pt x="5075" y="321"/>
                    <a:pt x="10800" y="322"/>
                  </a:cubicBezTo>
                  <a:cubicBezTo>
                    <a:pt x="16524" y="322"/>
                    <a:pt x="21189" y="4916"/>
                    <a:pt x="21276" y="10641"/>
                  </a:cubicBezTo>
                  <a:lnTo>
                    <a:pt x="21598" y="10636"/>
                  </a:lnTo>
                  <a:cubicBezTo>
                    <a:pt x="21509" y="4736"/>
                    <a:pt x="16700" y="-1"/>
                    <a:pt x="10799" y="0"/>
                  </a:cubicBezTo>
                  <a:cubicBezTo>
                    <a:pt x="4899" y="0"/>
                    <a:pt x="90" y="4736"/>
                    <a:pt x="1" y="10636"/>
                  </a:cubicBezTo>
                  <a:lnTo>
                    <a:pt x="323" y="1064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84313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AutoShape 8"/>
            <p:cNvSpPr/>
            <p:nvPr/>
          </p:nvSpPr>
          <p:spPr>
            <a:xfrm rot="5400000">
              <a:off x="-1160280" y="3043080"/>
              <a:ext cx="2453400" cy="1717560"/>
            </a:xfrm>
            <a:custGeom>
              <a:avLst/>
              <a:gdLst>
                <a:gd name="textAreaLeft" fmla="*/ 0 w 2453400"/>
                <a:gd name="textAreaRight" fmla="*/ 2453400 w 2453400"/>
                <a:gd name="textAreaTop" fmla="*/ 0 h 1717560"/>
                <a:gd name="textAreaBottom" fmla="*/ 622080 h 17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56" y="10807"/>
                  </a:moveTo>
                  <a:cubicBezTo>
                    <a:pt x="10056" y="10805"/>
                    <a:pt x="10056" y="10802"/>
                    <a:pt x="10056" y="10800"/>
                  </a:cubicBezTo>
                  <a:cubicBezTo>
                    <a:pt x="10056" y="10389"/>
                    <a:pt x="10389" y="10056"/>
                    <a:pt x="10800" y="10056"/>
                  </a:cubicBezTo>
                  <a:cubicBezTo>
                    <a:pt x="11210" y="10056"/>
                    <a:pt x="11544" y="10389"/>
                    <a:pt x="11544" y="10800"/>
                  </a:cubicBezTo>
                  <a:cubicBezTo>
                    <a:pt x="11544" y="10802"/>
                    <a:pt x="11543" y="10805"/>
                    <a:pt x="11543" y="10807"/>
                  </a:cubicBezTo>
                  <a:lnTo>
                    <a:pt x="21599" y="10916"/>
                  </a:lnTo>
                  <a:cubicBezTo>
                    <a:pt x="21599" y="10877"/>
                    <a:pt x="21600" y="1083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838"/>
                    <a:pt x="0" y="10877"/>
                    <a:pt x="0" y="10916"/>
                  </a:cubicBezTo>
                  <a:lnTo>
                    <a:pt x="10056" y="1080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8">
                    <a:alpha val="7607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84" name="Line 9"/>
          <p:cNvSpPr/>
          <p:nvPr/>
        </p:nvSpPr>
        <p:spPr>
          <a:xfrm flipV="1">
            <a:off x="0" y="3857760"/>
            <a:ext cx="1357200" cy="4608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0" y="3929040"/>
            <a:ext cx="857160" cy="128592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 flipV="1">
            <a:off x="-71280" y="2714400"/>
            <a:ext cx="857160" cy="1207800"/>
          </a:xfrm>
          <a:prstGeom prst="line">
            <a:avLst/>
          </a:prstGeom>
          <a:ln w="3816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87" name="그룹 37"/>
          <p:cNvGrpSpPr/>
          <p:nvPr/>
        </p:nvGrpSpPr>
        <p:grpSpPr>
          <a:xfrm>
            <a:off x="642960" y="2071800"/>
            <a:ext cx="8199360" cy="3614760"/>
            <a:chOff x="642960" y="2071800"/>
            <a:chExt cx="8199360" cy="3614760"/>
          </a:xfrm>
        </p:grpSpPr>
        <p:sp>
          <p:nvSpPr>
            <p:cNvPr id="288" name="AutoShape 4"/>
            <p:cNvSpPr/>
            <p:nvPr/>
          </p:nvSpPr>
          <p:spPr>
            <a:xfrm>
              <a:off x="1622160" y="2071800"/>
              <a:ext cx="719928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770000"/>
                </a:gs>
                <a:gs pos="100000">
                  <a:srgbClr val="ce00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노년기 사회관계망과 지지의 변화 이해 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89" name="Group 14"/>
            <p:cNvGrpSpPr/>
            <p:nvPr/>
          </p:nvGrpSpPr>
          <p:grpSpPr>
            <a:xfrm>
              <a:off x="642960" y="2214360"/>
              <a:ext cx="856800" cy="714600"/>
              <a:chOff x="642960" y="2214360"/>
              <a:chExt cx="856800" cy="714600"/>
            </a:xfrm>
          </p:grpSpPr>
          <p:sp>
            <p:nvSpPr>
              <p:cNvPr id="290" name="Oval 15"/>
              <p:cNvSpPr/>
              <p:nvPr/>
            </p:nvSpPr>
            <p:spPr>
              <a:xfrm>
                <a:off x="664200" y="221436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1" name="Oval 16"/>
              <p:cNvSpPr/>
              <p:nvPr/>
            </p:nvSpPr>
            <p:spPr>
              <a:xfrm>
                <a:off x="664200" y="221616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2" name="Picture 17" descr="알"/>
              <p:cNvPicPr/>
              <p:nvPr/>
            </p:nvPicPr>
            <p:blipFill>
              <a:blip r:embed="rId2"/>
              <a:stretch/>
            </p:blipFill>
            <p:spPr>
              <a:xfrm>
                <a:off x="713160" y="221832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Text Box 18"/>
              <p:cNvSpPr/>
              <p:nvPr/>
            </p:nvSpPr>
            <p:spPr>
              <a:xfrm>
                <a:off x="642960" y="22204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Ⅰ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14"/>
            <p:cNvGrpSpPr/>
            <p:nvPr/>
          </p:nvGrpSpPr>
          <p:grpSpPr>
            <a:xfrm>
              <a:off x="642960" y="3571920"/>
              <a:ext cx="856800" cy="714600"/>
              <a:chOff x="642960" y="3571920"/>
              <a:chExt cx="856800" cy="714600"/>
            </a:xfrm>
          </p:grpSpPr>
          <p:sp>
            <p:nvSpPr>
              <p:cNvPr id="295" name="Oval 15"/>
              <p:cNvSpPr/>
              <p:nvPr/>
            </p:nvSpPr>
            <p:spPr>
              <a:xfrm>
                <a:off x="664200" y="3571920"/>
                <a:ext cx="777600" cy="7146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6" name="Oval 16"/>
              <p:cNvSpPr/>
              <p:nvPr/>
            </p:nvSpPr>
            <p:spPr>
              <a:xfrm>
                <a:off x="664200" y="3573720"/>
                <a:ext cx="777600" cy="71280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297" name="Picture 17" descr="알"/>
              <p:cNvPicPr/>
              <p:nvPr/>
            </p:nvPicPr>
            <p:blipFill>
              <a:blip r:embed="rId3"/>
              <a:stretch/>
            </p:blipFill>
            <p:spPr>
              <a:xfrm>
                <a:off x="713160" y="3575880"/>
                <a:ext cx="694440" cy="66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Text Box 18"/>
              <p:cNvSpPr/>
              <p:nvPr/>
            </p:nvSpPr>
            <p:spPr>
              <a:xfrm>
                <a:off x="642960" y="35758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Ⅱ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14"/>
            <p:cNvGrpSpPr/>
            <p:nvPr/>
          </p:nvGrpSpPr>
          <p:grpSpPr>
            <a:xfrm>
              <a:off x="642960" y="4929480"/>
              <a:ext cx="856800" cy="719280"/>
              <a:chOff x="642960" y="4929480"/>
              <a:chExt cx="856800" cy="719280"/>
            </a:xfrm>
          </p:grpSpPr>
          <p:sp>
            <p:nvSpPr>
              <p:cNvPr id="300" name="Oval 15"/>
              <p:cNvSpPr/>
              <p:nvPr/>
            </p:nvSpPr>
            <p:spPr>
              <a:xfrm>
                <a:off x="664200" y="4931640"/>
                <a:ext cx="777600" cy="71712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  <a:effectLst>
                <a:outerShdw dist="40186" dir="17296359" blurRad="0" rotWithShape="0">
                  <a:srgbClr val="777777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1" name="Oval 16"/>
              <p:cNvSpPr/>
              <p:nvPr/>
            </p:nvSpPr>
            <p:spPr>
              <a:xfrm>
                <a:off x="664200" y="4933440"/>
                <a:ext cx="777600" cy="714960"/>
              </a:xfrm>
              <a:prstGeom prst="ellipse">
                <a:avLst/>
              </a:prstGeom>
              <a:solidFill>
                <a:srgbClr val="b3d3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400" rIns="68400" tIns="36000" bIns="360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pic>
            <p:nvPicPr>
              <p:cNvPr id="302" name="Picture 17" descr="알"/>
              <p:cNvPicPr/>
              <p:nvPr/>
            </p:nvPicPr>
            <p:blipFill>
              <a:blip r:embed="rId4"/>
              <a:stretch/>
            </p:blipFill>
            <p:spPr>
              <a:xfrm>
                <a:off x="713160" y="4929480"/>
                <a:ext cx="694440" cy="66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Text Box 18"/>
              <p:cNvSpPr/>
              <p:nvPr/>
            </p:nvSpPr>
            <p:spPr>
              <a:xfrm>
                <a:off x="642960" y="4929480"/>
                <a:ext cx="85680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d528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00"/>
                    </a:solidFill>
                    <a:latin typeface="HY크리스탈M"/>
                    <a:ea typeface="HY크리스탈M"/>
                  </a:rPr>
                  <a:t>Ⅲ</a:t>
                </a:r>
                <a:endParaRPr b="0" lang="en-US" sz="2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04" name="AutoShape 4"/>
            <p:cNvSpPr/>
            <p:nvPr/>
          </p:nvSpPr>
          <p:spPr>
            <a:xfrm>
              <a:off x="1643040" y="3429000"/>
              <a:ext cx="719928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노인가족의 구조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기능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생활주기</a:t>
              </a:r>
              <a:r>
                <a:rPr b="0" lang="en-US" sz="2300" spc="-1" strike="noStrike">
                  <a:solidFill>
                    <a:srgbClr val="ffffff"/>
                  </a:solidFill>
                  <a:latin typeface="HY강B"/>
                </a:rPr>
                <a:t>, </a:t>
              </a:r>
              <a:r>
                <a:rPr b="0" lang="ko-KR" sz="2300" spc="-1" strike="noStrike">
                  <a:solidFill>
                    <a:srgbClr val="ffffff"/>
                  </a:solidFill>
                  <a:latin typeface="HY강B"/>
                </a:rPr>
                <a:t>관계상의 변화 이해</a:t>
              </a:r>
              <a:endParaRPr b="0" lang="en-US" sz="23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05" name="AutoShape 4"/>
            <p:cNvSpPr/>
            <p:nvPr/>
          </p:nvSpPr>
          <p:spPr>
            <a:xfrm>
              <a:off x="1643040" y="4786560"/>
              <a:ext cx="7199280" cy="900000"/>
            </a:xfrm>
            <a:prstGeom prst="roundRect">
              <a:avLst>
                <a:gd name="adj" fmla="val 49106"/>
              </a:avLst>
            </a:prstGeom>
            <a:gradFill rotWithShape="0">
              <a:gsLst>
                <a:gs pos="0">
                  <a:srgbClr val="46678b"/>
                </a:gs>
                <a:gs pos="100000">
                  <a:srgbClr val="7cb3ef"/>
                </a:gs>
              </a:gsLst>
              <a:lin ang="16200000"/>
            </a:gradFill>
            <a:ln w="2844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cacac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ffff"/>
                  </a:solidFill>
                  <a:latin typeface="HY강B"/>
                </a:rPr>
                <a:t>노년기의 친구 및 이웃관계의 변화 이해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06" name="AutoShape 7"/>
          <p:cNvSpPr/>
          <p:nvPr/>
        </p:nvSpPr>
        <p:spPr>
          <a:xfrm>
            <a:off x="357120" y="1357200"/>
            <a:ext cx="1606680" cy="503280"/>
          </a:xfrm>
          <a:prstGeom prst="roundRect">
            <a:avLst>
              <a:gd name="adj" fmla="val 49106"/>
            </a:avLst>
          </a:prstGeom>
          <a:gradFill rotWithShape="0">
            <a:gsLst>
              <a:gs pos="0">
                <a:srgbClr val="9e3483"/>
              </a:gs>
              <a:gs pos="50000">
                <a:srgbClr val="ef4fc5"/>
              </a:gs>
              <a:gs pos="100000">
                <a:srgbClr val="9e3483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acac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HY강B"/>
              </a:rPr>
              <a:t>학습목표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71360" y="274680"/>
            <a:ext cx="80722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제 </a:t>
            </a:r>
            <a:r>
              <a:rPr b="1" lang="en-US" sz="3600" spc="-1" strike="noStrike">
                <a:solidFill>
                  <a:srgbClr val="ffffff"/>
                </a:solidFill>
                <a:latin typeface="HY강B"/>
                <a:ea typeface="HY강B"/>
              </a:rPr>
              <a:t>8 </a:t>
            </a:r>
            <a:r>
              <a:rPr b="1" lang="ko-KR" sz="3600" spc="-1" strike="noStrike">
                <a:solidFill>
                  <a:srgbClr val="ffffff"/>
                </a:solidFill>
                <a:latin typeface="HY강B"/>
                <a:ea typeface="HY강B"/>
              </a:rPr>
              <a:t>장 노년기의 사회관계망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그룹 11"/>
          <p:cNvGrpSpPr/>
          <p:nvPr/>
        </p:nvGrpSpPr>
        <p:grpSpPr>
          <a:xfrm>
            <a:off x="0" y="0"/>
            <a:ext cx="9144000" cy="6344640"/>
            <a:chOff x="0" y="0"/>
            <a:chExt cx="9144000" cy="6344640"/>
          </a:xfrm>
        </p:grpSpPr>
        <p:pic>
          <p:nvPicPr>
            <p:cNvPr id="30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Rectangle 2"/>
            <p:cNvSpPr/>
            <p:nvPr/>
          </p:nvSpPr>
          <p:spPr>
            <a:xfrm>
              <a:off x="1428480" y="14256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1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사회관계망과 지지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11" name="그룹 22"/>
            <p:cNvGrpSpPr/>
            <p:nvPr/>
          </p:nvGrpSpPr>
          <p:grpSpPr>
            <a:xfrm>
              <a:off x="180720" y="1068120"/>
              <a:ext cx="8963280" cy="5276520"/>
              <a:chOff x="180720" y="1068120"/>
              <a:chExt cx="8963280" cy="5276520"/>
            </a:xfrm>
          </p:grpSpPr>
          <p:sp>
            <p:nvSpPr>
              <p:cNvPr id="312" name="AutoShape 2"/>
              <p:cNvSpPr/>
              <p:nvPr/>
            </p:nvSpPr>
            <p:spPr>
              <a:xfrm>
                <a:off x="180720" y="1571400"/>
                <a:ext cx="8820720" cy="250056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3" name="Text Box 25"/>
              <p:cNvSpPr/>
              <p:nvPr/>
            </p:nvSpPr>
            <p:spPr>
              <a:xfrm>
                <a:off x="213840" y="1571400"/>
                <a:ext cx="8930160" cy="252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1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관계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개인이 사회적 정체성을 유지하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다양한 자원과 서비스를 주고 받을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수 있는 사회적 관계의 범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즉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관계의 그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網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계망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구조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크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범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구성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작용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역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교환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내용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관계빈도 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지적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물질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구적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관계망의 성원과 상호작용하는 과정에서 자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서비스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등의 물질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도구적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또는 정서적 지지를 주고 받는 행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9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지지 요청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위계적 보상속성을 따름</a:t>
                </a:r>
                <a:r>
                  <a:rPr b="0" lang="en-US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1 </a:t>
                </a:r>
                <a:r>
                  <a:rPr b="0" lang="ko-KR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4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14" name="그룹 18"/>
              <p:cNvGrpSpPr/>
              <p:nvPr/>
            </p:nvGrpSpPr>
            <p:grpSpPr>
              <a:xfrm>
                <a:off x="180720" y="4695840"/>
                <a:ext cx="8963280" cy="1648800"/>
                <a:chOff x="180720" y="4695840"/>
                <a:chExt cx="8963280" cy="1648800"/>
              </a:xfrm>
            </p:grpSpPr>
            <p:sp>
              <p:nvSpPr>
                <p:cNvPr id="315" name="AutoShape 2"/>
                <p:cNvSpPr/>
                <p:nvPr/>
              </p:nvSpPr>
              <p:spPr>
                <a:xfrm>
                  <a:off x="180720" y="4737240"/>
                  <a:ext cx="8820720" cy="1571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>
                    <a:alpha val="10000"/>
                  </a:srgbClr>
                </a:solidFill>
                <a:ln w="9360">
                  <a:solidFill>
                    <a:srgbClr val="1d528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6" name="Text Box 25"/>
                <p:cNvSpPr/>
                <p:nvPr/>
              </p:nvSpPr>
              <p:spPr>
                <a:xfrm>
                  <a:off x="213840" y="4695840"/>
                  <a:ext cx="8930160" cy="164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792"/>
                    <a:buBlip>
                      <a:blip r:embed="rId6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퇴직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건강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상실 등으로 인해 사회적 지지의 필요성은 증가하나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 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관계망과 비공식적 지지는 오히려 축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7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가족기능 약화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,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공동체사회의 와해 등으로 노인에 대한 지지 더욱 축소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8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사회적 관계망과 지지의 축소로 미충족 욕구나 문제가 심화될 가능성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buSzPct val="102812"/>
                    <a:buBlip>
                      <a:blip r:embed="rId9"/>
                    </a:buBlip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따라서 공식 및</a:t>
                  </a:r>
                  <a:r>
                    <a:rPr b="0" lang="en-US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 </a:t>
                  </a:r>
                  <a:r>
                    <a:rPr b="0" lang="ko-KR" sz="1800" spc="-1" strike="noStrike">
                      <a:solidFill>
                        <a:srgbClr val="174578"/>
                      </a:solidFill>
                      <a:latin typeface="HY강M"/>
                      <a:ea typeface="HY강M"/>
                    </a:rPr>
                    <a:t>비공식적 관계망의 지지에 대한 평가와 개입 필요</a:t>
                  </a: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AutoShape 4"/>
              <p:cNvSpPr/>
              <p:nvPr/>
            </p:nvSpPr>
            <p:spPr>
              <a:xfrm>
                <a:off x="213840" y="1068120"/>
                <a:ext cx="542952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사회관계망과 사회적 지지의 개념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8" name="AutoShape 4"/>
              <p:cNvSpPr/>
              <p:nvPr/>
            </p:nvSpPr>
            <p:spPr>
              <a:xfrm>
                <a:off x="213840" y="4211640"/>
                <a:ext cx="542952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사회관계망과 사회적 지지의 변화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그룹 11"/>
          <p:cNvGrpSpPr/>
          <p:nvPr/>
        </p:nvGrpSpPr>
        <p:grpSpPr>
          <a:xfrm>
            <a:off x="0" y="0"/>
            <a:ext cx="9144000" cy="6359400"/>
            <a:chOff x="0" y="0"/>
            <a:chExt cx="9144000" cy="6359400"/>
          </a:xfrm>
        </p:grpSpPr>
        <p:pic>
          <p:nvPicPr>
            <p:cNvPr id="320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5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Rectangle 2"/>
            <p:cNvSpPr/>
            <p:nvPr/>
          </p:nvSpPr>
          <p:spPr>
            <a:xfrm>
              <a:off x="1428480" y="7128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2.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인가족의 구조와 기능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22" name="그룹 34"/>
            <p:cNvGrpSpPr/>
            <p:nvPr/>
          </p:nvGrpSpPr>
          <p:grpSpPr>
            <a:xfrm>
              <a:off x="285480" y="784080"/>
              <a:ext cx="8643960" cy="2767320"/>
              <a:chOff x="285480" y="784080"/>
              <a:chExt cx="8643960" cy="2767320"/>
            </a:xfrm>
          </p:grpSpPr>
          <p:sp>
            <p:nvSpPr>
              <p:cNvPr id="323" name="AutoShape 2"/>
              <p:cNvSpPr/>
              <p:nvPr/>
            </p:nvSpPr>
            <p:spPr>
              <a:xfrm>
                <a:off x="285480" y="1193760"/>
                <a:ext cx="8643960" cy="230400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4" name="AutoShape 4"/>
              <p:cNvSpPr/>
              <p:nvPr/>
            </p:nvSpPr>
            <p:spPr>
              <a:xfrm>
                <a:off x="356760" y="784080"/>
                <a:ext cx="4429080" cy="431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1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 가족의 개념과 유형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5" name="Text Box 6"/>
              <p:cNvSpPr/>
              <p:nvPr/>
            </p:nvSpPr>
            <p:spPr>
              <a:xfrm>
                <a:off x="499680" y="1283760"/>
                <a:ext cx="8358480" cy="226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년기에 가족은 사회적 관계의 중심축이며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장 중요한 지지 체계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혈연공동체인 가족과 주거공동체인 가구의 일치성이 높고 가족에 대한 객관적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료가 부족하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구를 기준으로 노인가족의 구조를 설명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유형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신가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부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직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합가족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1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변화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비정형가족 증가추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차남형 직계가족 증가에도 직계가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은 줄고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방계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복합가족 소폭 증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empty nest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지속적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인거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隣居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또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soup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 식지 않는 거리의 별거 등의 수정확대가족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26" name="그룹 34"/>
            <p:cNvGrpSpPr/>
            <p:nvPr/>
          </p:nvGrpSpPr>
          <p:grpSpPr>
            <a:xfrm>
              <a:off x="285480" y="3571560"/>
              <a:ext cx="8643960" cy="2787840"/>
              <a:chOff x="285480" y="3571560"/>
              <a:chExt cx="8643960" cy="2787840"/>
            </a:xfrm>
          </p:grpSpPr>
          <p:sp>
            <p:nvSpPr>
              <p:cNvPr id="327" name="AutoShape 2"/>
              <p:cNvSpPr/>
              <p:nvPr/>
            </p:nvSpPr>
            <p:spPr>
              <a:xfrm>
                <a:off x="285480" y="4022280"/>
                <a:ext cx="8643960" cy="23342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8" name="AutoShape 4"/>
              <p:cNvSpPr/>
              <p:nvPr/>
            </p:nvSpPr>
            <p:spPr>
              <a:xfrm>
                <a:off x="356760" y="3571560"/>
                <a:ext cx="4357800" cy="47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e81e0"/>
                  </a:gs>
                  <a:gs pos="100000">
                    <a:srgbClr val="333c6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cacac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HY강B"/>
                  </a:rPr>
                  <a:t>2) </a:t>
                </a:r>
                <a:r>
                  <a:rPr b="0" lang="ko-KR" sz="2200" spc="-1" strike="noStrike">
                    <a:solidFill>
                      <a:srgbClr val="ffffff"/>
                    </a:solidFill>
                    <a:latin typeface="HY강B"/>
                  </a:rPr>
                  <a:t>노인 가족의 구조</a:t>
                </a:r>
                <a:endParaRPr b="0" lang="en-US" sz="22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9" name="Text Box 6"/>
              <p:cNvSpPr/>
              <p:nvPr/>
            </p:nvSpPr>
            <p:spPr>
              <a:xfrm>
                <a:off x="499680" y="4105800"/>
                <a:ext cx="8358480" cy="225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노인가족의 구조적 변화 추이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녀동거비율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5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2% point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감소하였으며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017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자녀동거가구는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27%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로 급감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(2017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년 복지부 노인실태조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독신가구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부부가구 비율은 증가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자녀동거가구는 감소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2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와 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3 </a:t>
                </a:r>
                <a:r>
                  <a:rPr b="0" lang="ko-KR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8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구성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3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줄고 독신 및 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세대 가구는 증가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spcBef>
                    <a:spcPts val="201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가족규모</a:t>
                </a:r>
                <a:r>
                  <a:rPr b="0" lang="en-US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81373"/>
                    </a:solidFill>
                    <a:latin typeface="HY강M"/>
                    <a:ea typeface="HY강M"/>
                  </a:rPr>
                  <a:t>점진적 축소되어 소인수가구의 특성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AutoShape 2"/>
          <p:cNvSpPr/>
          <p:nvPr/>
        </p:nvSpPr>
        <p:spPr>
          <a:xfrm>
            <a:off x="71280" y="714240"/>
            <a:ext cx="9001440" cy="557244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1" name="그룹 10"/>
          <p:cNvGrpSpPr/>
          <p:nvPr/>
        </p:nvGrpSpPr>
        <p:grpSpPr>
          <a:xfrm>
            <a:off x="214200" y="285840"/>
            <a:ext cx="8858520" cy="6017760"/>
            <a:chOff x="214200" y="285840"/>
            <a:chExt cx="8858520" cy="6017760"/>
          </a:xfrm>
        </p:grpSpPr>
        <p:sp>
          <p:nvSpPr>
            <p:cNvPr id="332" name="AutoShape 4"/>
            <p:cNvSpPr/>
            <p:nvPr/>
          </p:nvSpPr>
          <p:spPr>
            <a:xfrm>
              <a:off x="285480" y="285840"/>
              <a:ext cx="428652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3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 가족의 기능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3" name="Text Box 6"/>
            <p:cNvSpPr/>
            <p:nvPr/>
          </p:nvSpPr>
          <p:spPr>
            <a:xfrm>
              <a:off x="214200" y="952560"/>
              <a:ext cx="8858520" cy="53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가족의 기능은 ‘부양’으로 대치하여 사용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 기능으로 구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은 별거녀로부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은 배우자와 동거자녀로부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은 배우자로부터 받는 비율이 높음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8-4 </a:t>
              </a:r>
              <a:r>
                <a:rPr b="0" lang="ko-KR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c00000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제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정기현금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56-59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비정기 현금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73-86%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신체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가사지원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4-63%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간병과 수발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31-51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받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심리적 부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: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동별거 자녀로부터 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67-71%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정도 받으나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의 부양이 더 많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배우자가 노년기의 가장 중요한 사회적 지지원이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자녀의 부양기능은 약화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인의 기능 저하시 부양가족은 자원부족과 부양능력 약화로 스트레스와 부양부담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경험 가능성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AutoShape 2"/>
          <p:cNvSpPr/>
          <p:nvPr/>
        </p:nvSpPr>
        <p:spPr>
          <a:xfrm>
            <a:off x="71280" y="571680"/>
            <a:ext cx="9001440" cy="5572080"/>
          </a:xfrm>
          <a:prstGeom prst="roundRect">
            <a:avLst>
              <a:gd name="adj" fmla="val 16667"/>
            </a:avLst>
          </a:prstGeom>
          <a:solidFill>
            <a:srgbClr val="ff6600">
              <a:alpha val="10000"/>
            </a:srgbClr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35" name="그룹 10"/>
          <p:cNvGrpSpPr/>
          <p:nvPr/>
        </p:nvGrpSpPr>
        <p:grpSpPr>
          <a:xfrm>
            <a:off x="142920" y="142920"/>
            <a:ext cx="8929800" cy="5879520"/>
            <a:chOff x="142920" y="142920"/>
            <a:chExt cx="8929800" cy="5879520"/>
          </a:xfrm>
        </p:grpSpPr>
        <p:sp>
          <p:nvSpPr>
            <p:cNvPr id="336" name="AutoShape 4"/>
            <p:cNvSpPr/>
            <p:nvPr/>
          </p:nvSpPr>
          <p:spPr>
            <a:xfrm>
              <a:off x="285480" y="142920"/>
              <a:ext cx="5072040" cy="571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HY강B"/>
                </a:rPr>
                <a:t>4) </a:t>
              </a:r>
              <a:r>
                <a:rPr b="1" lang="ko-KR" sz="2800" spc="-1" strike="noStrike">
                  <a:solidFill>
                    <a:srgbClr val="ffffff"/>
                  </a:solidFill>
                  <a:latin typeface="HY강B"/>
                </a:rPr>
                <a:t>노인가족의 생활주기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37" name="Text Box 6"/>
            <p:cNvSpPr/>
            <p:nvPr/>
          </p:nvSpPr>
          <p:spPr>
            <a:xfrm>
              <a:off x="142920" y="954000"/>
              <a:ext cx="8929800" cy="50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은 수직적 스트레스 유발요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전통 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과 수평적 스트레스 유발요인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결혼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출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전쟁 등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)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으로 인하여 변화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발달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생활주기는 ‘가족형성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확대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확대완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축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축소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완료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가족해체기’로 구분되며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는 가족축소기 혹은 가족축소완료기부터 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시작됨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가족생활 연장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(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표 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8-5 </a:t>
              </a:r>
              <a:r>
                <a:rPr b="0" lang="ko-KR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참조</a:t>
              </a:r>
              <a:r>
                <a:rPr b="0" lang="en-US" sz="1800" spc="-1" strike="noStrike">
                  <a:solidFill>
                    <a:srgbClr val="af334e"/>
                  </a:solidFill>
                  <a:latin typeface="HY강M"/>
                  <a:ea typeface="HY강M"/>
                </a:rPr>
                <a:t>)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8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이전 결혼한 노년기 부부는 노부부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6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8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독신으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등 총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도 노년기 가족생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99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결혼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40-5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대는 노부부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4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,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독신으로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3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 정도 등 총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27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년 </a:t>
              </a: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10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개월 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   </a:t>
              </a:r>
              <a:r>
                <a:rPr b="0" lang="ko-KR" sz="1600" spc="-1" strike="noStrike">
                  <a:solidFill>
                    <a:srgbClr val="002060"/>
                  </a:solidFill>
                  <a:latin typeface="HY강M"/>
                  <a:ea typeface="HY강M"/>
                </a:rPr>
                <a:t>정도 노년기 가족생활</a:t>
              </a:r>
              <a:endParaRPr b="0" lang="en-US" sz="16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SzPct val="10281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노년기 부부 혹은 독신생활 기간이 연장됨에 따라 소득보장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건강유지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회적 관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망의 유지는 더욱 중요해지고 있음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99"/>
                </a:spcBef>
                <a:buClr>
                  <a:srgbClr val="1a2f96"/>
                </a:buClr>
                <a:buFont typeface="HY강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사별한 여성 고령 독신노인의 경우 빈곤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질병</a:t>
              </a: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,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고독과 소외 등의 문제가 심화될 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   </a:t>
              </a:r>
              <a:r>
                <a:rPr b="0" lang="ko-KR" sz="1800" spc="-1" strike="noStrike">
                  <a:solidFill>
                    <a:srgbClr val="1a2f96"/>
                  </a:solidFill>
                  <a:latin typeface="HY강M"/>
                  <a:ea typeface="HY강M"/>
                </a:rPr>
                <a:t>망임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그룹 14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pic>
          <p:nvPicPr>
            <p:cNvPr id="339" name="그림 3" descr="title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 Box 25"/>
            <p:cNvSpPr/>
            <p:nvPr/>
          </p:nvSpPr>
          <p:spPr>
            <a:xfrm>
              <a:off x="285480" y="1071360"/>
              <a:ext cx="8786880" cy="7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buSzPct val="10279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가족관계는 중요한 사회적 지지의 제공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안정감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유대감</a:t>
              </a: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,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소속감을 제공해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   </a:t>
              </a:r>
              <a:r>
                <a:rPr b="0" lang="ko-KR" sz="2000" spc="-1" strike="noStrike">
                  <a:solidFill>
                    <a:srgbClr val="174578"/>
                  </a:solidFill>
                  <a:latin typeface="HY강M"/>
                  <a:ea typeface="HY강M"/>
                </a:rPr>
                <a:t>주는 사회적 관계망으로 노년기에 그 중요성이 높아짐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1" name="AutoShape 7"/>
            <p:cNvSpPr/>
            <p:nvPr/>
          </p:nvSpPr>
          <p:spPr>
            <a:xfrm>
              <a:off x="285480" y="1928880"/>
              <a:ext cx="235728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HY강B"/>
                </a:rPr>
                <a:t>1) </a:t>
              </a:r>
              <a:r>
                <a:rPr b="0" lang="ko-KR" sz="2400" spc="-1" strike="noStrike">
                  <a:solidFill>
                    <a:srgbClr val="ffffff"/>
                  </a:solidFill>
                  <a:latin typeface="HY강B"/>
                </a:rPr>
                <a:t>부부관계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2" name="그룹 14"/>
            <p:cNvGrpSpPr/>
            <p:nvPr/>
          </p:nvGrpSpPr>
          <p:grpSpPr>
            <a:xfrm>
              <a:off x="285480" y="2500200"/>
              <a:ext cx="8643960" cy="1928880"/>
              <a:chOff x="285480" y="2500200"/>
              <a:chExt cx="8643960" cy="1928880"/>
            </a:xfrm>
          </p:grpSpPr>
          <p:sp>
            <p:nvSpPr>
              <p:cNvPr id="343" name="AutoShape 2"/>
              <p:cNvSpPr/>
              <p:nvPr/>
            </p:nvSpPr>
            <p:spPr>
              <a:xfrm>
                <a:off x="642600" y="2928600"/>
                <a:ext cx="8215560" cy="1500480"/>
              </a:xfrm>
              <a:prstGeom prst="roundRect">
                <a:avLst>
                  <a:gd name="adj" fmla="val 2003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4" name="AutoShape 29"/>
              <p:cNvSpPr/>
              <p:nvPr/>
            </p:nvSpPr>
            <p:spPr>
              <a:xfrm>
                <a:off x="285480" y="25002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부부의 결혼만족도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5" name="Text Box 25"/>
              <p:cNvSpPr/>
              <p:nvPr/>
            </p:nvSpPr>
            <p:spPr>
              <a:xfrm>
                <a:off x="713880" y="2928600"/>
                <a:ext cx="8215560" cy="14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관계는 친밀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의존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소속감 제공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만족도 변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기간과 반비례 또는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U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형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그림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8-2 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결혼만족도 결정요인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양육 책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년기까지 결혼만족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사분담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 지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사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현재 상호작용의 양과 질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46" name="Rectangle 2"/>
            <p:cNvSpPr/>
            <p:nvPr/>
          </p:nvSpPr>
          <p:spPr>
            <a:xfrm>
              <a:off x="1428480" y="285480"/>
              <a:ext cx="6858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en-US" sz="3200" spc="-1" strike="noStrike">
                  <a:solidFill>
                    <a:srgbClr val="ffffff"/>
                  </a:solidFill>
                  <a:latin typeface="HY강B"/>
                </a:rPr>
                <a:t>3.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 </a:t>
              </a:r>
              <a:r>
                <a:rPr b="1" lang="ko-KR" sz="3200" spc="-1" strike="noStrike">
                  <a:solidFill>
                    <a:srgbClr val="ffffff"/>
                  </a:solidFill>
                  <a:latin typeface="HY강B"/>
                </a:rPr>
                <a:t>노년기의 가족관계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47" name="그룹 18"/>
            <p:cNvGrpSpPr/>
            <p:nvPr/>
          </p:nvGrpSpPr>
          <p:grpSpPr>
            <a:xfrm>
              <a:off x="285480" y="4572000"/>
              <a:ext cx="8643960" cy="1785960"/>
              <a:chOff x="285480" y="4572000"/>
              <a:chExt cx="8643960" cy="1785960"/>
            </a:xfrm>
          </p:grpSpPr>
          <p:sp>
            <p:nvSpPr>
              <p:cNvPr id="348" name="AutoShape 2"/>
              <p:cNvSpPr/>
              <p:nvPr/>
            </p:nvSpPr>
            <p:spPr>
              <a:xfrm>
                <a:off x="642600" y="5000400"/>
                <a:ext cx="8215560" cy="1357560"/>
              </a:xfrm>
              <a:prstGeom prst="roundRect">
                <a:avLst>
                  <a:gd name="adj" fmla="val 2003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49" name="AutoShape 29"/>
              <p:cNvSpPr/>
              <p:nvPr/>
            </p:nvSpPr>
            <p:spPr>
              <a:xfrm>
                <a:off x="285480" y="4572000"/>
                <a:ext cx="857268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84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400" spc="-1" strike="noStrike">
                    <a:solidFill>
                      <a:srgbClr val="c00000"/>
                    </a:solidFill>
                    <a:latin typeface="HY강B"/>
                  </a:rPr>
                  <a:t>노년기의 역할전환과 부부적응</a:t>
                </a:r>
                <a:endParaRPr b="0" lang="en-US" sz="24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0" name="Text Box 25"/>
              <p:cNvSpPr/>
              <p:nvPr/>
            </p:nvSpPr>
            <p:spPr>
              <a:xfrm>
                <a:off x="713880" y="5000400"/>
                <a:ext cx="8215560" cy="12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79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은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진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launching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로 빈 둥지 기간 연장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장점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성취감과 부부간 응집력 강화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활발한 사회참여의 기회 확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01"/>
                  </a:spcBef>
                  <a:buClr>
                    <a:srgbClr val="002060"/>
                  </a:buClr>
                  <a:buFont typeface="Wingdings" charset="2"/>
                  <a:buChar char="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단점</a:t>
                </a:r>
                <a:r>
                  <a:rPr b="0" lang="en-US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002060"/>
                    </a:solidFill>
                    <a:latin typeface="HY강M"/>
                    <a:ea typeface="HY강M"/>
                  </a:rPr>
                  <a:t>자녀진수 수용 못하면 불행해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부부관계의 적응과제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교재 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267</a:t>
                </a:r>
                <a:r>
                  <a:rPr b="0" lang="ko-KR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쪽 참조</a:t>
                </a:r>
                <a:r>
                  <a:rPr b="0" lang="en-US" sz="1600" spc="-1" strike="noStrike">
                    <a:solidFill>
                      <a:srgbClr val="af334e"/>
                    </a:solidFill>
                    <a:latin typeface="HY강M"/>
                    <a:ea typeface="HY강M"/>
                  </a:rPr>
                  <a:t>)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그룹 9"/>
          <p:cNvGrpSpPr/>
          <p:nvPr/>
        </p:nvGrpSpPr>
        <p:grpSpPr>
          <a:xfrm>
            <a:off x="214200" y="0"/>
            <a:ext cx="8858520" cy="6428520"/>
            <a:chOff x="214200" y="0"/>
            <a:chExt cx="8858520" cy="6428520"/>
          </a:xfrm>
        </p:grpSpPr>
        <p:sp>
          <p:nvSpPr>
            <p:cNvPr id="352" name="AutoShape 2"/>
            <p:cNvSpPr/>
            <p:nvPr/>
          </p:nvSpPr>
          <p:spPr>
            <a:xfrm>
              <a:off x="428400" y="3785760"/>
              <a:ext cx="8573040" cy="264276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53" name="AutoShape 2"/>
            <p:cNvSpPr/>
            <p:nvPr/>
          </p:nvSpPr>
          <p:spPr>
            <a:xfrm>
              <a:off x="428400" y="500040"/>
              <a:ext cx="8573040" cy="2857320"/>
            </a:xfrm>
            <a:prstGeom prst="roundRect">
              <a:avLst>
                <a:gd name="adj" fmla="val 16667"/>
              </a:avLst>
            </a:prstGeom>
            <a:solidFill>
              <a:srgbClr val="ff6600">
                <a:alpha val="10000"/>
              </a:srgbClr>
            </a:solidFill>
            <a:ln w="9360">
              <a:solidFill>
                <a:srgbClr val="1d52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54" name="그룹 10"/>
            <p:cNvGrpSpPr/>
            <p:nvPr/>
          </p:nvGrpSpPr>
          <p:grpSpPr>
            <a:xfrm>
              <a:off x="214200" y="0"/>
              <a:ext cx="8858520" cy="3368160"/>
              <a:chOff x="214200" y="0"/>
              <a:chExt cx="8858520" cy="3368160"/>
            </a:xfrm>
          </p:grpSpPr>
          <p:sp>
            <p:nvSpPr>
              <p:cNvPr id="355" name="AutoShape 29"/>
              <p:cNvSpPr/>
              <p:nvPr/>
            </p:nvSpPr>
            <p:spPr>
              <a:xfrm>
                <a:off x="214200" y="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의 이혼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6" name="Text Box 25"/>
              <p:cNvSpPr/>
              <p:nvPr/>
            </p:nvSpPr>
            <p:spPr>
              <a:xfrm>
                <a:off x="499680" y="500040"/>
                <a:ext cx="8573040" cy="28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체 이혼율의 급증과 함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December divorce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증가추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2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이상 결혼생활 지속한 노부부의 혼인관계 해소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우리나라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90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대 후반부터 시작되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2017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3,579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으로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005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에 비해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.3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배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전체 이혼의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2.8%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정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.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의 증가는 전 세계적 추세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 증가 이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유교적 결혼관과 가부장적 위계구조 약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의 권리에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한 인식개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대부분 여성이 이혼제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의 경제력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법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권리 신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부부불화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 문제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가족갈등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buSzPct val="102812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황혼이혼의 장단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불평등의 종식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아회복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사회적 독립성 증가와 삶의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만족도 증가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vs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사회적 소외와 고독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적 어려움 직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grpSp>
          <p:nvGrpSpPr>
            <p:cNvPr id="357" name="그룹 10"/>
            <p:cNvGrpSpPr/>
            <p:nvPr/>
          </p:nvGrpSpPr>
          <p:grpSpPr>
            <a:xfrm>
              <a:off x="214200" y="3357360"/>
              <a:ext cx="8858520" cy="3048480"/>
              <a:chOff x="214200" y="3357360"/>
              <a:chExt cx="8858520" cy="3048480"/>
            </a:xfrm>
          </p:grpSpPr>
          <p:sp>
            <p:nvSpPr>
              <p:cNvPr id="358" name="AutoShape 29"/>
              <p:cNvSpPr/>
              <p:nvPr/>
            </p:nvSpPr>
            <p:spPr>
              <a:xfrm>
                <a:off x="214200" y="3357360"/>
                <a:ext cx="8573040" cy="428400"/>
              </a:xfrm>
              <a:prstGeom prst="roundRect">
                <a:avLst>
                  <a:gd name="adj" fmla="val 13745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buSzPct val="102871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  </a:t>
                </a:r>
                <a:r>
                  <a:rPr b="0" lang="ko-KR" sz="2300" spc="-1" strike="noStrike">
                    <a:solidFill>
                      <a:srgbClr val="c00000"/>
                    </a:solidFill>
                    <a:latin typeface="HY강B"/>
                  </a:rPr>
                  <a:t>노년기의 재혼</a:t>
                </a:r>
                <a:endParaRPr b="0" lang="en-US" sz="23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59" name="Text Box 25"/>
              <p:cNvSpPr/>
              <p:nvPr/>
            </p:nvSpPr>
            <p:spPr>
              <a:xfrm>
                <a:off x="499680" y="3762000"/>
                <a:ext cx="8573040" cy="264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년기 재혼 의식변화로 재혼 건수 증가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(2017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년 남성 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2,634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여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1,202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)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 사유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심리적 고독 해소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에 대한 부담 경감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간호문제의 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인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동반자 찾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친밀감과 사랑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성적 욕구 충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기표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경제안정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자녀관계 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과 독립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의 특성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상대 선택후 자녀 동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중매혼이 주류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남성은 이기적 태도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산문제로 인한 갈등 예방위해 동거나 계약결혼 선택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buSzPct val="102812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혼 성공조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재산상속 사전해결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독자적 경제력 확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새로운 가족관계 적응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노력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오랜 교제와 상대에 대한 충분한 이해</a:t>
                </a:r>
                <a:r>
                  <a:rPr b="0" lang="en-US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800" spc="-1" strike="noStrike">
                    <a:solidFill>
                      <a:srgbClr val="174578"/>
                    </a:solidFill>
                    <a:latin typeface="HY강M"/>
                    <a:ea typeface="HY강M"/>
                  </a:rPr>
                  <a:t>상호의존</a:t>
                </a: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그룹 10"/>
          <p:cNvGrpSpPr/>
          <p:nvPr/>
        </p:nvGrpSpPr>
        <p:grpSpPr>
          <a:xfrm>
            <a:off x="285840" y="79200"/>
            <a:ext cx="8643960" cy="6283800"/>
            <a:chOff x="285840" y="79200"/>
            <a:chExt cx="8643960" cy="6283800"/>
          </a:xfrm>
        </p:grpSpPr>
        <p:grpSp>
          <p:nvGrpSpPr>
            <p:cNvPr id="361" name="그룹 11"/>
            <p:cNvGrpSpPr/>
            <p:nvPr/>
          </p:nvGrpSpPr>
          <p:grpSpPr>
            <a:xfrm>
              <a:off x="285840" y="911160"/>
              <a:ext cx="8643960" cy="3320640"/>
              <a:chOff x="285840" y="911160"/>
              <a:chExt cx="8643960" cy="3320640"/>
            </a:xfrm>
          </p:grpSpPr>
          <p:sp>
            <p:nvSpPr>
              <p:cNvPr id="362" name="AutoShape 2"/>
              <p:cNvSpPr/>
              <p:nvPr/>
            </p:nvSpPr>
            <p:spPr>
              <a:xfrm>
                <a:off x="285840" y="1213920"/>
                <a:ext cx="8643960" cy="25466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3" name="Text Box 6"/>
              <p:cNvSpPr/>
              <p:nvPr/>
            </p:nvSpPr>
            <p:spPr>
              <a:xfrm>
                <a:off x="357120" y="1228680"/>
                <a:ext cx="8501400" cy="300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객관적 유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연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빈도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물리적 거리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원교환의 양적 교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주관적 유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애정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친밀감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감정 교환 등의 질적 교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질적 교류 중시 ↔ 자녀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양적 교류 중시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 유대관계 영향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가치관과 관심사가 유사하고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년기 이전의 유대관계가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좋았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건강과 경제사정이 좋으며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에 대한 적정수준의 부양기대와 상호지지시 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 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대가 강화됨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5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다수 노인이 별거자녀와 월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1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회 이상 연락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/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접촉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대부분 관계 만족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6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‘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전통성과 근대성이 혼재하는 문화적 이중구조’로 세대간 갈등 가능성이 높아짐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199"/>
                  </a:spcBef>
                  <a:buClr>
                    <a:srgbClr val="1a2f96"/>
                  </a:buClr>
                  <a:buFont typeface="HY강M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4" name="직사각형 7"/>
              <p:cNvSpPr/>
              <p:nvPr/>
            </p:nvSpPr>
            <p:spPr>
              <a:xfrm>
                <a:off x="357120" y="91116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7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부모와 성인 자녀의 유대관계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365" name="AutoShape 4"/>
            <p:cNvSpPr/>
            <p:nvPr/>
          </p:nvSpPr>
          <p:spPr>
            <a:xfrm>
              <a:off x="357120" y="79200"/>
              <a:ext cx="3786120" cy="492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e81e0"/>
                </a:gs>
                <a:gs pos="100000">
                  <a:srgbClr val="333c68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cacac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2) 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부모</a:t>
              </a:r>
              <a:r>
                <a:rPr b="1" lang="en-US" sz="2500" spc="-1" strike="noStrike">
                  <a:solidFill>
                    <a:srgbClr val="ffffff"/>
                  </a:solidFill>
                  <a:latin typeface="HY강B"/>
                </a:rPr>
                <a:t>-</a:t>
              </a:r>
              <a:r>
                <a:rPr b="1" lang="ko-KR" sz="2500" spc="-1" strike="noStrike">
                  <a:solidFill>
                    <a:srgbClr val="ffffff"/>
                  </a:solidFill>
                  <a:latin typeface="HY강B"/>
                </a:rPr>
                <a:t>자녀관계</a:t>
              </a:r>
              <a:endParaRPr b="0" lang="en-US" sz="25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366" name="그룹 11"/>
            <p:cNvGrpSpPr/>
            <p:nvPr/>
          </p:nvGrpSpPr>
          <p:grpSpPr>
            <a:xfrm>
              <a:off x="285840" y="4072320"/>
              <a:ext cx="8643960" cy="2290680"/>
              <a:chOff x="285840" y="4072320"/>
              <a:chExt cx="8643960" cy="2290680"/>
            </a:xfrm>
          </p:grpSpPr>
          <p:sp>
            <p:nvSpPr>
              <p:cNvPr id="367" name="AutoShape 2"/>
              <p:cNvSpPr/>
              <p:nvPr/>
            </p:nvSpPr>
            <p:spPr>
              <a:xfrm>
                <a:off x="285840" y="4407480"/>
                <a:ext cx="8643960" cy="1954440"/>
              </a:xfrm>
              <a:prstGeom prst="roundRect">
                <a:avLst>
                  <a:gd name="adj" fmla="val 16667"/>
                </a:avLst>
              </a:prstGeom>
              <a:solidFill>
                <a:srgbClr val="ff6600">
                  <a:alpha val="10000"/>
                </a:srgbClr>
              </a:solidFill>
              <a:ln w="9360">
                <a:solidFill>
                  <a:srgbClr val="1d52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8" name="Text Box 6"/>
              <p:cNvSpPr/>
              <p:nvPr/>
            </p:nvSpPr>
            <p:spPr>
              <a:xfrm>
                <a:off x="357120" y="4427280"/>
                <a:ext cx="8572680" cy="19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8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동거부양은 지난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30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년간 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45% point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이상 감소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TONK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족 증가로 별거증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9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와의 동별거 결정요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표 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8-6 </a:t>
                </a:r>
                <a:r>
                  <a:rPr b="0" lang="ko-KR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참조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0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현대 노부모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-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자녀관계는 일방적 의무관계에서 상호교환적 관계로 전환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1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지지의 내용과 방향</a:t>
                </a:r>
                <a:r>
                  <a:rPr b="0" lang="en-US" sz="1600" spc="-1" strike="noStrike">
                    <a:solidFill>
                      <a:srgbClr val="c00000"/>
                    </a:solidFill>
                    <a:latin typeface="HY강M"/>
                    <a:ea typeface="HY강M"/>
                  </a:rPr>
                  <a:t>: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상호지원형이 대다수를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차지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2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여성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배우 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중산층 이상 노인이 자녀에 더 많은 지지 제공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buSzPct val="102837"/>
                  <a:buBlip>
                    <a:blip r:embed="rId13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빈곤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유병노인</a:t>
                </a:r>
                <a:r>
                  <a:rPr b="0" lang="en-US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, </a:t>
                </a:r>
                <a:r>
                  <a:rPr b="0" lang="ko-KR" sz="1600" spc="-1" strike="noStrike">
                    <a:solidFill>
                      <a:srgbClr val="1a2f96"/>
                    </a:solidFill>
                    <a:latin typeface="HY강M"/>
                    <a:ea typeface="HY강M"/>
                  </a:rPr>
                  <a:t>일상생활 저하노인은 자녀의 지지를 더 많이 받음</a:t>
                </a:r>
                <a:endParaRPr b="0" lang="en-US" sz="16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69" name="직사각형 14"/>
              <p:cNvSpPr/>
              <p:nvPr/>
            </p:nvSpPr>
            <p:spPr>
              <a:xfrm>
                <a:off x="285840" y="4072320"/>
                <a:ext cx="5643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buSzPct val="102792"/>
                  <a:buBlip>
                    <a:blip r:embed="rId14"/>
                  </a:buBlip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  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노부모</a:t>
                </a: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-</a:t>
                </a:r>
                <a:r>
                  <a:rPr b="0" lang="ko-KR" sz="2000" spc="-1" strike="noStrike">
                    <a:solidFill>
                      <a:srgbClr val="c00000"/>
                    </a:solidFill>
                    <a:latin typeface="Arial"/>
                  </a:rPr>
                  <a:t>자녀의 동별거와 지지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2:34:59Z</dcterms:created>
  <dc:creator>OWNER</dc:creator>
  <dc:description/>
  <dc:language>en-US</dc:language>
  <cp:lastModifiedBy>Windows 사용자</cp:lastModifiedBy>
  <dcterms:modified xsi:type="dcterms:W3CDTF">2019-07-11T04:37:57Z</dcterms:modified>
  <cp:revision>356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61042</vt:lpwstr>
  </property>
</Properties>
</file>