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14B4-467F-4909-A4FD-DFA466E751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9914-67BA-409A-BF3D-B24044F7E21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3A3E-9A44-4CAD-9156-313EC9B3B9E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45678-B2EB-49D7-952C-B28A3F7F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7683C-EA35-43B0-8E93-29065251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1330A-081C-42C8-BCEF-E90A1989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386D9-7249-4795-9CBB-81623642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4DD89-3442-41DA-BA43-186C9CE0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AE3ED-9F16-4036-9E40-BCAC00D1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796E0-B1B0-415D-BC79-25B667F0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E61FF-213B-4339-BFD8-051F7E5C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6841F-79CA-47E5-81B3-C4CD33D8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595D0-CF58-484E-8CD1-1FE7A472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2C3D8-5AC5-4A32-B3C3-1A6EA0E5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8FBAD-C24B-4276-8C56-E8FA11F2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46A1-F0BA-4448-AC76-4B1DCAD436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E427-1024-441C-9EB7-F334470B365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7D07-E4AD-4154-9B72-6900F65C41D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F7F9-E034-408B-9179-40DE9C65D30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CBF5-4EAF-4B58-A638-1C7F67EC90B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285840" y="71280"/>
            <a:ext cx="8643960" cy="6286680"/>
            <a:chOff x="285840" y="71280"/>
            <a:chExt cx="8643960" cy="6286680"/>
          </a:xfrm>
        </p:grpSpPr>
        <p:sp>
          <p:nvSpPr>
            <p:cNvPr id="371" name="AutoShape 2"/>
            <p:cNvSpPr/>
            <p:nvPr/>
          </p:nvSpPr>
          <p:spPr>
            <a:xfrm>
              <a:off x="285840" y="571320"/>
              <a:ext cx="864396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571320" y="642600"/>
              <a:ext cx="835848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84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원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280" y="1857240"/>
              <a:ext cx="85316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스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운 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.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 사회관계망과 지지의 변화 이해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망과 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400"/>
            <a:chOff x="0" y="0"/>
            <a:chExt cx="9144000" cy="635940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35848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oup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식지 않는 거리의 별거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840"/>
              <a:chOff x="285480" y="3571560"/>
              <a:chExt cx="8643960" cy="278784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2280"/>
                <a:ext cx="8643960" cy="233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80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2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7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급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복지부 노인실태조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신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6017760"/>
            <a:chOff x="214200" y="285840"/>
            <a:chExt cx="8858520" cy="60177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52560"/>
              <a:ext cx="8858520" cy="53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별거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6-59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3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4-63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7-7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시 부양가족은 자원부족과 부양능력 약화로 스트레스와 부양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879520"/>
            <a:chOff x="142920" y="142920"/>
            <a:chExt cx="8929800" cy="587952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54000"/>
              <a:ext cx="8929800" cy="50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-5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별한 여성 고령 독신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될 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적 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67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500040"/>
              <a:ext cx="8573040" cy="2857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57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6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20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과 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911160"/>
              <a:ext cx="8643960" cy="3320640"/>
              <a:chOff x="285840" y="911160"/>
              <a:chExt cx="8643960" cy="332064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92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868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9111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 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2320"/>
              <a:ext cx="8643960" cy="2290680"/>
              <a:chOff x="285840" y="4072320"/>
              <a:chExt cx="8643960" cy="229068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 point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TONK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23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4:37:57Z</dcterms:modified>
  <cp:revision>35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