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9ABF-537D-488A-AD98-3CAEB6D1B27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1080-D918-4420-A61E-F3DFA3C29FF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BBBA-B0F5-41AB-B33F-D390B1E1E89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E92D-B22B-4977-B634-A5954C0B39BB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1CD0-67F6-4508-8A7E-C861E397373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65B8F-81D9-4F7D-A01D-7A8EAFEA0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BC619-3981-4F15-8AE2-EF76B2D3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54EE9-25E5-435B-8609-2D766286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B864D-D560-4267-B114-70A5C08C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6C47A-764F-4B3E-A6DD-9C6D4973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A36F1-282B-4BCC-AF7F-2A07973C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60CE1-B9E6-4F27-A569-E3B1FF1C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411C4-E163-49D1-A5D4-08718740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B872B-04BA-4224-A601-F9FF5D7C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5F708-E188-4200-AE4C-8EB25C51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53A57-B0E6-4BE8-89F7-9BF8403BF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332B9-6AFC-493D-898F-DDEA9DC1F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57BD1C-C7F2-44AD-86D8-DF161F5B3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ED3447-2D3A-4A85-ACB2-C13C5325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10345D-8967-4CCC-809E-F60C76DF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E3CCD7-F080-4674-B4D9-9F97B924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F9AE77-9D50-4342-8172-97FFC2D8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7EF552-828E-46F0-BE7C-791E9DD7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2227D9-3527-4CBA-B462-67904185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9B4B82-D96C-473E-8A40-28944A08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C62B93-B8A7-4618-8CC5-897B04EF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5ACC4E-2377-44F0-8201-5BDA72B1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313E26-D469-4881-81A6-FC603CC6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1BB56A-F531-4CEC-8065-ADAA3D0B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25EA-5983-4789-91F4-987B1E4944E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BD94-9FFE-4BE0-A07C-208DEA5E993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12E0-A199-4A63-A8C5-ECF665F3D17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4549-4D66-40A3-A344-08224D91F535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4B3C-0816-445E-833B-195D7153D05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35D2-06A2-4970-8023-BCD0CE52A8D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0B24-CB51-4396-AC87-A636F671716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8F7D-58E7-4621-B45A-52B25900340E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B3FF-2DDD-4385-817A-8912AF4E6CC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D20F-A571-4015-8509-8E921A62966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4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28760" y="3142800"/>
            <a:ext cx="8501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0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와 노인복지정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1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2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프로그램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HY강B"/>
                <a:ea typeface="HY강B"/>
              </a:rPr>
              <a:t>13</a:t>
            </a:r>
            <a:r>
              <a:rPr b="1" lang="ko-KR" sz="4400" spc="-1" strike="noStrike">
                <a:solidFill>
                  <a:srgbClr val="ff00ff"/>
                </a:solidFill>
                <a:latin typeface="HY강B"/>
                <a:ea typeface="HY강B"/>
              </a:rPr>
              <a:t>장 노인복지실천</a:t>
            </a:r>
            <a:endParaRPr b="0" lang="en-US" sz="44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그룹 8"/>
          <p:cNvGrpSpPr/>
          <p:nvPr/>
        </p:nvGrpSpPr>
        <p:grpSpPr>
          <a:xfrm>
            <a:off x="357120" y="71280"/>
            <a:ext cx="8643960" cy="6286680"/>
            <a:chOff x="357120" y="71280"/>
            <a:chExt cx="8643960" cy="6286680"/>
          </a:xfrm>
        </p:grpSpPr>
        <p:sp>
          <p:nvSpPr>
            <p:cNvPr id="626" name="AutoShape 4"/>
            <p:cNvSpPr/>
            <p:nvPr/>
          </p:nvSpPr>
          <p:spPr>
            <a:xfrm>
              <a:off x="357120" y="71280"/>
              <a:ext cx="41432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6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상담의 과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7" name="AutoShape 2"/>
            <p:cNvSpPr/>
            <p:nvPr/>
          </p:nvSpPr>
          <p:spPr>
            <a:xfrm>
              <a:off x="428400" y="999720"/>
              <a:ext cx="85312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8" name="Text Box 6"/>
            <p:cNvSpPr/>
            <p:nvPr/>
          </p:nvSpPr>
          <p:spPr>
            <a:xfrm>
              <a:off x="428400" y="1071360"/>
              <a:ext cx="8572680" cy="19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화관계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rapport)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의 형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을 이해하려는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담자중심적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허용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진솔한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돕고자 하는 자세의 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 문제의 이해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을 요청한 이유와 동기의 파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의 배경에 대한 이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와 초점 문제의 확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과거의 문제해결방법과 현재의 문제해결 의지와 동기 확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상담에 대한 기대 확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상담의 구조화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방식과 절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담자의 태도 등에 대한 기본적 오리엔테이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9" name="직사각형 4"/>
            <p:cNvSpPr/>
            <p:nvPr/>
          </p:nvSpPr>
          <p:spPr>
            <a:xfrm>
              <a:off x="428400" y="6426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접수 및 관계형성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0" name="AutoShape 2"/>
            <p:cNvSpPr/>
            <p:nvPr/>
          </p:nvSpPr>
          <p:spPr>
            <a:xfrm>
              <a:off x="428400" y="3643200"/>
              <a:ext cx="853128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1" name="직사각형 6"/>
            <p:cNvSpPr/>
            <p:nvPr/>
          </p:nvSpPr>
          <p:spPr>
            <a:xfrm>
              <a:off x="428400" y="32860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자료수집 및 사정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2" name="Text Box 6"/>
            <p:cNvSpPr/>
            <p:nvPr/>
          </p:nvSpPr>
          <p:spPr>
            <a:xfrm>
              <a:off x="428400" y="3714840"/>
              <a:ext cx="8572680" cy="25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료수집과 사정은 전체 원조과정에서 이루어지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조관계 형성 이후 집중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으로 이루어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자료수집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상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강점과 단점 모두를 확인하여야 하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의 내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심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로 인해 야기되는 결과나 상황의 확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정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신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심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기능 수준에 대한 포괄적 사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능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필요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과 한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지지체계의 장점과 단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상담목표와 개입계획 수립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구체적이고 명확하며 현실적으로 달성가능한 목표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설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를 실현할 수 있는 개입계획 수립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그룹 8"/>
          <p:cNvGrpSpPr/>
          <p:nvPr/>
        </p:nvGrpSpPr>
        <p:grpSpPr>
          <a:xfrm>
            <a:off x="357120" y="71280"/>
            <a:ext cx="8748720" cy="6286680"/>
            <a:chOff x="357120" y="71280"/>
            <a:chExt cx="8748720" cy="6286680"/>
          </a:xfrm>
        </p:grpSpPr>
        <p:sp>
          <p:nvSpPr>
            <p:cNvPr id="634" name="AutoShape 2"/>
            <p:cNvSpPr/>
            <p:nvPr/>
          </p:nvSpPr>
          <p:spPr>
            <a:xfrm>
              <a:off x="357120" y="428400"/>
              <a:ext cx="867600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5" name="Text Box 6"/>
            <p:cNvSpPr/>
            <p:nvPr/>
          </p:nvSpPr>
          <p:spPr>
            <a:xfrm>
              <a:off x="357120" y="499680"/>
              <a:ext cx="8604360" cy="19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 계획을 구체적 행동으로 실천하는 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하나의 큰 목표를 일련의 하위목표로 세분화하여 순차적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방적 지시나 통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우호적 상담분위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준비가 안된 상태에서의 직면 등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저항을 불러오므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피하는 것이 좋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이 변화과정에서 일시적 혼란을 가져올 수 있으므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변화가 일상화되도록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속적 지지가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6" name="직사각형 4"/>
            <p:cNvSpPr/>
            <p:nvPr/>
          </p:nvSpPr>
          <p:spPr>
            <a:xfrm>
              <a:off x="428400" y="712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개입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7" name="AutoShape 2"/>
            <p:cNvSpPr/>
            <p:nvPr/>
          </p:nvSpPr>
          <p:spPr>
            <a:xfrm>
              <a:off x="357120" y="2916000"/>
              <a:ext cx="8676000" cy="3441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8" name="직사각형 6"/>
            <p:cNvSpPr/>
            <p:nvPr/>
          </p:nvSpPr>
          <p:spPr>
            <a:xfrm>
              <a:off x="428400" y="25588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평가 및 종결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9" name="Text Box 6"/>
            <p:cNvSpPr/>
            <p:nvPr/>
          </p:nvSpPr>
          <p:spPr>
            <a:xfrm>
              <a:off x="357120" y="3000240"/>
              <a:ext cx="8748720" cy="33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결시기 결정과 평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이 호소한 문제가 완화되었다고 하더라도 점진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결이 요구되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달성과 상담과정에 대한 평가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결감정의 처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자와의 이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변화의 지속과 현실 적용에 대한 불안 등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정적 정서와 문제해결에 따른 성취감과 같은 긍정적 정서를 동시에 경험하는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정적 정서를 완화하고 긍정적 정서를 강화하여 상담자와의 ‘심리적 이유’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촉진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에게 서면으로 의뢰기관에 대한 정보 제공 또는 노인과 동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기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 노인의 욕구와 문제를 개괄적으로 정리한 자료 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기관에 연락하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약속시간 정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기관에 대한 비현실적 기대를 갖지 않도록 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추후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추후 상담 약속 자체만으로도 노인에게는 지지가 되므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추후상담이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를 받을 수 있는 방법을 제시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그룹 8"/>
          <p:cNvGrpSpPr/>
          <p:nvPr/>
        </p:nvGrpSpPr>
        <p:grpSpPr>
          <a:xfrm>
            <a:off x="357120" y="71280"/>
            <a:ext cx="8643960" cy="6286680"/>
            <a:chOff x="357120" y="71280"/>
            <a:chExt cx="8643960" cy="6286680"/>
          </a:xfrm>
        </p:grpSpPr>
        <p:sp>
          <p:nvSpPr>
            <p:cNvPr id="641" name="AutoShape 2"/>
            <p:cNvSpPr/>
            <p:nvPr/>
          </p:nvSpPr>
          <p:spPr>
            <a:xfrm>
              <a:off x="428400" y="3357360"/>
              <a:ext cx="8531280" cy="30006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2" name="AutoShape 4"/>
            <p:cNvSpPr/>
            <p:nvPr/>
          </p:nvSpPr>
          <p:spPr>
            <a:xfrm>
              <a:off x="357120" y="71280"/>
              <a:ext cx="41432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7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상담의 기술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3" name="AutoShape 2"/>
            <p:cNvSpPr/>
            <p:nvPr/>
          </p:nvSpPr>
          <p:spPr>
            <a:xfrm>
              <a:off x="428400" y="999720"/>
              <a:ext cx="853128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4" name="Text Box 6"/>
            <p:cNvSpPr/>
            <p:nvPr/>
          </p:nvSpPr>
          <p:spPr>
            <a:xfrm>
              <a:off x="428400" y="1071360"/>
              <a:ext cx="8572680" cy="18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의집중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선은 넥타이 매듭과 눈 사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몸은 약간 굽히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팔다리를 꼬지 않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귀 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눈으로 적극적 관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경청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1.2.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원칙 따르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지적 언어반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~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.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언어재구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다른 말로 표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지적 반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~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는 정상입니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명료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세히 말씀해주시겠어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언어적 탐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가 보기에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불일치에 대한 도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전이랑 말씀이 틀리신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노출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하위기법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5" name="직사각형 4"/>
            <p:cNvSpPr/>
            <p:nvPr/>
          </p:nvSpPr>
          <p:spPr>
            <a:xfrm>
              <a:off x="428400" y="6426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주의집중과 경청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6" name="직사각형 6"/>
            <p:cNvSpPr/>
            <p:nvPr/>
          </p:nvSpPr>
          <p:spPr>
            <a:xfrm>
              <a:off x="428400" y="30002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질문기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7" name="Text Box 6"/>
            <p:cNvSpPr/>
            <p:nvPr/>
          </p:nvSpPr>
          <p:spPr>
            <a:xfrm>
              <a:off x="428400" y="3429000"/>
              <a:ext cx="8572680" cy="28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초점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가 무엇입니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 특정 사항에 집중케 하는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해결중심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가 다소 좋아진 때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문제보다 해결에 초점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둔 사고를 고양하기 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순환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친구분이 그럴 때 어르신은 무엇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문제와 연관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분들의 상호관련성 파악을 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적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적처럼 문제가 해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미래지향적 사고를 갖게 하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대처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힘드실 때마다 가장 도움이 된 것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내담자가 문제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대처하기 위해 사용하는 방법을 확인하기 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그룹 11"/>
          <p:cNvGrpSpPr/>
          <p:nvPr/>
        </p:nvGrpSpPr>
        <p:grpSpPr>
          <a:xfrm>
            <a:off x="357120" y="71280"/>
            <a:ext cx="8675640" cy="6286680"/>
            <a:chOff x="357120" y="71280"/>
            <a:chExt cx="8675640" cy="6286680"/>
          </a:xfrm>
        </p:grpSpPr>
        <p:sp>
          <p:nvSpPr>
            <p:cNvPr id="649" name="AutoShape 2"/>
            <p:cNvSpPr/>
            <p:nvPr/>
          </p:nvSpPr>
          <p:spPr>
            <a:xfrm>
              <a:off x="357120" y="499680"/>
              <a:ext cx="867564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357120" y="499680"/>
              <a:ext cx="8604360" cy="23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나친 일반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비하나 과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현실적 요구 등의 비합리적 인지를 개선하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행동과 정서의 변화를 도모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지적 재구조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논리적 사고를 합리적 사고로 대치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지적 자기지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적 대화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나는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~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를 할 수 있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!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홍수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실제 두려움을 느끼는 상황을 상상하게 하여 불안 제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파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장 두려웠던 상황을 상상하게 하여 불안 제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합리적 심상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불안할 때 즐겁고 유쾌한 상황을 상상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1" name="직사각형 4"/>
            <p:cNvSpPr/>
            <p:nvPr/>
          </p:nvSpPr>
          <p:spPr>
            <a:xfrm>
              <a:off x="428400" y="712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인지적 행동수정 기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2" name="AutoShape 2"/>
            <p:cNvSpPr/>
            <p:nvPr/>
          </p:nvSpPr>
          <p:spPr>
            <a:xfrm>
              <a:off x="357120" y="3305160"/>
              <a:ext cx="8675640" cy="766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3" name="Text Box 6"/>
            <p:cNvSpPr/>
            <p:nvPr/>
          </p:nvSpPr>
          <p:spPr>
            <a:xfrm>
              <a:off x="357120" y="3357360"/>
              <a:ext cx="860436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과거 사건과 경험을 기억하여 해결되지 않은 감정의 해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아통합성 증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소외를 경감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4" name="직사각형 7"/>
            <p:cNvSpPr/>
            <p:nvPr/>
          </p:nvSpPr>
          <p:spPr>
            <a:xfrm>
              <a:off x="428400" y="29606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회상치료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5" name="AutoShape 2"/>
            <p:cNvSpPr/>
            <p:nvPr/>
          </p:nvSpPr>
          <p:spPr>
            <a:xfrm>
              <a:off x="357120" y="4500720"/>
              <a:ext cx="867564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6" name="Text Box 6"/>
            <p:cNvSpPr/>
            <p:nvPr/>
          </p:nvSpPr>
          <p:spPr>
            <a:xfrm>
              <a:off x="357120" y="4500720"/>
              <a:ext cx="8604360" cy="18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정상적 행동이라도 그 이면에는 어떤 논리가 존재한다는 전제하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확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현실인식보다는 행동의 의미 이해와 내담자의 수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아존중감을 증진시키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료적 접근방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집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자가 한 곳에 집중하여 부정적 감정을 해결하는 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반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동일한 행동이나 말을 상담자가 반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모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문제행동 동작을 똑같이 따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의 기법을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7" name="직사각형 10"/>
            <p:cNvSpPr/>
            <p:nvPr/>
          </p:nvSpPr>
          <p:spPr>
            <a:xfrm>
              <a:off x="428400" y="41036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인정요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그룹 4"/>
          <p:cNvGrpSpPr/>
          <p:nvPr/>
        </p:nvGrpSpPr>
        <p:grpSpPr>
          <a:xfrm>
            <a:off x="71280" y="17640"/>
            <a:ext cx="9072720" cy="6422760"/>
            <a:chOff x="71280" y="17640"/>
            <a:chExt cx="9072720" cy="6422760"/>
          </a:xfrm>
        </p:grpSpPr>
        <p:sp>
          <p:nvSpPr>
            <p:cNvPr id="659" name="AutoShape 2"/>
            <p:cNvSpPr/>
            <p:nvPr/>
          </p:nvSpPr>
          <p:spPr>
            <a:xfrm>
              <a:off x="71280" y="428760"/>
              <a:ext cx="9000000" cy="6011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0" name="Text Box 6"/>
            <p:cNvSpPr/>
            <p:nvPr/>
          </p:nvSpPr>
          <p:spPr>
            <a:xfrm>
              <a:off x="286920" y="571680"/>
              <a:ext cx="8857080" cy="57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역할전환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두명의 내담자가 서로의 역할을 바꾸어 수행함으로써 상대방에 대한 이해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증진시키는 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재정의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긍정적 의미부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를 보다 긍정적 시각으로 볼 수 있게 하는 일종의 역설적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시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과제부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시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에서 수행할 과제를 부여하는 방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장점활용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담자의 잠재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발견에 초점을 두는 면접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처방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증상을 지속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과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의로 통제하게 하는 역설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제지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소극적 내담자에게 재발을 경고하거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변화의 속도가 지나치게 빠르다고 지적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하는 역설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부분화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모든 가족의 입장을 대변함으로써 가족의 주관적 인식과 신념체계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바꾸는 세대분화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편들기 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돌아가면서 가족성원을 지지하여 세대분화를 촉진하는 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충성심 표출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충성심 존재 여부와 존중되게 된 배경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대에 걸친 전수과정 등을 겉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으로 드러내는 세대분화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면죄부 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 충성심 부족으로 인한 죄의식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 비난을 극복할 수 있도록 특정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건의 의미 명확화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애도과정을 도와주는 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그외 반려동물기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연결기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각종 재활치료와 대안치료의 기법을 활용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1" name="직사각형 3"/>
            <p:cNvSpPr/>
            <p:nvPr/>
          </p:nvSpPr>
          <p:spPr>
            <a:xfrm>
              <a:off x="213840" y="17640"/>
              <a:ext cx="621540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71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기타의 상담기법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그룹 10"/>
          <p:cNvGrpSpPr/>
          <p:nvPr/>
        </p:nvGrpSpPr>
        <p:grpSpPr>
          <a:xfrm>
            <a:off x="0" y="0"/>
            <a:ext cx="9358200" cy="5929200"/>
            <a:chOff x="0" y="0"/>
            <a:chExt cx="9358200" cy="5929200"/>
          </a:xfrm>
        </p:grpSpPr>
        <p:pic>
          <p:nvPicPr>
            <p:cNvPr id="66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사례관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5" name="AutoShape 4"/>
            <p:cNvSpPr/>
            <p:nvPr/>
          </p:nvSpPr>
          <p:spPr>
            <a:xfrm>
              <a:off x="285480" y="782640"/>
              <a:ext cx="5572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례관리의 등장배경과 필요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6" name="AutoShape 2"/>
            <p:cNvSpPr/>
            <p:nvPr/>
          </p:nvSpPr>
          <p:spPr>
            <a:xfrm>
              <a:off x="285480" y="1911240"/>
              <a:ext cx="8715600" cy="2017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7" name="Text Box 6"/>
            <p:cNvSpPr/>
            <p:nvPr/>
          </p:nvSpPr>
          <p:spPr>
            <a:xfrm>
              <a:off x="285480" y="1982520"/>
              <a:ext cx="8786880" cy="18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영국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197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대 대인서비스 강조로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re management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발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미국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197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대 정신장애인의 지역사회재활을 중시하면서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 management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발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의 등장배경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탈시설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cli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증가와 욕구의 다양화 및 복잡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급주체의 다양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의 지방분권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대인서비스의 단편성과 불연속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적 관계망에 대한 관심증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대인서비스 비용의 절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8" name="직사각형 13"/>
            <p:cNvSpPr/>
            <p:nvPr/>
          </p:nvSpPr>
          <p:spPr>
            <a:xfrm>
              <a:off x="285480" y="14284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의 등장배경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9" name="AutoShape 2"/>
            <p:cNvSpPr/>
            <p:nvPr/>
          </p:nvSpPr>
          <p:spPr>
            <a:xfrm>
              <a:off x="285480" y="4626000"/>
              <a:ext cx="8715600" cy="1303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Text Box 6"/>
            <p:cNvSpPr/>
            <p:nvPr/>
          </p:nvSpPr>
          <p:spPr>
            <a:xfrm>
              <a:off x="285480" y="4714920"/>
              <a:ext cx="8786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구고령화와 노인욕구의 다양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접근성의 제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부양기능의 약화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양부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능 또는 문제 중심의 서비스 경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합적 서비스의 부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입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제를 통한 사회적 비용의 경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직사각형 17"/>
            <p:cNvSpPr/>
            <p:nvPr/>
          </p:nvSpPr>
          <p:spPr>
            <a:xfrm>
              <a:off x="285480" y="41432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복지분야의 사례관리 필요성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그룹 15"/>
          <p:cNvGrpSpPr/>
          <p:nvPr/>
        </p:nvGrpSpPr>
        <p:grpSpPr>
          <a:xfrm>
            <a:off x="285840" y="71280"/>
            <a:ext cx="8786880" cy="6286680"/>
            <a:chOff x="285840" y="71280"/>
            <a:chExt cx="8786880" cy="6286680"/>
          </a:xfrm>
        </p:grpSpPr>
        <p:sp>
          <p:nvSpPr>
            <p:cNvPr id="673" name="AutoShape 4"/>
            <p:cNvSpPr/>
            <p:nvPr/>
          </p:nvSpPr>
          <p:spPr>
            <a:xfrm>
              <a:off x="285840" y="71280"/>
              <a:ext cx="407196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례관리의 개념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AutoShape 2"/>
            <p:cNvSpPr/>
            <p:nvPr/>
          </p:nvSpPr>
          <p:spPr>
            <a:xfrm>
              <a:off x="285840" y="842760"/>
              <a:ext cx="8715600" cy="10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Text Box 6"/>
            <p:cNvSpPr/>
            <p:nvPr/>
          </p:nvSpPr>
          <p:spPr>
            <a:xfrm>
              <a:off x="285840" y="856800"/>
              <a:ext cx="87868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임상사례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와 행정관리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managem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합성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managed care, care management, care coordination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 혼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미국은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 management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영국은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re management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로 사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직사각형 13"/>
            <p:cNvSpPr/>
            <p:nvPr/>
          </p:nvSpPr>
          <p:spPr>
            <a:xfrm>
              <a:off x="285840" y="4600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용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AutoShape 2"/>
            <p:cNvSpPr/>
            <p:nvPr/>
          </p:nvSpPr>
          <p:spPr>
            <a:xfrm>
              <a:off x="285840" y="2271600"/>
              <a:ext cx="8715600" cy="10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Text Box 6"/>
            <p:cNvSpPr/>
            <p:nvPr/>
          </p:nvSpPr>
          <p:spPr>
            <a:xfrm>
              <a:off x="285840" y="2286000"/>
              <a:ext cx="87868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합적 문제나 욕구를 지닌 사람들의 기능과 복리를 최대화시키기 위하여 공식 및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공식적 지지망의 활동을 조직하고 서비스를 연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가하는 서비스 전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9" name="직사각형 19"/>
            <p:cNvSpPr/>
            <p:nvPr/>
          </p:nvSpPr>
          <p:spPr>
            <a:xfrm>
              <a:off x="285840" y="188892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개념정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0" name="AutoShape 4"/>
            <p:cNvSpPr/>
            <p:nvPr/>
          </p:nvSpPr>
          <p:spPr>
            <a:xfrm>
              <a:off x="285840" y="3429000"/>
              <a:ext cx="407196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사례관리의 목적과 기능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AutoShape 2"/>
            <p:cNvSpPr/>
            <p:nvPr/>
          </p:nvSpPr>
          <p:spPr>
            <a:xfrm>
              <a:off x="285840" y="4240080"/>
              <a:ext cx="8715600" cy="10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2" name="Text Box 6"/>
            <p:cNvSpPr/>
            <p:nvPr/>
          </p:nvSpPr>
          <p:spPr>
            <a:xfrm>
              <a:off x="285840" y="4254480"/>
              <a:ext cx="87868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호의 연속성 보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합적 서비스의 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접근성과 책임성의 증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1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집단의 보호능력 향상 또는 재가보호기회의 증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cli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사회적 기능과 복지향상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의 개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동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효율적 이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3" name="직사각형 23"/>
            <p:cNvSpPr/>
            <p:nvPr/>
          </p:nvSpPr>
          <p:spPr>
            <a:xfrm>
              <a:off x="285840" y="385776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목적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4" name="AutoShape 2"/>
            <p:cNvSpPr/>
            <p:nvPr/>
          </p:nvSpPr>
          <p:spPr>
            <a:xfrm>
              <a:off x="285840" y="5669280"/>
              <a:ext cx="8715600" cy="688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5" name="Text Box 6"/>
            <p:cNvSpPr/>
            <p:nvPr/>
          </p:nvSpPr>
          <p:spPr>
            <a:xfrm>
              <a:off x="285840" y="5683320"/>
              <a:ext cx="878688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li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와 서비스의 연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공식적 보호체계와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li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상호작용 촉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관간의 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옹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6" name="직사각형 27"/>
            <p:cNvSpPr/>
            <p:nvPr/>
          </p:nvSpPr>
          <p:spPr>
            <a:xfrm>
              <a:off x="285840" y="52866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기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22"/>
          <p:cNvGrpSpPr/>
          <p:nvPr/>
        </p:nvGrpSpPr>
        <p:grpSpPr>
          <a:xfrm>
            <a:off x="285840" y="71280"/>
            <a:ext cx="8786880" cy="6367680"/>
            <a:chOff x="285840" y="71280"/>
            <a:chExt cx="8786880" cy="6367680"/>
          </a:xfrm>
        </p:grpSpPr>
        <p:sp>
          <p:nvSpPr>
            <p:cNvPr id="688" name="AutoShape 4"/>
            <p:cNvSpPr/>
            <p:nvPr/>
          </p:nvSpPr>
          <p:spPr>
            <a:xfrm>
              <a:off x="357120" y="71280"/>
              <a:ext cx="4357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사례관리의 모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9" name="AutoShape 2"/>
            <p:cNvSpPr/>
            <p:nvPr/>
          </p:nvSpPr>
          <p:spPr>
            <a:xfrm>
              <a:off x="285840" y="990360"/>
              <a:ext cx="8715600" cy="723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0" name="Text Box 6"/>
            <p:cNvSpPr/>
            <p:nvPr/>
          </p:nvSpPr>
          <p:spPr>
            <a:xfrm>
              <a:off x="285840" y="990360"/>
              <a:ext cx="85726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문가나 준전문가에 의한 사례관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전문가에 의한 사례관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합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센터에서 제공하는 사례관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1" name="직사각형 8"/>
            <p:cNvSpPr/>
            <p:nvPr/>
          </p:nvSpPr>
          <p:spPr>
            <a:xfrm>
              <a:off x="285840" y="6030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서비스 제공자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2" name="AutoShape 2"/>
            <p:cNvSpPr/>
            <p:nvPr/>
          </p:nvSpPr>
          <p:spPr>
            <a:xfrm>
              <a:off x="285840" y="2071440"/>
              <a:ext cx="8715600" cy="75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3" name="Text Box 6"/>
            <p:cNvSpPr/>
            <p:nvPr/>
          </p:nvSpPr>
          <p:spPr>
            <a:xfrm>
              <a:off x="285840" y="2071440"/>
              <a:ext cx="87868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자기관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접서비스 기관내 특수단위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특수단위시설 또는 복합기능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합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험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4" name="직사각형 11"/>
            <p:cNvSpPr/>
            <p:nvPr/>
          </p:nvSpPr>
          <p:spPr>
            <a:xfrm>
              <a:off x="285840" y="171432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서비스 제공기관의 형태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5" name="AutoShape 2"/>
            <p:cNvSpPr/>
            <p:nvPr/>
          </p:nvSpPr>
          <p:spPr>
            <a:xfrm>
              <a:off x="285840" y="3286080"/>
              <a:ext cx="8715600" cy="366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6" name="Text Box 6"/>
            <p:cNvSpPr/>
            <p:nvPr/>
          </p:nvSpPr>
          <p:spPr>
            <a:xfrm>
              <a:off x="285840" y="3273480"/>
              <a:ext cx="692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지지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차적 보호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사회적 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7" name="직사각형 14"/>
            <p:cNvSpPr/>
            <p:nvPr/>
          </p:nvSpPr>
          <p:spPr>
            <a:xfrm>
              <a:off x="285840" y="285732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 목적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8" name="AutoShape 2"/>
            <p:cNvSpPr/>
            <p:nvPr/>
          </p:nvSpPr>
          <p:spPr>
            <a:xfrm>
              <a:off x="285840" y="4929120"/>
              <a:ext cx="8715600" cy="75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9" name="Text Box 6"/>
            <p:cNvSpPr/>
            <p:nvPr/>
          </p:nvSpPr>
          <p:spPr>
            <a:xfrm>
              <a:off x="285840" y="4929120"/>
              <a:ext cx="87868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순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자원 연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본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기관 연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합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연계와 치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문관리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팀접근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연계 및 직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접적 서비스 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0" name="직사각형 17"/>
            <p:cNvSpPr/>
            <p:nvPr/>
          </p:nvSpPr>
          <p:spPr>
            <a:xfrm>
              <a:off x="285840" y="45720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 기능 및 조직구조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1" name="AutoShape 2"/>
            <p:cNvSpPr/>
            <p:nvPr/>
          </p:nvSpPr>
          <p:spPr>
            <a:xfrm>
              <a:off x="285840" y="4143240"/>
              <a:ext cx="8715600" cy="365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2" name="Text Box 6"/>
            <p:cNvSpPr/>
            <p:nvPr/>
          </p:nvSpPr>
          <p:spPr>
            <a:xfrm>
              <a:off x="285840" y="4143240"/>
              <a:ext cx="357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최소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포괄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3" name="직사각형 20"/>
            <p:cNvSpPr/>
            <p:nvPr/>
          </p:nvSpPr>
          <p:spPr>
            <a:xfrm>
              <a:off x="285840" y="37148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의 포괄성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4" name="직사각형 18"/>
            <p:cNvSpPr/>
            <p:nvPr/>
          </p:nvSpPr>
          <p:spPr>
            <a:xfrm>
              <a:off x="285840" y="45720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 기능 및 조직구조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5" name="직사각형 21"/>
            <p:cNvSpPr/>
            <p:nvPr/>
          </p:nvSpPr>
          <p:spPr>
            <a:xfrm>
              <a:off x="285840" y="56754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자의 역할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6" name="AutoShape 2"/>
            <p:cNvSpPr/>
            <p:nvPr/>
          </p:nvSpPr>
          <p:spPr>
            <a:xfrm>
              <a:off x="285840" y="6072480"/>
              <a:ext cx="8715600" cy="366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7" name="Text Box 6"/>
            <p:cNvSpPr/>
            <p:nvPr/>
          </p:nvSpPr>
          <p:spPr>
            <a:xfrm>
              <a:off x="285840" y="6059520"/>
              <a:ext cx="692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료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개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강점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그룹 16"/>
          <p:cNvGrpSpPr/>
          <p:nvPr/>
        </p:nvGrpSpPr>
        <p:grpSpPr>
          <a:xfrm>
            <a:off x="285840" y="71280"/>
            <a:ext cx="8786880" cy="6286680"/>
            <a:chOff x="285840" y="71280"/>
            <a:chExt cx="8786880" cy="6286680"/>
          </a:xfrm>
        </p:grpSpPr>
        <p:sp>
          <p:nvSpPr>
            <p:cNvPr id="709" name="AutoShape 4"/>
            <p:cNvSpPr/>
            <p:nvPr/>
          </p:nvSpPr>
          <p:spPr>
            <a:xfrm>
              <a:off x="357120" y="71280"/>
              <a:ext cx="46436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사례관리의 구성요소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0" name="AutoShape 2"/>
            <p:cNvSpPr/>
            <p:nvPr/>
          </p:nvSpPr>
          <p:spPr>
            <a:xfrm>
              <a:off x="285840" y="642600"/>
              <a:ext cx="8715600" cy="428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1" name="Text Box 6"/>
            <p:cNvSpPr/>
            <p:nvPr/>
          </p:nvSpPr>
          <p:spPr>
            <a:xfrm>
              <a:off x="285840" y="687240"/>
              <a:ext cx="864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클라이언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 과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자원으로 구성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3-2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2" name="AutoShape 2"/>
            <p:cNvSpPr/>
            <p:nvPr/>
          </p:nvSpPr>
          <p:spPr>
            <a:xfrm>
              <a:off x="285840" y="1566720"/>
              <a:ext cx="8715600" cy="396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3" name="Text Box 6"/>
            <p:cNvSpPr/>
            <p:nvPr/>
          </p:nvSpPr>
          <p:spPr>
            <a:xfrm>
              <a:off x="285840" y="1576080"/>
              <a:ext cx="878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합적 욕구를 지닌 노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양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4" name="직사각형 11"/>
            <p:cNvSpPr/>
            <p:nvPr/>
          </p:nvSpPr>
          <p:spPr>
            <a:xfrm>
              <a:off x="285840" y="11426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client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5" name="AutoShape 2"/>
            <p:cNvSpPr/>
            <p:nvPr/>
          </p:nvSpPr>
          <p:spPr>
            <a:xfrm>
              <a:off x="285840" y="2601720"/>
              <a:ext cx="8715600" cy="1827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6" name="Text Box 6"/>
            <p:cNvSpPr/>
            <p:nvPr/>
          </p:nvSpPr>
          <p:spPr>
            <a:xfrm>
              <a:off x="285840" y="2643120"/>
              <a:ext cx="8644320" cy="17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호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임상심리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재활치료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병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도우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영양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봉사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운전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교인 등으로 구성된 사례관리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 manager: key worker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로 팀성원 역할 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사가 다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역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조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정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계획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재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개발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점검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가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도감독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행정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옹호자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7" name="직사각형 14"/>
            <p:cNvSpPr/>
            <p:nvPr/>
          </p:nvSpPr>
          <p:spPr>
            <a:xfrm>
              <a:off x="285840" y="221436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8" name="AutoShape 2"/>
            <p:cNvSpPr/>
            <p:nvPr/>
          </p:nvSpPr>
          <p:spPr>
            <a:xfrm>
              <a:off x="285840" y="5962680"/>
              <a:ext cx="8715600" cy="395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9" name="Text Box 6"/>
            <p:cNvSpPr/>
            <p:nvPr/>
          </p:nvSpPr>
          <p:spPr>
            <a:xfrm>
              <a:off x="285840" y="5970600"/>
              <a:ext cx="85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설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물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나 지지 등의 개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식 및 비공식 관계망의 자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0" name="직사각형 17"/>
            <p:cNvSpPr/>
            <p:nvPr/>
          </p:nvSpPr>
          <p:spPr>
            <a:xfrm>
              <a:off x="285840" y="55720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회자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1" name="AutoShape 2"/>
            <p:cNvSpPr/>
            <p:nvPr/>
          </p:nvSpPr>
          <p:spPr>
            <a:xfrm>
              <a:off x="285840" y="5033880"/>
              <a:ext cx="8715600" cy="395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2" name="Text Box 6"/>
            <p:cNvSpPr/>
            <p:nvPr/>
          </p:nvSpPr>
          <p:spPr>
            <a:xfrm>
              <a:off x="285840" y="5042160"/>
              <a:ext cx="57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접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계획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실행 및 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점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가의 과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3" name="직사각형 20"/>
            <p:cNvSpPr/>
            <p:nvPr/>
          </p:nvSpPr>
          <p:spPr>
            <a:xfrm>
              <a:off x="285840" y="46180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과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그룹 20"/>
          <p:cNvGrpSpPr/>
          <p:nvPr/>
        </p:nvGrpSpPr>
        <p:grpSpPr>
          <a:xfrm>
            <a:off x="285840" y="0"/>
            <a:ext cx="8786880" cy="6429240"/>
            <a:chOff x="285840" y="0"/>
            <a:chExt cx="8786880" cy="6429240"/>
          </a:xfrm>
        </p:grpSpPr>
        <p:sp>
          <p:nvSpPr>
            <p:cNvPr id="725" name="AutoShape 4"/>
            <p:cNvSpPr/>
            <p:nvPr/>
          </p:nvSpPr>
          <p:spPr>
            <a:xfrm>
              <a:off x="357120" y="0"/>
              <a:ext cx="4357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6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례관리의 과정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6" name="AutoShape 2"/>
            <p:cNvSpPr/>
            <p:nvPr/>
          </p:nvSpPr>
          <p:spPr>
            <a:xfrm>
              <a:off x="285840" y="825480"/>
              <a:ext cx="8715600" cy="650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7" name="Text Box 6"/>
            <p:cNvSpPr/>
            <p:nvPr/>
          </p:nvSpPr>
          <p:spPr>
            <a:xfrm>
              <a:off x="285840" y="833400"/>
              <a:ext cx="871560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발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보제공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전 적격심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ADL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욕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자격기준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공에 관한 계약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2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8" name="직사각형 8"/>
            <p:cNvSpPr/>
            <p:nvPr/>
          </p:nvSpPr>
          <p:spPr>
            <a:xfrm>
              <a:off x="285840" y="4680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접수단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9" name="AutoShape 2"/>
            <p:cNvSpPr/>
            <p:nvPr/>
          </p:nvSpPr>
          <p:spPr>
            <a:xfrm>
              <a:off x="285840" y="1820880"/>
              <a:ext cx="8715600" cy="36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0" name="Text Box 6"/>
            <p:cNvSpPr/>
            <p:nvPr/>
          </p:nvSpPr>
          <p:spPr>
            <a:xfrm>
              <a:off x="285840" y="1828800"/>
              <a:ext cx="878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lient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식 및 비공식적 관계망의 욕구와 자원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능력을 종합적으로 사정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3-3 13-4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1" name="직사각형 11"/>
            <p:cNvSpPr/>
            <p:nvPr/>
          </p:nvSpPr>
          <p:spPr>
            <a:xfrm>
              <a:off x="285840" y="146844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사정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2" name="AutoShape 2"/>
            <p:cNvSpPr/>
            <p:nvPr/>
          </p:nvSpPr>
          <p:spPr>
            <a:xfrm>
              <a:off x="285840" y="2539800"/>
              <a:ext cx="8715600" cy="71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3" name="Text Box 6"/>
            <p:cNvSpPr/>
            <p:nvPr/>
          </p:nvSpPr>
          <p:spPr>
            <a:xfrm>
              <a:off x="285840" y="2547720"/>
              <a:ext cx="87868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구체적 목적과 목표의 수립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의 우선순위 결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성취를 위한 보호계획 수립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체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 과정의 계획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4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4" name="직사각형 23"/>
            <p:cNvSpPr/>
            <p:nvPr/>
          </p:nvSpPr>
          <p:spPr>
            <a:xfrm>
              <a:off x="285840" y="21826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계획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5" name="AutoShape 2"/>
            <p:cNvSpPr/>
            <p:nvPr/>
          </p:nvSpPr>
          <p:spPr>
            <a:xfrm>
              <a:off x="285840" y="3606840"/>
              <a:ext cx="8715600" cy="68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6" name="Text Box 6"/>
            <p:cNvSpPr/>
            <p:nvPr/>
          </p:nvSpPr>
          <p:spPr>
            <a:xfrm>
              <a:off x="285840" y="3614760"/>
              <a:ext cx="87868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편적 서비스의 통합조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접적 서비스 제공자 및 간접적 서비스 제공자 역할을 동시 수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해야 함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5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7" name="직사각형 26"/>
            <p:cNvSpPr/>
            <p:nvPr/>
          </p:nvSpPr>
          <p:spPr>
            <a:xfrm>
              <a:off x="285840" y="32544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실행 및 조정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8" name="AutoShape 2"/>
            <p:cNvSpPr/>
            <p:nvPr/>
          </p:nvSpPr>
          <p:spPr>
            <a:xfrm>
              <a:off x="285840" y="4710240"/>
              <a:ext cx="8715600" cy="68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9" name="Text Box 6"/>
            <p:cNvSpPr/>
            <p:nvPr/>
          </p:nvSpPr>
          <p:spPr>
            <a:xfrm>
              <a:off x="285840" y="4718160"/>
              <a:ext cx="87868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의 적시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충분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적절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연속성의 보장을 위한 서비스 전달 및 실행과정 추적 및 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호계획의 수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완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도감독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5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0" name="직사각형 29"/>
            <p:cNvSpPr/>
            <p:nvPr/>
          </p:nvSpPr>
          <p:spPr>
            <a:xfrm>
              <a:off x="285840" y="432576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점검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1" name="AutoShape 2"/>
            <p:cNvSpPr/>
            <p:nvPr/>
          </p:nvSpPr>
          <p:spPr>
            <a:xfrm>
              <a:off x="285840" y="5742000"/>
              <a:ext cx="8715600" cy="68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2" name="Text Box 6"/>
            <p:cNvSpPr/>
            <p:nvPr/>
          </p:nvSpPr>
          <p:spPr>
            <a:xfrm>
              <a:off x="285840" y="5751360"/>
              <a:ext cx="87868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의 종결과 효과성 평가 단계로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면접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회의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록검토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이용자료 등을 근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로 평가하고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미래 계획 및 사후관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3" name="직사각형 32"/>
            <p:cNvSpPr/>
            <p:nvPr/>
          </p:nvSpPr>
          <p:spPr>
            <a:xfrm>
              <a:off x="285840" y="53974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평가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>
            <a:off x="0" y="3929040"/>
            <a:ext cx="85716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6" name="그룹 37"/>
          <p:cNvGrpSpPr/>
          <p:nvPr/>
        </p:nvGrpSpPr>
        <p:grpSpPr>
          <a:xfrm>
            <a:off x="250920" y="1425600"/>
            <a:ext cx="8699400" cy="4146480"/>
            <a:chOff x="250920" y="1425600"/>
            <a:chExt cx="8699400" cy="4146480"/>
          </a:xfrm>
        </p:grpSpPr>
        <p:sp>
          <p:nvSpPr>
            <p:cNvPr id="557" name="AutoShape 4"/>
            <p:cNvSpPr/>
            <p:nvPr/>
          </p:nvSpPr>
          <p:spPr>
            <a:xfrm>
              <a:off x="1622520" y="2097000"/>
              <a:ext cx="7307280" cy="6699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복지실천의 의미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목적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개입수준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구성체계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8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59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0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1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2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14"/>
            <p:cNvGrpSpPr/>
            <p:nvPr/>
          </p:nvGrpSpPr>
          <p:grpSpPr>
            <a:xfrm>
              <a:off x="642960" y="3571920"/>
              <a:ext cx="856800" cy="714600"/>
              <a:chOff x="642960" y="3571920"/>
              <a:chExt cx="856800" cy="714600"/>
            </a:xfrm>
          </p:grpSpPr>
          <p:sp>
            <p:nvSpPr>
              <p:cNvPr id="564" name="Oval 15"/>
              <p:cNvSpPr/>
              <p:nvPr/>
            </p:nvSpPr>
            <p:spPr>
              <a:xfrm>
                <a:off x="664200" y="35719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5" name="Oval 16"/>
              <p:cNvSpPr/>
              <p:nvPr/>
            </p:nvSpPr>
            <p:spPr>
              <a:xfrm>
                <a:off x="664200" y="35737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6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5758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7" name="Text Box 18"/>
              <p:cNvSpPr/>
              <p:nvPr/>
            </p:nvSpPr>
            <p:spPr>
              <a:xfrm>
                <a:off x="642960" y="357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8" name="Group 14"/>
            <p:cNvGrpSpPr/>
            <p:nvPr/>
          </p:nvGrpSpPr>
          <p:grpSpPr>
            <a:xfrm>
              <a:off x="642960" y="4857120"/>
              <a:ext cx="856800" cy="714600"/>
              <a:chOff x="642960" y="4857120"/>
              <a:chExt cx="856800" cy="714600"/>
            </a:xfrm>
          </p:grpSpPr>
          <p:sp>
            <p:nvSpPr>
              <p:cNvPr id="569" name="Oval 15"/>
              <p:cNvSpPr/>
              <p:nvPr/>
            </p:nvSpPr>
            <p:spPr>
              <a:xfrm>
                <a:off x="664200" y="4857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Oval 16"/>
              <p:cNvSpPr/>
              <p:nvPr/>
            </p:nvSpPr>
            <p:spPr>
              <a:xfrm>
                <a:off x="664200" y="48589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1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48610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2" name="Text Box 18"/>
              <p:cNvSpPr/>
              <p:nvPr/>
            </p:nvSpPr>
            <p:spPr>
              <a:xfrm>
                <a:off x="642960" y="4861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3" name="AutoShape 4"/>
            <p:cNvSpPr/>
            <p:nvPr/>
          </p:nvSpPr>
          <p:spPr>
            <a:xfrm>
              <a:off x="1643040" y="3614760"/>
              <a:ext cx="7307280" cy="6714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노인상담의 특성과 과정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기술의 이해와 습득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4" name="AutoShape 4"/>
            <p:cNvSpPr/>
            <p:nvPr/>
          </p:nvSpPr>
          <p:spPr>
            <a:xfrm>
              <a:off x="1643040" y="4897440"/>
              <a:ext cx="7307280" cy="674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노인 사례관리의 모형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구성요소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과정의 이해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5" name="AutoShape 7"/>
            <p:cNvSpPr/>
            <p:nvPr/>
          </p:nvSpPr>
          <p:spPr>
            <a:xfrm>
              <a:off x="250920" y="1425600"/>
              <a:ext cx="1606320" cy="431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99760" y="274680"/>
            <a:ext cx="73580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13 </a:t>
            </a: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장 노인복지실천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그룹 16"/>
          <p:cNvGrpSpPr/>
          <p:nvPr/>
        </p:nvGrpSpPr>
        <p:grpSpPr>
          <a:xfrm>
            <a:off x="285840" y="0"/>
            <a:ext cx="8643960" cy="6555240"/>
            <a:chOff x="285840" y="0"/>
            <a:chExt cx="8643960" cy="6555240"/>
          </a:xfrm>
        </p:grpSpPr>
        <p:grpSp>
          <p:nvGrpSpPr>
            <p:cNvPr id="745" name="그룹 12"/>
            <p:cNvGrpSpPr/>
            <p:nvPr/>
          </p:nvGrpSpPr>
          <p:grpSpPr>
            <a:xfrm>
              <a:off x="285840" y="0"/>
              <a:ext cx="7643880" cy="1071360"/>
              <a:chOff x="285840" y="0"/>
              <a:chExt cx="7643880" cy="1071360"/>
            </a:xfrm>
          </p:grpSpPr>
          <p:pic>
            <p:nvPicPr>
              <p:cNvPr id="746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85840" y="0"/>
                <a:ext cx="1099080" cy="1071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47" name="Rectangle 4"/>
              <p:cNvGrpSpPr/>
              <p:nvPr/>
            </p:nvGrpSpPr>
            <p:grpSpPr>
              <a:xfrm>
                <a:off x="1424160" y="42480"/>
                <a:ext cx="6505560" cy="902160"/>
                <a:chOff x="1424160" y="42480"/>
                <a:chExt cx="6505560" cy="902160"/>
              </a:xfrm>
            </p:grpSpPr>
            <p:pic>
              <p:nvPicPr>
                <p:cNvPr id="748" name="Rectangle 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424160" y="42480"/>
                  <a:ext cx="6505560" cy="902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9" name=""/>
                <p:cNvSpPr/>
                <p:nvPr/>
              </p:nvSpPr>
              <p:spPr>
                <a:xfrm>
                  <a:off x="1485360" y="142560"/>
                  <a:ext cx="6388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800" spc="-1" strike="noStrike">
                      <a:solidFill>
                        <a:srgbClr val="827305"/>
                      </a:solidFill>
                      <a:latin typeface="HY강B"/>
                    </a:rPr>
                    <a:t> </a:t>
                  </a:r>
                  <a:r>
                    <a:rPr b="0" lang="ko-KR" sz="2800" spc="-1" strike="noStrike">
                      <a:solidFill>
                        <a:srgbClr val="827305"/>
                      </a:solidFill>
                      <a:latin typeface="HY강B"/>
                    </a:rPr>
                    <a:t>노인복지론 강의를 마무리 하며</a:t>
                  </a:r>
                  <a:r>
                    <a:rPr b="0" lang="en-US" sz="2800" spc="-1" strike="noStrike">
                      <a:solidFill>
                        <a:srgbClr val="827305"/>
                      </a:solidFill>
                      <a:latin typeface="HY강B"/>
                    </a:rPr>
                    <a:t>…</a:t>
                  </a:r>
                  <a:endParaRPr b="0" lang="en-US" sz="2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0" name="AutoShape 2"/>
            <p:cNvSpPr/>
            <p:nvPr/>
          </p:nvSpPr>
          <p:spPr>
            <a:xfrm>
              <a:off x="428400" y="1303200"/>
              <a:ext cx="8501400" cy="625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1" name="Text Box 6"/>
            <p:cNvSpPr/>
            <p:nvPr/>
          </p:nvSpPr>
          <p:spPr>
            <a:xfrm>
              <a:off x="571320" y="1303200"/>
              <a:ext cx="835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식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술이라는 세가지 조건을 갖추기 위한 최선의 노력을 지속적으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경주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2" name="직사각형 10"/>
            <p:cNvSpPr/>
            <p:nvPr/>
          </p:nvSpPr>
          <p:spPr>
            <a:xfrm>
              <a:off x="428400" y="94608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차가운 머리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뜨거운 가슴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움직이는 손과 발을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3" name="AutoShape 2"/>
            <p:cNvSpPr/>
            <p:nvPr/>
          </p:nvSpPr>
          <p:spPr>
            <a:xfrm>
              <a:off x="428400" y="2384280"/>
              <a:ext cx="8501400" cy="1008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4" name="Text Box 6"/>
            <p:cNvSpPr/>
            <p:nvPr/>
          </p:nvSpPr>
          <p:spPr>
            <a:xfrm>
              <a:off x="571320" y="2384280"/>
              <a:ext cx="83584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는 실천이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식과 이념에만 얽매이는 복지는 무의미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모든 삶의 영역에 개입 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care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부터 전문적 임상개입에 이르기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 노인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felt need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를 충족시키기 위하여 노력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5" name="직사각형 13"/>
            <p:cNvSpPr/>
            <p:nvPr/>
          </p:nvSpPr>
          <p:spPr>
            <a:xfrm>
              <a:off x="428400" y="202716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책 속의 복지가 아닌 삶 속의 복지를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6" name="AutoShape 2"/>
            <p:cNvSpPr/>
            <p:nvPr/>
          </p:nvSpPr>
          <p:spPr>
            <a:xfrm>
              <a:off x="428400" y="3741840"/>
              <a:ext cx="8501400" cy="1008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7" name="Text Box 6"/>
            <p:cNvSpPr/>
            <p:nvPr/>
          </p:nvSpPr>
          <p:spPr>
            <a:xfrm>
              <a:off x="571320" y="3741840"/>
              <a:ext cx="83584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사는 수없이 직면하는 딜레마를 극복하면서 성장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흰머리가 되어서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'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제부터 수학을 시작해보려 하네’라고 말한 대수학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Whitehead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처럼 늘 처음 그대로의 열정으로 헌신할 것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8" name="직사각형 17"/>
            <p:cNvSpPr/>
            <p:nvPr/>
          </p:nvSpPr>
          <p:spPr>
            <a:xfrm>
              <a:off x="428400" y="338472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dilemma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와 ‘처음 처럼’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9" name="AutoShape 2"/>
            <p:cNvSpPr/>
            <p:nvPr/>
          </p:nvSpPr>
          <p:spPr>
            <a:xfrm>
              <a:off x="428400" y="5089680"/>
              <a:ext cx="8501400" cy="1411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0" name="Text Box 6"/>
            <p:cNvSpPr/>
            <p:nvPr/>
          </p:nvSpPr>
          <p:spPr>
            <a:xfrm>
              <a:off x="571320" y="5089680"/>
              <a:ext cx="8358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탈무드는 ‘많은 지혜가 포함되어 있지만 시작조차 못했다’는 의미에서 첫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쪽이 백지이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앞으로도 지속적으로 지혜의 보완이 요구되므로 마지막 쪽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백지인 것처럼 늘 부족함을 채워가기를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…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재의 뒷 표지에 나오는 효빈잡기의 젊은 쥐처럼 뒤늦게 후회하는 자녀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복지사가 되지 않기를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…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1" name="직사각형 20"/>
            <p:cNvSpPr/>
            <p:nvPr/>
          </p:nvSpPr>
          <p:spPr>
            <a:xfrm>
              <a:off x="428400" y="473256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탈무드와 효빈잡기에서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그룹 6"/>
          <p:cNvGrpSpPr/>
          <p:nvPr/>
        </p:nvGrpSpPr>
        <p:grpSpPr>
          <a:xfrm>
            <a:off x="0" y="0"/>
            <a:ext cx="9215280" cy="6429240"/>
            <a:chOff x="0" y="0"/>
            <a:chExt cx="9215280" cy="6429240"/>
          </a:xfrm>
        </p:grpSpPr>
        <p:pic>
          <p:nvPicPr>
            <p:cNvPr id="57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실천의 이해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2"/>
            <p:cNvSpPr/>
            <p:nvPr/>
          </p:nvSpPr>
          <p:spPr>
            <a:xfrm>
              <a:off x="71280" y="1285920"/>
              <a:ext cx="9001080" cy="5143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Text Box 25"/>
            <p:cNvSpPr/>
            <p:nvPr/>
          </p:nvSpPr>
          <p:spPr>
            <a:xfrm>
              <a:off x="214200" y="1500120"/>
              <a:ext cx="9001080" cy="47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 및 지역사회 수준에서 원조와 서비스를 제공하여 노인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기능을 향상시키려는 통합적인 노인복지 접근방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목적과 목표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과 환경과의 상호작용과정에서 갖게 되는 욕구와 문제를 예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결하여 노인의 사회적 기능 향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사회적 기능 유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회복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증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욕구충족과 능력개발에 필요한 사회정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프로그램의 계획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위험에 직면한 노인의 역량강화와 사회경제적 정의의 증진을 위한 옹호와 사회행동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와 관련된 전문지식과 기술의 개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검증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문제의 예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능의 회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문제나 장애의 해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회복지사의 업무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단지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교육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자원 연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취업알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care,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정방문서비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ADL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훈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가활동 지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회복지사의 역할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력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개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옹호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임상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client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발굴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례관리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문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행동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문서비스제공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및 정책개발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사회기획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양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행정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원동원가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2" name="AutoShape 4"/>
            <p:cNvSpPr/>
            <p:nvPr/>
          </p:nvSpPr>
          <p:spPr>
            <a:xfrm>
              <a:off x="357120" y="92844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실천의 개념과 목적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그룹 17"/>
          <p:cNvGrpSpPr/>
          <p:nvPr/>
        </p:nvGrpSpPr>
        <p:grpSpPr>
          <a:xfrm>
            <a:off x="285840" y="71280"/>
            <a:ext cx="8643960" cy="6429600"/>
            <a:chOff x="285840" y="71280"/>
            <a:chExt cx="8643960" cy="6429600"/>
          </a:xfrm>
        </p:grpSpPr>
        <p:sp>
          <p:nvSpPr>
            <p:cNvPr id="584" name="AutoShape 2"/>
            <p:cNvSpPr/>
            <p:nvPr/>
          </p:nvSpPr>
          <p:spPr>
            <a:xfrm>
              <a:off x="285840" y="356760"/>
              <a:ext cx="8643960" cy="6144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5" name="Text Box 25"/>
            <p:cNvSpPr/>
            <p:nvPr/>
          </p:nvSpPr>
          <p:spPr>
            <a:xfrm>
              <a:off x="357120" y="644400"/>
              <a:ext cx="8501400" cy="57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 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기능수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욕구 및 문제가 서로 다르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복지실천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는 다양한 수준의 개입이 요구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차적 수준의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상과 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하고 활동적인 노인의 문제 사전예방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입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기능유지와 복리증진을 위한 문제해결모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사회 수준에서 건강증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여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봉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스트레스 대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주거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법적 지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교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편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위험으로부터의 보호서비스 제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역할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개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옹호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2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차적 수준의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상과 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화로 인한 위기나 질병과 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ADL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저하로 인해 의존성을 보이는 노인의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기 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대처능력 향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립적 생활유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입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해결모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과제중심모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위기개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지행동모델 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사회 수준에서 상담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재가서비스 제공과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client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발굴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역할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력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임상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3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차적 수준의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상과 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립생활이 어려운 기능상의 문제를 지닌 노인과 가족을 대상으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역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능의 최소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잔존능력 유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능회복 위한 재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입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료 및 심리사회적 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재활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역할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클라이언트 발굴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원동원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6" name="AutoShape 4"/>
            <p:cNvSpPr/>
            <p:nvPr/>
          </p:nvSpPr>
          <p:spPr>
            <a:xfrm>
              <a:off x="357120" y="71280"/>
              <a:ext cx="521496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실천의 개입수준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그룹 17"/>
          <p:cNvGrpSpPr/>
          <p:nvPr/>
        </p:nvGrpSpPr>
        <p:grpSpPr>
          <a:xfrm>
            <a:off x="285840" y="285840"/>
            <a:ext cx="8715240" cy="5929200"/>
            <a:chOff x="285840" y="285840"/>
            <a:chExt cx="8715240" cy="5929200"/>
          </a:xfrm>
        </p:grpSpPr>
        <p:sp>
          <p:nvSpPr>
            <p:cNvPr id="588" name="AutoShape 2"/>
            <p:cNvSpPr/>
            <p:nvPr/>
          </p:nvSpPr>
          <p:spPr>
            <a:xfrm>
              <a:off x="285840" y="493560"/>
              <a:ext cx="8715240" cy="5721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9" name="Text Box 25"/>
            <p:cNvSpPr/>
            <p:nvPr/>
          </p:nvSpPr>
          <p:spPr>
            <a:xfrm>
              <a:off x="357120" y="904680"/>
              <a:ext cx="8501040" cy="51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효과적 노인복지실천을 위해 사회복지사는 차가운 머리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식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뜨거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슴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치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리고 움직이는 손과 발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라는 세가지 조건을 갖추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야 함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3-1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지식체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환경간의 상호작용을 이해하는데 필요한 기초지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미시 및 거시적 수준의 개입에 필요한 실천적 지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장 경험을 토대로 체득한 실천지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기술체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client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와 촉진적 원조관계를 맺을 수 있는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과 사회를 변화시킬 수 있는 개입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질적 원조행위에 수반되어야 할 서비스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가치체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람 사랑’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‘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세상 사랑’이란 용어로 은유적으로 표현되는 사회복지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고유가치를 기반으로 만들어진 윤리강령을 지식과 기술체계를 안내하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모토로 삼아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0" name="AutoShape 4"/>
            <p:cNvSpPr/>
            <p:nvPr/>
          </p:nvSpPr>
          <p:spPr>
            <a:xfrm>
              <a:off x="357120" y="285840"/>
              <a:ext cx="5214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실천의 구성체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그룹 10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pic>
          <p:nvPicPr>
            <p:cNvPr id="59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상담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94" name="그룹 17"/>
            <p:cNvGrpSpPr/>
            <p:nvPr/>
          </p:nvGrpSpPr>
          <p:grpSpPr>
            <a:xfrm>
              <a:off x="323640" y="1849320"/>
              <a:ext cx="8606160" cy="4579920"/>
              <a:chOff x="323640" y="1849320"/>
              <a:chExt cx="8606160" cy="4579920"/>
            </a:xfrm>
          </p:grpSpPr>
          <p:sp>
            <p:nvSpPr>
              <p:cNvPr id="595" name="AutoShape 2"/>
              <p:cNvSpPr/>
              <p:nvPr/>
            </p:nvSpPr>
            <p:spPr>
              <a:xfrm>
                <a:off x="323640" y="2221920"/>
                <a:ext cx="8606160" cy="4207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6" name="Text Box 25"/>
              <p:cNvSpPr/>
              <p:nvPr/>
            </p:nvSpPr>
            <p:spPr>
              <a:xfrm>
                <a:off x="394920" y="2425320"/>
                <a:ext cx="8391960" cy="38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의 필요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은 노화로 인한 기능저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적 관계망과의 정서적 유대 약화로 고독과 소외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심리사회적 욕구 충족에 문제를 경험할 가능성이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욕구충족과 문제해결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후생활 적응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삶의 질 제고를 위하여 노인상담이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되어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특히 노인상담을 통해 관계망을 보완하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숨겨진 욕구나 문제를 탐색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해결하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부양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에 대한 지지를 위한 상담의 필요성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의 현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과 가족을 대상으로 한 상담과 임상적 개입은 매우 미흡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체통 중시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주의의식으로 외부에 원조요청 기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상담에 대한 정보 제한과 상담기관의 낮은 접근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늙으면 다 그렇다’는 식의 상담 필요성 자체에 대한 인식 부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상담에 관한 연구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담센터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담 전문가의 부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AutoShape 4"/>
              <p:cNvSpPr/>
              <p:nvPr/>
            </p:nvSpPr>
            <p:spPr>
              <a:xfrm>
                <a:off x="537840" y="1849320"/>
                <a:ext cx="4391280" cy="507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상담의 필요성과 현상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8" name="그룹 22"/>
            <p:cNvGrpSpPr/>
            <p:nvPr/>
          </p:nvGrpSpPr>
          <p:grpSpPr>
            <a:xfrm>
              <a:off x="285480" y="928440"/>
              <a:ext cx="8643960" cy="714240"/>
              <a:chOff x="285480" y="928440"/>
              <a:chExt cx="8643960" cy="714240"/>
            </a:xfrm>
          </p:grpSpPr>
          <p:sp>
            <p:nvSpPr>
              <p:cNvPr id="599" name="AutoShape 2"/>
              <p:cNvSpPr/>
              <p:nvPr/>
            </p:nvSpPr>
            <p:spPr>
              <a:xfrm>
                <a:off x="285480" y="928440"/>
                <a:ext cx="8643960" cy="714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0" name="Text Box 6"/>
              <p:cNvSpPr/>
              <p:nvPr/>
            </p:nvSpPr>
            <p:spPr>
              <a:xfrm>
                <a:off x="356760" y="928440"/>
                <a:ext cx="8358480" cy="69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상담은 노인의 문제해결 뿐 아니라 다른 서비스의 매개체로서의 기능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시에 지니므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실천의 핵심 접근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그룹 10"/>
          <p:cNvGrpSpPr/>
          <p:nvPr/>
        </p:nvGrpSpPr>
        <p:grpSpPr>
          <a:xfrm>
            <a:off x="285840" y="142920"/>
            <a:ext cx="8715240" cy="6357960"/>
            <a:chOff x="285840" y="142920"/>
            <a:chExt cx="8715240" cy="6357960"/>
          </a:xfrm>
        </p:grpSpPr>
        <p:sp>
          <p:nvSpPr>
            <p:cNvPr id="602" name="AutoShape 2"/>
            <p:cNvSpPr/>
            <p:nvPr/>
          </p:nvSpPr>
          <p:spPr>
            <a:xfrm>
              <a:off x="285840" y="500040"/>
              <a:ext cx="8715240" cy="314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3" name="그룹 10"/>
            <p:cNvGrpSpPr/>
            <p:nvPr/>
          </p:nvGrpSpPr>
          <p:grpSpPr>
            <a:xfrm>
              <a:off x="357120" y="142920"/>
              <a:ext cx="8501040" cy="3530880"/>
              <a:chOff x="357120" y="142920"/>
              <a:chExt cx="8501040" cy="3530880"/>
            </a:xfrm>
          </p:grpSpPr>
          <p:sp>
            <p:nvSpPr>
              <p:cNvPr id="604" name="AutoShape 4"/>
              <p:cNvSpPr/>
              <p:nvPr/>
            </p:nvSpPr>
            <p:spPr>
              <a:xfrm>
                <a:off x="357120" y="142920"/>
                <a:ext cx="468000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상담의 개념과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5" name="Text Box 6"/>
              <p:cNvSpPr/>
              <p:nvPr/>
            </p:nvSpPr>
            <p:spPr>
              <a:xfrm>
                <a:off x="357120" y="642960"/>
                <a:ext cx="8501040" cy="303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상담의 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도움을 필요로 하는 노인이 상담자와 전문적 원조관계를 통하여 제반 문제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해결하고 감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고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행동 측면의 성장을 도모하여 성공적인 노후생활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영위하기 위하여 노력하는 과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상담의 특성</a:t>
                </a:r>
                <a:r>
                  <a:rPr b="0" lang="en-US" sz="19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해결이나 치료보다는 삶에 대한 지지를 강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담의 성과를 실제 생활에 적용하는 것을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체면 손상 방지를 위해 심층상담 지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비계획적 종결이 많으므로 종결과정에 더 많은 에너지 투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06" name="AutoShape 2"/>
            <p:cNvSpPr/>
            <p:nvPr/>
          </p:nvSpPr>
          <p:spPr>
            <a:xfrm>
              <a:off x="285840" y="4143600"/>
              <a:ext cx="871524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7" name="그룹 10"/>
            <p:cNvGrpSpPr/>
            <p:nvPr/>
          </p:nvGrpSpPr>
          <p:grpSpPr>
            <a:xfrm>
              <a:off x="357120" y="3786120"/>
              <a:ext cx="8286840" cy="2626920"/>
              <a:chOff x="357120" y="3786120"/>
              <a:chExt cx="8286840" cy="2626920"/>
            </a:xfrm>
          </p:grpSpPr>
          <p:sp>
            <p:nvSpPr>
              <p:cNvPr id="608" name="AutoShape 4"/>
              <p:cNvSpPr/>
              <p:nvPr/>
            </p:nvSpPr>
            <p:spPr>
              <a:xfrm>
                <a:off x="357120" y="3786120"/>
                <a:ext cx="468000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상담의 영역과 목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9" name="Text Box 6"/>
              <p:cNvSpPr/>
              <p:nvPr/>
            </p:nvSpPr>
            <p:spPr>
              <a:xfrm>
                <a:off x="428400" y="4357440"/>
                <a:ext cx="8215560" cy="20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상담의 영역</a:t>
                </a: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四苦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3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상담의 목적</a:t>
                </a: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에 직면한 문제해결과 성공적 노후적응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필요한 자원의 동원과 이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신체적 강점의 강화와 건강 약화에 대한 적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보호 및 주거시설 욕구 충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역사회에서의 새로운 역할 획득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적 관계망과의 관계 재조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요 타인의 상실에 대한 적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은퇴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정변화에 대한 적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삶의 주도권과 자율적 의사결정의 원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Burlingame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그룹 8"/>
          <p:cNvGrpSpPr/>
          <p:nvPr/>
        </p:nvGrpSpPr>
        <p:grpSpPr>
          <a:xfrm>
            <a:off x="357120" y="71280"/>
            <a:ext cx="8643960" cy="6286680"/>
            <a:chOff x="357120" y="71280"/>
            <a:chExt cx="8643960" cy="6286680"/>
          </a:xfrm>
        </p:grpSpPr>
        <p:sp>
          <p:nvSpPr>
            <p:cNvPr id="611" name="AutoShape 4"/>
            <p:cNvSpPr/>
            <p:nvPr/>
          </p:nvSpPr>
          <p:spPr>
            <a:xfrm>
              <a:off x="357120" y="71280"/>
              <a:ext cx="6357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상담의 원조관계와 상담자의 태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AutoShape 2"/>
            <p:cNvSpPr/>
            <p:nvPr/>
          </p:nvSpPr>
          <p:spPr>
            <a:xfrm>
              <a:off x="428400" y="999720"/>
              <a:ext cx="8501400" cy="1231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Text Box 6"/>
            <p:cNvSpPr/>
            <p:nvPr/>
          </p:nvSpPr>
          <p:spPr>
            <a:xfrm>
              <a:off x="571320" y="1071360"/>
              <a:ext cx="83584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상담의 원조관계는 일반상담과 대동소이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원조관계의 원칙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별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도적 감정표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제된 정서적 관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수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심판적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죽음에 대한 적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4" name="직사각형 7"/>
            <p:cNvSpPr/>
            <p:nvPr/>
          </p:nvSpPr>
          <p:spPr>
            <a:xfrm>
              <a:off x="428400" y="6426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상담의 원조관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5" name="AutoShape 2"/>
            <p:cNvSpPr/>
            <p:nvPr/>
          </p:nvSpPr>
          <p:spPr>
            <a:xfrm>
              <a:off x="428400" y="2643120"/>
              <a:ext cx="8501400" cy="3714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6" name="Text Box 6"/>
            <p:cNvSpPr/>
            <p:nvPr/>
          </p:nvSpPr>
          <p:spPr>
            <a:xfrm>
              <a:off x="571320" y="2714400"/>
              <a:ext cx="8429760" cy="358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상담자가 범하기 쉬운 오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고통과 노인을 별개의 존재로 간주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법만으로 문제를 해결하려 하므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에 대한 신뢰감 부여와 노인존중이 어려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간으로서의 상담자와 전문가로서의 상담자를 분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에 대한 전문성의 확보는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물론 인간적 자질의 동시 연마가 요구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과정에서의 상담자의 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에 대한 존중과 예의를 갖추고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연령이 적어도 위축되지 말아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단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보다는 장점을 발견하여 강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능약화 보완하는 상담환경 구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자발적 문제해결 지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존성 조장하고 자립능력 훼손해서는 안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과의 차이 인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옹호자로서의 역할 성실 수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생활에 도움되는 구체적 서비스 연결 및 제공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경청과 지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내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죽음 불안에 대처할 수 있도록 지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7" name="직사각형 10"/>
            <p:cNvSpPr/>
            <p:nvPr/>
          </p:nvSpPr>
          <p:spPr>
            <a:xfrm>
              <a:off x="428400" y="23176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 상담자의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그룹 7"/>
          <p:cNvGrpSpPr/>
          <p:nvPr/>
        </p:nvGrpSpPr>
        <p:grpSpPr>
          <a:xfrm>
            <a:off x="285840" y="142920"/>
            <a:ext cx="8715240" cy="6000840"/>
            <a:chOff x="285840" y="142920"/>
            <a:chExt cx="8715240" cy="6000840"/>
          </a:xfrm>
        </p:grpSpPr>
        <p:sp>
          <p:nvSpPr>
            <p:cNvPr id="619" name="AutoShape 2"/>
            <p:cNvSpPr/>
            <p:nvPr/>
          </p:nvSpPr>
          <p:spPr>
            <a:xfrm>
              <a:off x="285840" y="428400"/>
              <a:ext cx="8715240" cy="5715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20" name="그룹 10"/>
            <p:cNvGrpSpPr/>
            <p:nvPr/>
          </p:nvGrpSpPr>
          <p:grpSpPr>
            <a:xfrm>
              <a:off x="357120" y="142920"/>
              <a:ext cx="8501040" cy="2593440"/>
              <a:chOff x="357120" y="142920"/>
              <a:chExt cx="8501040" cy="2593440"/>
            </a:xfrm>
          </p:grpSpPr>
          <p:sp>
            <p:nvSpPr>
              <p:cNvPr id="621" name="AutoShape 4"/>
              <p:cNvSpPr/>
              <p:nvPr/>
            </p:nvSpPr>
            <p:spPr>
              <a:xfrm>
                <a:off x="357120" y="142920"/>
                <a:ext cx="468000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상담의 종류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2" name="Text Box 6"/>
              <p:cNvSpPr/>
              <p:nvPr/>
            </p:nvSpPr>
            <p:spPr>
              <a:xfrm>
                <a:off x="357120" y="642960"/>
                <a:ext cx="8501040" cy="209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개인상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면적 상담을 통해 위급하거나 원인이 복잡한 문제해결에 적합하나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낮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접근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언어표현능력의 제한 등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집단상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유사한 문제를 가진 노인과 지도자의 공동활동을 통해 노인의 교육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해결 및 행동변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호지지적 관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自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형성 도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3" name="Text Box 6"/>
            <p:cNvSpPr/>
            <p:nvPr/>
          </p:nvSpPr>
          <p:spPr>
            <a:xfrm>
              <a:off x="357120" y="2746440"/>
              <a:ext cx="8501040" cy="20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족상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문제 뿐 아니라 전체 가족관계의 문제해결을 도모하는 접근방법으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개인상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부상담의 방법을 동시에 활용하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전화상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동성과 익명성 보장에 대한 요구를 수용하여 즉시적 원조가 가능한 상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지만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언어적 의사소통의 이해에 어려움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4" name="Text Box 6"/>
            <p:cNvSpPr/>
            <p:nvPr/>
          </p:nvSpPr>
          <p:spPr>
            <a:xfrm>
              <a:off x="357120" y="4797720"/>
              <a:ext cx="8501040" cy="13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인터넷상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홈페이지의 상담코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메일 비공개상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시간 상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까페를 이용한 동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 등 영역이 확대되고 있으나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낮은 정보화 능력으로 인한 제한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따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2T00:36:55Z</dcterms:modified>
  <cp:revision>323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