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9437-74D1-409D-9FDB-E32B4EF8D9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226D-7FE3-4BE4-85EC-17B04A10B04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B181-4532-4ADE-9E22-1C5DBB6C529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FF1A-6FBB-49C1-8611-8900304B293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DFF3-A419-42BB-903D-738390A283C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45AA-EBC9-4760-81E6-507D4FC2481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C4775-6F99-4110-AB56-9F18DF69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B8ADE-2442-4AFC-880F-155EB313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8CB97-B20C-4C11-BA0C-64E89034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98E41-772D-40CE-A28D-5F96C225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A8462-35E0-4E93-BE19-EBD0201D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AA9AF-AB47-4BDE-A48C-92A9E5BD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8D687-2C7A-4EC9-86C8-FA84B7BC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84489-215A-40C7-9FE1-AA7EF85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F6B2F-686B-41B0-A6B6-B2295EC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27158-6021-4123-9B44-F57BA6C8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B8DB0-3A5D-4D77-9AE6-7E2CB580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45035-24F9-4937-B8B3-E0F0DEF5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E2E44A-F919-443D-BDFE-F430CCEF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7C758-B8F2-4E23-9C5D-8CD6C3F0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4905A2-69B3-40A6-8AEF-EBD96174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0E2B3-B036-496A-A792-DB4B9145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16F43-C0CF-4CB0-A45A-4A249B6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E08B2-9708-4C1D-AB1B-6F8B0D2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7F1E3-4C1C-4E87-95A1-81A5C7E0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AE778-1302-4529-BFE5-9C26DDF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3E780E-BD40-4088-8229-4B799DD6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D9FDA-4B25-4B23-9393-47B17D48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CD5FE-061B-48C3-AA31-C88367E5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040A1-ECF5-47EA-B435-9E146811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52AB-C103-4363-9919-DA3A534A1DB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2EA7-4717-4F28-9391-6D4F030CC67D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0923-A25A-43BA-8016-F8F5689FE56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EA51-4A8D-4BB7-8BD0-80E384BF937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3ECB-239D-4063-8E46-BFDBF42C70D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0336-AD78-46E9-97F9-7AE45E992F1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D967-8CD4-4B05-BB70-77D623553250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 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8894880" cy="6303960"/>
            <a:chOff x="142920" y="142920"/>
            <a:chExt cx="8894880" cy="6303960"/>
          </a:xfrm>
        </p:grpSpPr>
        <p:sp>
          <p:nvSpPr>
            <p:cNvPr id="514" name="AutoShape 2"/>
            <p:cNvSpPr/>
            <p:nvPr/>
          </p:nvSpPr>
          <p:spPr>
            <a:xfrm>
              <a:off x="251280" y="3927600"/>
              <a:ext cx="8786520" cy="2495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520" cy="1785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4880" cy="2270520"/>
              <a:chOff x="142920" y="785520"/>
              <a:chExt cx="871488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2320" cy="4287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232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894880" cy="3089520"/>
              <a:chOff x="142920" y="3357360"/>
              <a:chExt cx="8894880" cy="308952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179280" y="3973320"/>
                <a:ext cx="8858520" cy="24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 65+ 36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1) 60+ 44.0%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여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2.4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.0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3.8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.4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142920" y="357120"/>
            <a:ext cx="8858160" cy="6354720"/>
            <a:chOff x="142920" y="357120"/>
            <a:chExt cx="8858160" cy="635472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93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920" y="357120"/>
              <a:ext cx="8858160" cy="4467240"/>
              <a:chOff x="142920" y="357120"/>
              <a:chExt cx="8858160" cy="446724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920" y="35712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480" y="981000"/>
                <a:ext cx="8715600" cy="38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내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.7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3.5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2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4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상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일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5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4-87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6"/>
            <a:stretch/>
          </p:blipFill>
          <p:spPr>
            <a:xfrm>
              <a:off x="611280" y="4926600"/>
              <a:ext cx="4176360" cy="178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232520"/>
            <a:chOff x="285840" y="603360"/>
            <a:chExt cx="8643960" cy="423252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28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232520"/>
              <a:chOff x="285840" y="603360"/>
              <a:chExt cx="8643960" cy="42325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4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는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 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로서의 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 지위로서의 퇴직이라 함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과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와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 및 일 가정 양립 지원에 관한 법률에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구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활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293360"/>
              <a:ext cx="8749080" cy="77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5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321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초중고교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학교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6061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9.5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사회적 조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社會的 早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고 특별한 단점 없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 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 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&amp;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 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7440"/>
            <a:chOff x="0" y="0"/>
            <a:chExt cx="9144000" cy="642744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200"/>
              <a:ext cx="8820360" cy="928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520"/>
              <a:ext cx="8820360" cy="3427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6800"/>
              <a:ext cx="8715600" cy="1269360"/>
              <a:chOff x="142560" y="856800"/>
              <a:chExt cx="8715600" cy="126936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68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648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904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년기에는 건강문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으로 소득 감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 등으로 인한 가계지출은 이전과 유사하거나 오히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증가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에 임금소득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부터 감소 시작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이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에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임금소득 수준으로 회귀하는 경향 보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 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92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96320" cy="6429600"/>
            <a:chOff x="142920" y="71280"/>
            <a:chExt cx="889632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896320" cy="2549880"/>
              <a:chOff x="142920" y="642960"/>
              <a:chExt cx="8896320" cy="254988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360"/>
                <a:ext cx="875376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8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09080" cy="6000840"/>
            <a:chOff x="0" y="71280"/>
            <a:chExt cx="910908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16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1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79280" y="1214280"/>
              <a:ext cx="8929800" cy="26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은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은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장년기 이후 소득변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 증가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 감소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 다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7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4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,026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55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8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 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89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,62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3760"/>
            <a:chOff x="142920" y="71280"/>
            <a:chExt cx="8858160" cy="614376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08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1600"/>
              <a:chOff x="142920" y="785520"/>
              <a:chExt cx="8858160" cy="542160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47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천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8680"/>
                <a:ext cx="8715600" cy="2278440"/>
                <a:chOff x="142920" y="392868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86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664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간병수발비 순으로 지출 금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초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동거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300280"/>
              <a:chOff x="142920" y="785520"/>
              <a:chExt cx="9001080" cy="530028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9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가족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이행 않는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880"/>
                <a:ext cx="8858520" cy="3013920"/>
                <a:chOff x="142920" y="3071880"/>
                <a:chExt cx="8858520" cy="301392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8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573000"/>
                  <a:ext cx="8715960" cy="251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6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3.4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중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국민기초생활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2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5.2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7,90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상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7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-1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1360"/>
                <a:ext cx="8849160" cy="48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productive activity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국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볼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경제활동에 참여하여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과 사회에 필요한 재화와 서비스를 생산하는 활동’으로 규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 및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 제공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 등의 심리사회적 문제 경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54:10Z</dcterms:modified>
  <cp:revision>30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