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681F-205A-4309-98E3-A34D88D3A5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131E-CC03-458B-B6FE-692941293F4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588F-0F31-4DBC-AB9A-E11334C4FDB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86CB9-F4AA-4785-A793-9135D82E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19CBE-F3CF-4E1D-8ABD-60FA4B74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C2AF9-C1A5-4267-A13D-81DECB23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3AAC6-C18B-4F94-9B5F-B95877BF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924AB-3366-40DA-B259-52BF5FC5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FBDD8-7E8D-412F-B412-18E49367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E9BA1-5C39-4FFB-BCEB-580E26EA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FE427-9B36-4F0C-A482-AA94A201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6E93B-7D2E-40BE-AB26-F355D9ED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B32FF-F3CF-4E4D-A870-CADD153A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109DD-88F3-41A6-B618-B5165925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71D75-7C57-4E7B-8E64-E13425D7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940697-048E-43ED-892C-9D091B34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1C088-03F4-4C63-8124-8B962F8B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B12D83-CF23-40B3-B45E-91357BAC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76AAE9-4412-457E-82BA-ED1928EC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9CC83-F5AF-4FAA-A71D-976C0E9B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E851B9-0F01-43FB-B079-1EF6312E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750F4-B667-4C93-832F-CF2A1CD5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072CD1-9633-42E3-AC0E-1651C6D3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CD5FE-8CFC-451B-8358-D60B6060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2BDD7-C8C6-4724-9D55-28F0436F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8BDF1E-CB06-4AAE-8979-163FF38C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275BF0-1310-48B0-B652-54C036A1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B6AE-7677-4201-B0ED-DC4D3197B11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3612-E94D-447B-86F8-AB251668CFCD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D6E9-C848-4F68-B046-75246547FE3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CD1C-8810-47F8-9C9A-CA4C32228C2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C904-887F-4B05-B7BA-79CA8D430A9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9F45-4897-43E9-A177-DBA16F1997C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11B3-60D2-4630-8B81-EEC1D2BBE787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43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.76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2.3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38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0.3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9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.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계 변화와 인상＋고비용 치료기기 도입 등의 병원비용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1809000"/>
              <a:chOff x="285480" y="3486240"/>
              <a:chExt cx="8572680" cy="180900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1080"/>
                <a:ext cx="8572680" cy="13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건강문제로 인한 비용은 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407200"/>
              <a:ext cx="5796000" cy="1249200"/>
              <a:chOff x="0" y="5407200"/>
              <a:chExt cx="5796000" cy="124920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0" y="5407200"/>
                <a:ext cx="1390680" cy="12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1312920" y="6085080"/>
                <a:ext cx="448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점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어 있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4.0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.9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시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당뇨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 등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3.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2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2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9.9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알츠하이머병 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자살에 의한 사망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1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명당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3.7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는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46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세 이상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7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으로 높아짐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생활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5.6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2.0%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-7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는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4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 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3040"/>
                <a:chOff x="357120" y="1500120"/>
                <a:chExt cx="8643960" cy="227304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96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돌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介護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형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24:25Z</dcterms:modified>
  <cp:revision>2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