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47D3-30E5-4EA2-BD03-D00A72B110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C5C5-02E2-48EE-A095-9597AD29E0C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870D-B88E-48B6-9E1A-74EEDB8047B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77062-3061-4828-92ED-095EB076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6F20F-44E7-44E9-8C59-F37D6759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F048B-2BE8-482E-BFD0-E57EB09E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744FD-AFBD-4720-83C7-855806B6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A3585-3142-4253-90EE-8EDEC5A1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FE941-B292-4756-972F-B2CF2F3D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5EBB1-AF92-4DE7-A947-CB053E1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18494-8215-4580-A959-C7512873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13F80-FD81-4BE7-9BB3-73C49AD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B3A3D-3CC0-4A56-86DB-273CBF85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87275-5341-4474-926C-BD6C5BBC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FA3A2-63BD-4656-8078-7519E9E0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21BE-30E0-4FBD-A4E0-7D60D503975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88B0-4A0A-4E58-839D-6D121C697E7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D9BD-D3EE-416A-A265-93632282C7B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F32C-AAE3-4B17-B50A-6B0769B3FBC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291D-0A1B-41E4-B52A-7AE484D1962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108000" y="71280"/>
            <a:ext cx="8856720" cy="6286680"/>
            <a:chOff x="108000" y="71280"/>
            <a:chExt cx="8856720" cy="6286680"/>
          </a:xfrm>
        </p:grpSpPr>
        <p:sp>
          <p:nvSpPr>
            <p:cNvPr id="371" name="AutoShape 2"/>
            <p:cNvSpPr/>
            <p:nvPr/>
          </p:nvSpPr>
          <p:spPr>
            <a:xfrm>
              <a:off x="108000" y="571320"/>
              <a:ext cx="885672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92040" y="725040"/>
              <a:ext cx="842832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게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48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 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6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지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 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640" y="1857240"/>
              <a:ext cx="86774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 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하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3.6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.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22016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 사회관계망과 사회적 지지의 변화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사회적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040"/>
            <a:chOff x="0" y="0"/>
            <a:chExt cx="9144000" cy="635904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3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42976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프가 식지 않는 거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거주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480"/>
              <a:chOff x="285480" y="3571560"/>
              <a:chExt cx="8643960" cy="278748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1920"/>
                <a:ext cx="8643960" cy="2334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44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1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거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5816160"/>
            <a:chOff x="214200" y="285840"/>
            <a:chExt cx="8858520" cy="58161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11160"/>
              <a:ext cx="8858520" cy="51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동거 및 별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상대적으로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-56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9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3-74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0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0-7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 시 부양가족은 자원부족과 부양능력 약화로 스트레스와 부양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이 높아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952240"/>
            <a:chOff x="142920" y="142920"/>
            <a:chExt cx="8929800" cy="595224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4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12600"/>
              <a:ext cx="8929800" cy="51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장년층은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히 사별한 여성 고령 독거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될 것으로 예측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협력 등의 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 변화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 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관계의 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70-27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499680"/>
              <a:ext cx="8573040" cy="285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,5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7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99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6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 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을 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826560"/>
              <a:ext cx="8643960" cy="3404520"/>
              <a:chOff x="285840" y="826560"/>
              <a:chExt cx="8643960" cy="340452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56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796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 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8265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1960"/>
              <a:ext cx="8643960" cy="2291040"/>
              <a:chOff x="285840" y="4071960"/>
              <a:chExt cx="8643960" cy="229104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%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포인트 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크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19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9:29Z</dcterms:modified>
  <cp:revision>3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