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1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dt" idx="1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ftr" idx="1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 type="sldNum" idx="1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78D00-8127-4F59-9F27-034430281AF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61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CBE07-6A67-407C-81ED-F5A04D332B37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61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BE769-8908-4318-AF71-6DB2E23D6C3A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61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D1F19-8547-4784-B6A4-AC5E18196AC1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62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76150-19F7-4251-980D-0C4861943377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62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92B59-64F0-43D5-9104-234BF463EED8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D3EB10-0AF5-420A-BE3C-E2B3798BF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CFF38D-FB61-4C87-BA44-C441F3ABE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B97CB1-5669-4C41-B463-86607B1EC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FCAA32-CD80-493C-830D-E61FF4BA1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EE9A44-520D-4CDF-90C2-6B5CFA8AA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C8106F-EA07-4276-8331-D69787926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8A1A7A-C37A-4FF7-A980-ACB68891B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5EEF14-FCFF-4700-9502-6EECA8C5C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C04A10-A87D-4C00-B8FA-E531741D7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6D419A-92D2-4659-8409-0FC8BC5FC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F9B0E1-0E03-4BF6-8D9C-BD6B12E11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A6A0CA-493E-417D-B611-8DE1C4479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6BEBB61-FB7E-4C7B-A8DF-3B4E3C678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FBBD659-A64D-406E-A915-2B2AA1C9B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A4BB7C8-306A-403A-8BE4-28D1E3400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B0A1408-D998-417D-8518-A0E6B5091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4141A67-49DC-4782-8167-56C12A332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EAF64F1-41BA-43A8-8C20-0AFCDBD16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1EA1FA9-C5B9-466F-9292-08E08826B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ED16355-5BBE-44AF-B581-7BFA60F5B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24A4AAB-A874-4856-A292-A4F57BFC1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7532F51-9BA9-4925-9994-13755D65B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34E0C55-F17D-4276-9995-D94BB7378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6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7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35444EF-3B2F-48C0-BAFD-B518CAB6E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7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1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2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5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6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7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" name="AutoShape 25"/>
            <p:cNvSpPr/>
            <p:nvPr/>
          </p:nvSpPr>
          <p:spPr>
            <a:xfrm rot="16200000">
              <a:off x="7776000" y="660276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4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02649-32B2-49C0-AF3E-BB3DF2EADF89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Group 11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63" name="Rectangle 12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4" name="Freeform 13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" name="Freeform 14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66" name="Rectangle 15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7" name="Rectangle 16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8" name="Picture 17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8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견고딕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2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73" name="Group 19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74" name="AutoShape 20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5" name="Rectangle 21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6" name="Rectangle 22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77" name="Group 40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78" name="AutoShape 27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9" name="AutoShape 32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0" name="AutoShape 34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" name="Oval 25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2" name="Oval 26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3" name="AutoShape 28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4" name="Oval 30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5" name="AutoShape 31"/>
            <p:cNvSpPr/>
            <p:nvPr/>
          </p:nvSpPr>
          <p:spPr>
            <a:xfrm rot="16200000">
              <a:off x="7776000" y="660096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86" name="Rectangle 37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C3BDF-C61E-471E-A42E-49B16244D1F6}" type="slidenum">
              <a:rPr b="0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7" name="AutoShape 41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25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6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7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28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130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132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33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4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5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36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37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8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9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0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1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2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3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4" name="AutoShape 25"/>
            <p:cNvSpPr/>
            <p:nvPr/>
          </p:nvSpPr>
          <p:spPr>
            <a:xfrm rot="16200000">
              <a:off x="7776000" y="660276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45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696C5-C9E7-4AE4-A7F0-07C4795B7F36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6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147" name="Object 2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48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9" name="Group 3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150" name="Rectangle 4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1" name="Rectangle 5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52" name="Rectangle 6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53" name="Group 7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154" name="AutoShape 8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5" name="Freeform 9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6" name="Freeform 10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7" name="Freeform 11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8" name="Freeform 12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59" name="Group 18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160" name="Picture 19" descr="Untitled-1 copy"/>
            <p:cNvPicPr/>
            <p:nvPr/>
          </p:nvPicPr>
          <p:blipFill>
            <a:blip r:embed="rId6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" name="Picture 20" descr="Untitled-1 copy"/>
            <p:cNvPicPr/>
            <p:nvPr/>
          </p:nvPicPr>
          <p:blipFill>
            <a:blip r:embed="rId7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" name="Picture 21" descr="Untitled-1 copy"/>
            <p:cNvPicPr/>
            <p:nvPr/>
          </p:nvPicPr>
          <p:blipFill>
            <a:blip r:embed="rId8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223D7-A8A2-4637-84BA-E64A27FD97E7}" type="slidenum">
              <a: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205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6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7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08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10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212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213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4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5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16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217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8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9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0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1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2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3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4" name="AutoShape 25"/>
            <p:cNvSpPr/>
            <p:nvPr/>
          </p:nvSpPr>
          <p:spPr>
            <a:xfrm rot="16200000">
              <a:off x="7776000" y="660276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25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19CC4-190B-44BC-801F-F8777E7D0B3E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6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7" name="직사각형 1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dt" idx="6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7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268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69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0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71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2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73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275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276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7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8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79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280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1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2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3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4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5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6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7" name="AutoShape 25"/>
            <p:cNvSpPr/>
            <p:nvPr/>
          </p:nvSpPr>
          <p:spPr>
            <a:xfrm rot="16200000">
              <a:off x="7776000" y="660276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88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5A6A2-F0B4-4A3D-B885-F693689F5897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9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0" name="직사각형 1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91" name="그림 28" descr="title.jpg"/>
          <p:cNvPicPr/>
          <p:nvPr/>
        </p:nvPicPr>
        <p:blipFill>
          <a:blip r:embed="rId4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1" name="Object 15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32" name="Object 1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33" name="Group 16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334" name="Rectangle 17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5" name="Rectangle 18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36" name="Rectangle 19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337" name="Group 20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338" name="AutoShape 21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9" name="Freeform 22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0" name="Freeform 23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1" name="Freeform 24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2" name="Freeform 25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343" name="Group 26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344" name="Picture 27" descr="Untitled-1 copy"/>
            <p:cNvPicPr/>
            <p:nvPr/>
          </p:nvPicPr>
          <p:blipFill>
            <a:blip r:embed="rId4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5" name="Picture 28" descr="Untitled-1 copy"/>
            <p:cNvPicPr/>
            <p:nvPr/>
          </p:nvPicPr>
          <p:blipFill>
            <a:blip r:embed="rId5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6" name="Picture 29" descr="Untitled-1 copy"/>
            <p:cNvPicPr/>
            <p:nvPr/>
          </p:nvPicPr>
          <p:blipFill>
            <a:blip r:embed="rId6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견고딕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 type="dt" idx="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 type="ftr" idx="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 type="sldNum" idx="1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d528d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6B69B-362B-468F-A732-794ED6606B1F}" type="slidenum">
              <a:rPr b="0" lang="ko-KR" sz="1400" spc="-1" strike="noStrike">
                <a:solidFill>
                  <a:srgbClr val="1d528d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37.xml"/><Relationship Id="rId11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37.xml"/><Relationship Id="rId11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37.xml"/><Relationship Id="rId8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image" Target="../media/image9.png"/><Relationship Id="rId15" Type="http://schemas.openxmlformats.org/officeDocument/2006/relationships/image" Target="../media/image9.png"/><Relationship Id="rId16" Type="http://schemas.openxmlformats.org/officeDocument/2006/relationships/slideLayout" Target="../slideLayouts/slideLayout37.xml"/><Relationship Id="rId17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08000" y="285480"/>
            <a:ext cx="9036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300" spc="-1" strike="noStrike">
                <a:solidFill>
                  <a:srgbClr val="ffffff"/>
                </a:solidFill>
                <a:latin typeface="HY강B"/>
                <a:ea typeface="HY강B"/>
              </a:rPr>
              <a:t>제 </a:t>
            </a:r>
            <a:r>
              <a:rPr b="1" lang="en-US" sz="4300" spc="-1" strike="noStrike">
                <a:solidFill>
                  <a:srgbClr val="ffffff"/>
                </a:solidFill>
                <a:latin typeface="HY강B"/>
                <a:ea typeface="HY강B"/>
              </a:rPr>
              <a:t>2 </a:t>
            </a:r>
            <a:r>
              <a:rPr b="1" lang="ko-KR" sz="4300" spc="-1" strike="noStrike">
                <a:solidFill>
                  <a:srgbClr val="ffffff"/>
                </a:solidFill>
                <a:latin typeface="HY강B"/>
                <a:ea typeface="HY강B"/>
              </a:rPr>
              <a:t>부 노년기의 삶</a:t>
            </a:r>
            <a:r>
              <a:rPr b="1" lang="en-US" sz="4300" spc="-1" strike="noStrike">
                <a:solidFill>
                  <a:srgbClr val="ffffff"/>
                </a:solidFill>
                <a:latin typeface="HY강B"/>
                <a:ea typeface="HY강B"/>
              </a:rPr>
              <a:t>, </a:t>
            </a:r>
            <a:r>
              <a:rPr b="1" lang="ko-KR" sz="4300" spc="-1" strike="noStrike">
                <a:solidFill>
                  <a:srgbClr val="ffffff"/>
                </a:solidFill>
                <a:latin typeface="HY강B"/>
                <a:ea typeface="HY강B"/>
              </a:rPr>
              <a:t>욕구와</a:t>
            </a:r>
            <a:r>
              <a:rPr b="1" lang="en-US" sz="43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1" lang="ko-KR" sz="4300" spc="-1" strike="noStrike">
                <a:solidFill>
                  <a:srgbClr val="ffffff"/>
                </a:solidFill>
                <a:latin typeface="HY강B"/>
                <a:ea typeface="HY강B"/>
              </a:rPr>
              <a:t>문제</a:t>
            </a:r>
            <a:endParaRPr b="0" lang="en-US" sz="43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396" name="Picture 4" descr="그림1"/>
          <p:cNvPicPr/>
          <p:nvPr/>
        </p:nvPicPr>
        <p:blipFill>
          <a:blip r:embed="rId1"/>
          <a:stretch/>
        </p:blipFill>
        <p:spPr>
          <a:xfrm>
            <a:off x="-42840" y="1616040"/>
            <a:ext cx="9302760" cy="2803680"/>
          </a:xfrm>
          <a:prstGeom prst="rect">
            <a:avLst/>
          </a:prstGeom>
          <a:ln w="0">
            <a:noFill/>
          </a:ln>
        </p:spPr>
      </p:pic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71680" y="2142720"/>
            <a:ext cx="8315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HY강B"/>
                <a:ea typeface="HY강B"/>
              </a:rPr>
              <a:t>3</a:t>
            </a:r>
            <a:r>
              <a:rPr b="1" lang="ko-KR" sz="4000" spc="-1" strike="noStrike">
                <a:solidFill>
                  <a:srgbClr val="ffff00"/>
                </a:solidFill>
                <a:latin typeface="HY강B"/>
                <a:ea typeface="HY강B"/>
              </a:rPr>
              <a:t>장 노년기의 경제생활</a:t>
            </a:r>
            <a:endParaRPr b="0" lang="en-US" sz="4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9d9d9"/>
                </a:solidFill>
                <a:latin typeface="HY강B"/>
                <a:ea typeface="HY강B"/>
              </a:rPr>
              <a:t>4</a:t>
            </a:r>
            <a:r>
              <a:rPr b="0" lang="ko-KR" sz="3000" spc="-1" strike="noStrike">
                <a:solidFill>
                  <a:srgbClr val="d9d9d9"/>
                </a:solidFill>
                <a:latin typeface="HY강B"/>
                <a:ea typeface="HY강B"/>
              </a:rPr>
              <a:t>장 노년기의 건강과 케어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9d9d9"/>
                </a:solidFill>
                <a:latin typeface="HY강B"/>
                <a:ea typeface="HY강B"/>
              </a:rPr>
              <a:t>5</a:t>
            </a:r>
            <a:r>
              <a:rPr b="0" lang="ko-KR" sz="3000" spc="-1" strike="noStrike">
                <a:solidFill>
                  <a:srgbClr val="d9d9d9"/>
                </a:solidFill>
                <a:latin typeface="HY강B"/>
                <a:ea typeface="HY강B"/>
              </a:rPr>
              <a:t>장 치매의 이해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HY강B"/>
                <a:ea typeface="HY강B"/>
              </a:rPr>
              <a:t>6</a:t>
            </a:r>
            <a:r>
              <a:rPr b="0" lang="ko-KR" sz="3000" spc="-1" strike="noStrike">
                <a:solidFill>
                  <a:srgbClr val="ffffff"/>
                </a:solidFill>
                <a:latin typeface="HY강B"/>
                <a:ea typeface="HY강B"/>
              </a:rPr>
              <a:t>장 노년기의 여가생활과 교육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HY강B"/>
                <a:ea typeface="HY강B"/>
              </a:rPr>
              <a:t>7</a:t>
            </a:r>
            <a:r>
              <a:rPr b="0" lang="ko-KR" sz="3000" spc="-1" strike="noStrike">
                <a:solidFill>
                  <a:srgbClr val="ffffff"/>
                </a:solidFill>
                <a:latin typeface="HY강B"/>
                <a:ea typeface="HY강B"/>
              </a:rPr>
              <a:t>장 노년기의 주거생활과 고령친화산업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HY강B"/>
                <a:ea typeface="HY강B"/>
              </a:rPr>
              <a:t>8</a:t>
            </a:r>
            <a:r>
              <a:rPr b="0" lang="ko-KR" sz="3000" spc="-1" strike="noStrike">
                <a:solidFill>
                  <a:srgbClr val="ffffff"/>
                </a:solidFill>
                <a:latin typeface="HY강B"/>
                <a:ea typeface="HY강B"/>
              </a:rPr>
              <a:t>장 노년기의 사회관계망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HY강B"/>
                <a:ea typeface="HY강B"/>
              </a:rPr>
              <a:t>9</a:t>
            </a:r>
            <a:r>
              <a:rPr b="0" lang="ko-KR" sz="3000" spc="-1" strike="noStrike">
                <a:solidFill>
                  <a:srgbClr val="ffffff"/>
                </a:solidFill>
                <a:latin typeface="HY강B"/>
                <a:ea typeface="HY강B"/>
              </a:rPr>
              <a:t>장 노년기의 삶의 이면</a:t>
            </a:r>
            <a:r>
              <a:rPr b="0" lang="en-US" sz="3000" spc="-1" strike="noStrike">
                <a:solidFill>
                  <a:srgbClr val="ffffff"/>
                </a:solidFill>
                <a:latin typeface="HY강B"/>
                <a:ea typeface="HY강B"/>
              </a:rPr>
              <a:t>(</a:t>
            </a:r>
            <a:r>
              <a:rPr b="0" lang="ko-KR" sz="3000" spc="-1" strike="noStrike">
                <a:solidFill>
                  <a:srgbClr val="ffffff"/>
                </a:solidFill>
                <a:latin typeface="HY강B"/>
                <a:ea typeface="HY강B"/>
              </a:rPr>
              <a:t>裏面</a:t>
            </a:r>
            <a:r>
              <a:rPr b="0" lang="en-US" sz="3000" spc="-1" strike="noStrike">
                <a:solidFill>
                  <a:srgbClr val="ffffff"/>
                </a:solidFill>
                <a:latin typeface="HY강B"/>
                <a:ea typeface="HY강B"/>
              </a:rPr>
              <a:t>)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3" name="그룹 10"/>
          <p:cNvGrpSpPr/>
          <p:nvPr/>
        </p:nvGrpSpPr>
        <p:grpSpPr>
          <a:xfrm>
            <a:off x="142920" y="71280"/>
            <a:ext cx="8858160" cy="6215400"/>
            <a:chOff x="142920" y="71280"/>
            <a:chExt cx="8858160" cy="6215400"/>
          </a:xfrm>
        </p:grpSpPr>
        <p:sp>
          <p:nvSpPr>
            <p:cNvPr id="504" name="AutoShape 2"/>
            <p:cNvSpPr/>
            <p:nvPr/>
          </p:nvSpPr>
          <p:spPr>
            <a:xfrm>
              <a:off x="214200" y="1285560"/>
              <a:ext cx="8786880" cy="21430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05" name="그룹 10"/>
            <p:cNvGrpSpPr/>
            <p:nvPr/>
          </p:nvGrpSpPr>
          <p:grpSpPr>
            <a:xfrm>
              <a:off x="142920" y="785520"/>
              <a:ext cx="8715600" cy="2512800"/>
              <a:chOff x="142920" y="785520"/>
              <a:chExt cx="8715600" cy="2512800"/>
            </a:xfrm>
          </p:grpSpPr>
          <p:sp>
            <p:nvSpPr>
              <p:cNvPr id="506" name="AutoShape 29"/>
              <p:cNvSpPr/>
              <p:nvPr/>
            </p:nvSpPr>
            <p:spPr>
              <a:xfrm>
                <a:off x="142920" y="785520"/>
                <a:ext cx="8573040" cy="42840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884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af334e"/>
                    </a:solidFill>
                    <a:latin typeface="HY강B"/>
                  </a:rPr>
                  <a:t>  </a:t>
                </a:r>
                <a:r>
                  <a:rPr b="0" lang="ko-KR" sz="2400" spc="-1" strike="noStrike">
                    <a:solidFill>
                      <a:srgbClr val="af334e"/>
                    </a:solidFill>
                    <a:latin typeface="HY강B"/>
                  </a:rPr>
                  <a:t>고령노동력에 대한 편견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7" name="Text Box 25"/>
              <p:cNvSpPr/>
              <p:nvPr/>
            </p:nvSpPr>
            <p:spPr>
              <a:xfrm>
                <a:off x="285480" y="1374480"/>
                <a:ext cx="8573040" cy="192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병들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은퇴하고 싶어하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재해나 사고를 일으키기 쉽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생산성이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낮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조직보다 개인적 일에 관심이 더 많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창의성과 업무 주도성이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낮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질병 등으로 결근이 잦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상사의 지도감독에 비협조적이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새로운 지식과 기술습득에 시간과 비용이 많이 들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일에 비해 급여가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많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동료와의 업무보조가 맞지 않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이직과 전직이 잦음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08" name="그룹 10"/>
            <p:cNvGrpSpPr/>
            <p:nvPr/>
          </p:nvGrpSpPr>
          <p:grpSpPr>
            <a:xfrm>
              <a:off x="142920" y="3643200"/>
              <a:ext cx="8858160" cy="2495160"/>
              <a:chOff x="142920" y="3643200"/>
              <a:chExt cx="8858160" cy="2495160"/>
            </a:xfrm>
          </p:grpSpPr>
          <p:sp>
            <p:nvSpPr>
              <p:cNvPr id="509" name="AutoShape 29"/>
              <p:cNvSpPr/>
              <p:nvPr/>
            </p:nvSpPr>
            <p:spPr>
              <a:xfrm>
                <a:off x="142920" y="3643200"/>
                <a:ext cx="8572680" cy="50004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884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af334e"/>
                    </a:solidFill>
                    <a:latin typeface="HY강B"/>
                  </a:rPr>
                  <a:t>  </a:t>
                </a:r>
                <a:r>
                  <a:rPr b="0" lang="ko-KR" sz="2400" spc="-1" strike="noStrike">
                    <a:solidFill>
                      <a:srgbClr val="af334e"/>
                    </a:solidFill>
                    <a:latin typeface="HY강B"/>
                  </a:rPr>
                  <a:t>고령노동력의 강점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10" name="Text Box 25"/>
              <p:cNvSpPr/>
              <p:nvPr/>
            </p:nvSpPr>
            <p:spPr>
              <a:xfrm>
                <a:off x="285480" y="4214520"/>
                <a:ext cx="8715600" cy="192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일에 대한 자긍심이 높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물질보상과 지위상승의 욕심이 적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감독자의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지시와 규칙에 순응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·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협력하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일 자체에서 즐거움을 얻으려 하며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특정한 일에서는 젊은 노동자보다 생산성이 높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결근과 이직이 적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고나 재해 비율이 더 낮으며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궂은 일을 마다하지 않으며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성실하고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양심적임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511" name="AutoShape 7"/>
            <p:cNvSpPr/>
            <p:nvPr/>
          </p:nvSpPr>
          <p:spPr>
            <a:xfrm>
              <a:off x="214200" y="71280"/>
              <a:ext cx="507204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ff"/>
                  </a:solidFill>
                  <a:latin typeface="HY강B"/>
                </a:rPr>
                <a:t>3) </a:t>
              </a:r>
              <a:r>
                <a:rPr b="0" lang="ko-KR" sz="2600" spc="-1" strike="noStrike">
                  <a:solidFill>
                    <a:srgbClr val="ffffff"/>
                  </a:solidFill>
                  <a:latin typeface="HY강B"/>
                </a:rPr>
                <a:t>고령 노동력의 신화와 사실</a:t>
              </a:r>
              <a:endParaRPr b="0" lang="en-US" sz="2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12" name="AutoShape 2"/>
            <p:cNvSpPr/>
            <p:nvPr/>
          </p:nvSpPr>
          <p:spPr>
            <a:xfrm>
              <a:off x="214200" y="4143600"/>
              <a:ext cx="8786880" cy="21430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3" name="그룹 10"/>
          <p:cNvGrpSpPr/>
          <p:nvPr/>
        </p:nvGrpSpPr>
        <p:grpSpPr>
          <a:xfrm>
            <a:off x="142920" y="142920"/>
            <a:ext cx="8894880" cy="6303960"/>
            <a:chOff x="142920" y="142920"/>
            <a:chExt cx="8894880" cy="6303960"/>
          </a:xfrm>
        </p:grpSpPr>
        <p:sp>
          <p:nvSpPr>
            <p:cNvPr id="514" name="AutoShape 2"/>
            <p:cNvSpPr/>
            <p:nvPr/>
          </p:nvSpPr>
          <p:spPr>
            <a:xfrm>
              <a:off x="251280" y="3927600"/>
              <a:ext cx="8786520" cy="24958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15" name="AutoShape 2"/>
            <p:cNvSpPr/>
            <p:nvPr/>
          </p:nvSpPr>
          <p:spPr>
            <a:xfrm>
              <a:off x="214200" y="1285560"/>
              <a:ext cx="8786520" cy="17852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16" name="그룹 10"/>
            <p:cNvGrpSpPr/>
            <p:nvPr/>
          </p:nvGrpSpPr>
          <p:grpSpPr>
            <a:xfrm>
              <a:off x="142920" y="785520"/>
              <a:ext cx="8714880" cy="2270520"/>
              <a:chOff x="142920" y="785520"/>
              <a:chExt cx="8714880" cy="2270520"/>
            </a:xfrm>
          </p:grpSpPr>
          <p:sp>
            <p:nvSpPr>
              <p:cNvPr id="517" name="AutoShape 29"/>
              <p:cNvSpPr/>
              <p:nvPr/>
            </p:nvSpPr>
            <p:spPr>
              <a:xfrm>
                <a:off x="142920" y="785520"/>
                <a:ext cx="8572320" cy="42876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884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af334e"/>
                    </a:solidFill>
                    <a:latin typeface="HY강B"/>
                  </a:rPr>
                  <a:t>  </a:t>
                </a:r>
                <a:r>
                  <a:rPr b="0" lang="ko-KR" sz="2400" spc="-1" strike="noStrike">
                    <a:solidFill>
                      <a:srgbClr val="af334e"/>
                    </a:solidFill>
                    <a:latin typeface="HY강B"/>
                  </a:rPr>
                  <a:t>중년기 이후의 직업적 변화에 대한 이론적 관점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18" name="Text Box 25"/>
              <p:cNvSpPr/>
              <p:nvPr/>
            </p:nvSpPr>
            <p:spPr>
              <a:xfrm>
                <a:off x="285480" y="1285560"/>
                <a:ext cx="8572320" cy="1770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활동이론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적극적 경제활동 참여→ 삶의 만족도와 적응도 높음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분리이론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경제활동에서 은퇴하여 쉼 → 개인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 모두에 이익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지속이론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새 직업역할보다 해오던 역할 지속 → 삶의 만족도 높음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우리 사회에서는 노년기에 일을 하는 것이 바람직하다는 인식 확산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19" name="그룹 10"/>
            <p:cNvGrpSpPr/>
            <p:nvPr/>
          </p:nvGrpSpPr>
          <p:grpSpPr>
            <a:xfrm>
              <a:off x="142920" y="3357360"/>
              <a:ext cx="8894880" cy="3089520"/>
              <a:chOff x="142920" y="3357360"/>
              <a:chExt cx="8894880" cy="3089520"/>
            </a:xfrm>
          </p:grpSpPr>
          <p:sp>
            <p:nvSpPr>
              <p:cNvPr id="520" name="AutoShape 29"/>
              <p:cNvSpPr/>
              <p:nvPr/>
            </p:nvSpPr>
            <p:spPr>
              <a:xfrm>
                <a:off x="142920" y="3357360"/>
                <a:ext cx="8572680" cy="50004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884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af334e"/>
                    </a:solidFill>
                    <a:latin typeface="HY강B"/>
                  </a:rPr>
                  <a:t>  </a:t>
                </a:r>
                <a:r>
                  <a:rPr b="0" lang="ko-KR" sz="2400" spc="-1" strike="noStrike">
                    <a:solidFill>
                      <a:srgbClr val="af334e"/>
                    </a:solidFill>
                    <a:latin typeface="HY강B"/>
                  </a:rPr>
                  <a:t>경제활동 참여실태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21" name="Text Box 25"/>
              <p:cNvSpPr/>
              <p:nvPr/>
            </p:nvSpPr>
            <p:spPr>
              <a:xfrm>
                <a:off x="179280" y="3973320"/>
                <a:ext cx="8858520" cy="2473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1199"/>
                  </a:spcBef>
                  <a:buSzPct val="10279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경제활동 참여율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복지부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2020) 65+ 36.9%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통계청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2021) 60+ 44.0%,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9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취업자수는 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020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507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만여명으로 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018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년에 비해 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75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만명 증가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그림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3-2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9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  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90000"/>
                  </a:lnSpc>
                  <a:spcBef>
                    <a:spcPts val="1199"/>
                  </a:spcBef>
                  <a:buSzPct val="10279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농촌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&gt;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도시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남성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&gt;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여성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연령 낮은 노인의 경제활동 참여율 높음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90000"/>
                  </a:lnSpc>
                  <a:spcBef>
                    <a:spcPts val="1199"/>
                  </a:spcBef>
                  <a:buSzPct val="10279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020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60+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의 고용율은 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42.4%(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남성 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53.0%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여성 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33.8%)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로 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010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년에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9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비해 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5.4%  point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증가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522" name="AutoShape 7"/>
            <p:cNvSpPr/>
            <p:nvPr/>
          </p:nvSpPr>
          <p:spPr>
            <a:xfrm>
              <a:off x="214200" y="142920"/>
              <a:ext cx="500076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ff"/>
                  </a:solidFill>
                  <a:latin typeface="HY강B"/>
                </a:rPr>
                <a:t>4) </a:t>
              </a:r>
              <a:r>
                <a:rPr b="0" lang="ko-KR" sz="2500" spc="-1" strike="noStrike">
                  <a:solidFill>
                    <a:srgbClr val="ffffff"/>
                  </a:solidFill>
                  <a:latin typeface="HY강B"/>
                </a:rPr>
                <a:t>노인의 경제활동 참여실태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3" name="그룹 6"/>
          <p:cNvGrpSpPr/>
          <p:nvPr/>
        </p:nvGrpSpPr>
        <p:grpSpPr>
          <a:xfrm>
            <a:off x="142920" y="357120"/>
            <a:ext cx="8858160" cy="6354720"/>
            <a:chOff x="142920" y="357120"/>
            <a:chExt cx="8858160" cy="6354720"/>
          </a:xfrm>
        </p:grpSpPr>
        <p:sp>
          <p:nvSpPr>
            <p:cNvPr id="524" name="AutoShape 2"/>
            <p:cNvSpPr/>
            <p:nvPr/>
          </p:nvSpPr>
          <p:spPr>
            <a:xfrm>
              <a:off x="214200" y="928440"/>
              <a:ext cx="8786880" cy="39301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25" name="그룹 10"/>
            <p:cNvGrpSpPr/>
            <p:nvPr/>
          </p:nvGrpSpPr>
          <p:grpSpPr>
            <a:xfrm>
              <a:off x="142920" y="357120"/>
              <a:ext cx="8858160" cy="4467240"/>
              <a:chOff x="142920" y="357120"/>
              <a:chExt cx="8858160" cy="4467240"/>
            </a:xfrm>
          </p:grpSpPr>
          <p:sp>
            <p:nvSpPr>
              <p:cNvPr id="526" name="AutoShape 29"/>
              <p:cNvSpPr/>
              <p:nvPr/>
            </p:nvSpPr>
            <p:spPr>
              <a:xfrm>
                <a:off x="142920" y="357120"/>
                <a:ext cx="8572680" cy="50004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884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af334e"/>
                    </a:solidFill>
                    <a:latin typeface="HY강B"/>
                  </a:rPr>
                  <a:t>  </a:t>
                </a:r>
                <a:r>
                  <a:rPr b="0" lang="ko-KR" sz="2400" spc="-1" strike="noStrike">
                    <a:solidFill>
                      <a:srgbClr val="af334e"/>
                    </a:solidFill>
                    <a:latin typeface="HY강B"/>
                  </a:rPr>
                  <a:t>경제활동 참여실태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27" name="Text Box 25"/>
              <p:cNvSpPr/>
              <p:nvPr/>
            </p:nvSpPr>
            <p:spPr>
              <a:xfrm>
                <a:off x="285480" y="981000"/>
                <a:ext cx="8715600" cy="384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경제활동 참여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이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경제적 이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미참여 이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낮은 급여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일 내용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건강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직업분포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경제활동 참여 노인의 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48.7%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 단순노무직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13.5%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 농수산업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 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서비직 종사자가 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12.2%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등의 순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3-12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4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종사상 지위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자영업주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(34%),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상용근로자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(18%),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일용근로자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(15%),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무급가족  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종사자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(7%)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의 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노년기에는 </a:t>
                </a:r>
                <a:r>
                  <a:rPr b="0" lang="en-US" sz="20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second career, bridge job</a:t>
                </a:r>
                <a:r>
                  <a:rPr b="0" lang="ko-KR" sz="20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으로 전직 많음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근로수입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임금근로자 평균급여의 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80%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수준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농업종사자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단순노무직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종사자는 임금근로자 평균 급의 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84-87%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수준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비정규직 임금차별 존재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pic>
          <p:nvPicPr>
            <p:cNvPr id="528" name="Picture 2" descr="C:\DOCUME~1\USER\LOCALS~1\Temp\UNI000009b01cd2.gif"/>
            <p:cNvPicPr/>
            <p:nvPr/>
          </p:nvPicPr>
          <p:blipFill>
            <a:blip r:embed="rId6"/>
            <a:stretch/>
          </p:blipFill>
          <p:spPr>
            <a:xfrm>
              <a:off x="611280" y="4926600"/>
              <a:ext cx="4176360" cy="1785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9" name="그림 3" descr="titl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1071720"/>
          </a:xfrm>
          <a:prstGeom prst="rect">
            <a:avLst/>
          </a:prstGeom>
          <a:ln w="0">
            <a:noFill/>
          </a:ln>
        </p:spPr>
      </p:pic>
      <p:sp>
        <p:nvSpPr>
          <p:cNvPr id="530" name="Rectangle 2"/>
          <p:cNvSpPr/>
          <p:nvPr/>
        </p:nvSpPr>
        <p:spPr>
          <a:xfrm>
            <a:off x="1571760" y="142920"/>
            <a:ext cx="778644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HY강B"/>
              </a:rPr>
              <a:t>3.</a:t>
            </a:r>
            <a:r>
              <a:rPr b="1" lang="ko-KR" sz="3600" spc="-1" strike="noStrike">
                <a:solidFill>
                  <a:srgbClr val="ffffff"/>
                </a:solidFill>
                <a:latin typeface="HY강B"/>
              </a:rPr>
              <a:t> </a:t>
            </a:r>
            <a:r>
              <a:rPr b="1" lang="ko-KR" sz="3600" spc="-1" strike="noStrike">
                <a:solidFill>
                  <a:srgbClr val="ffffff"/>
                </a:solidFill>
                <a:latin typeface="HY강B"/>
              </a:rPr>
              <a:t>은퇴의 과정과 적응</a:t>
            </a:r>
            <a:endParaRPr b="0" lang="en-US" sz="36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531" name="그룹 11"/>
          <p:cNvGrpSpPr/>
          <p:nvPr/>
        </p:nvGrpSpPr>
        <p:grpSpPr>
          <a:xfrm>
            <a:off x="142920" y="1000080"/>
            <a:ext cx="8858160" cy="4786200"/>
            <a:chOff x="142920" y="1000080"/>
            <a:chExt cx="8858160" cy="4786200"/>
          </a:xfrm>
        </p:grpSpPr>
        <p:sp>
          <p:nvSpPr>
            <p:cNvPr id="532" name="AutoShape 2"/>
            <p:cNvSpPr/>
            <p:nvPr/>
          </p:nvSpPr>
          <p:spPr>
            <a:xfrm>
              <a:off x="142920" y="1715040"/>
              <a:ext cx="8858160" cy="40712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33" name="AutoShape 4"/>
            <p:cNvSpPr/>
            <p:nvPr/>
          </p:nvSpPr>
          <p:spPr>
            <a:xfrm>
              <a:off x="357120" y="1000080"/>
              <a:ext cx="4714920" cy="5713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HY강B"/>
                </a:rPr>
                <a:t>1) </a:t>
              </a:r>
              <a:r>
                <a:rPr b="0" lang="ko-KR" sz="2800" spc="-1" strike="noStrike">
                  <a:solidFill>
                    <a:srgbClr val="ffffff"/>
                  </a:solidFill>
                  <a:latin typeface="HY강B"/>
                </a:rPr>
                <a:t>은퇴의 제도화 배경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34" name="Text Box 6"/>
            <p:cNvSpPr/>
            <p:nvPr/>
          </p:nvSpPr>
          <p:spPr>
            <a:xfrm>
              <a:off x="285480" y="2001600"/>
              <a:ext cx="8643960" cy="361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buSzPct val="102757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1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21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전통사회에서는 퇴직 무의미</a:t>
              </a:r>
              <a:r>
                <a:rPr b="0" lang="en-US" sz="21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21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퇴직제도는 </a:t>
              </a:r>
              <a:r>
                <a:rPr b="0" lang="en-US" sz="21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20</a:t>
              </a:r>
              <a:r>
                <a:rPr b="0" lang="ko-KR" sz="21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세기 산업화 이후 도입</a:t>
              </a:r>
              <a:endParaRPr b="0" lang="en-US" sz="21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800"/>
                </a:spcBef>
                <a:buSzPct val="102757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21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배경요인</a:t>
              </a:r>
              <a:endParaRPr b="0" lang="en-US" sz="21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901"/>
                </a:spcBef>
                <a:buClr>
                  <a:srgbClr val="11345a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노동력 수요의 감소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901"/>
                </a:spcBef>
                <a:buClr>
                  <a:srgbClr val="11345a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생산기술과 지식의 급속한 발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901"/>
                </a:spcBef>
                <a:buClr>
                  <a:srgbClr val="11345a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생산조직의 관료화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901"/>
                </a:spcBef>
                <a:buClr>
                  <a:srgbClr val="11345a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노후 소득보장제도의 발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800"/>
                </a:spcBef>
                <a:buSzPct val="102757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21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회보험 수급자 및 보장수준의 미흡으로</a:t>
              </a:r>
              <a:r>
                <a:rPr b="0" lang="en-US" sz="21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21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우리사회에서는 아직  </a:t>
              </a:r>
              <a:endParaRPr b="0" lang="en-US" sz="21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1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 </a:t>
              </a:r>
              <a:r>
                <a:rPr b="0" lang="ko-KR" sz="21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후소득보장제도의 발전이 퇴직의 제도화 배경요인이 되지 못함</a:t>
              </a:r>
              <a:endParaRPr b="0" lang="en-US" sz="21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AutoShape 4"/>
          <p:cNvSpPr/>
          <p:nvPr/>
        </p:nvSpPr>
        <p:spPr>
          <a:xfrm>
            <a:off x="285840" y="71280"/>
            <a:ext cx="4357440" cy="4287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6e81e0"/>
              </a:gs>
              <a:gs pos="100000">
                <a:srgbClr val="333c68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cacac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HY강B"/>
              </a:rPr>
              <a:t>2) </a:t>
            </a:r>
            <a:r>
              <a:rPr b="0" lang="ko-KR" sz="2600" spc="-1" strike="noStrike">
                <a:solidFill>
                  <a:srgbClr val="ffffff"/>
                </a:solidFill>
                <a:latin typeface="HY강B"/>
              </a:rPr>
              <a:t>은퇴와 퇴직의 개념</a:t>
            </a:r>
            <a:endParaRPr b="0" lang="en-US" sz="26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536" name="그룹 22"/>
          <p:cNvGrpSpPr/>
          <p:nvPr/>
        </p:nvGrpSpPr>
        <p:grpSpPr>
          <a:xfrm>
            <a:off x="285840" y="603360"/>
            <a:ext cx="8643960" cy="4232520"/>
            <a:chOff x="285840" y="603360"/>
            <a:chExt cx="8643960" cy="4232520"/>
          </a:xfrm>
        </p:grpSpPr>
        <p:sp>
          <p:nvSpPr>
            <p:cNvPr id="537" name="AutoShape 2"/>
            <p:cNvSpPr/>
            <p:nvPr/>
          </p:nvSpPr>
          <p:spPr>
            <a:xfrm>
              <a:off x="357120" y="2357280"/>
              <a:ext cx="8572680" cy="24285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38" name="그룹 7"/>
            <p:cNvGrpSpPr/>
            <p:nvPr/>
          </p:nvGrpSpPr>
          <p:grpSpPr>
            <a:xfrm>
              <a:off x="285840" y="603360"/>
              <a:ext cx="8643960" cy="4232520"/>
              <a:chOff x="285840" y="603360"/>
              <a:chExt cx="8643960" cy="4232520"/>
            </a:xfrm>
          </p:grpSpPr>
          <p:sp>
            <p:nvSpPr>
              <p:cNvPr id="539" name="AutoShape 2"/>
              <p:cNvSpPr/>
              <p:nvPr/>
            </p:nvSpPr>
            <p:spPr>
              <a:xfrm>
                <a:off x="357120" y="1071720"/>
                <a:ext cx="8572680" cy="7855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40" name="Text Box 6"/>
              <p:cNvSpPr/>
              <p:nvPr/>
            </p:nvSpPr>
            <p:spPr>
              <a:xfrm>
                <a:off x="357120" y="1073160"/>
                <a:ext cx="8429760" cy="78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은퇴는 일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work)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에서 물러나는 것이지만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일은 사망까지 중단되지 않으므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직업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job)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이나 노동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labor)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에서 물러나는 퇴직의 개념으로 한정해 논의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41" name="직사각형 10"/>
              <p:cNvSpPr/>
              <p:nvPr/>
            </p:nvSpPr>
            <p:spPr>
              <a:xfrm>
                <a:off x="285840" y="603360"/>
                <a:ext cx="4071960" cy="39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909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은퇴와 퇴직 개념의 범위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42" name="직사각형 11"/>
              <p:cNvSpPr/>
              <p:nvPr/>
            </p:nvSpPr>
            <p:spPr>
              <a:xfrm>
                <a:off x="285840" y="1960560"/>
                <a:ext cx="4071960" cy="39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909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퇴직의 개념정의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43" name="Text Box 6"/>
              <p:cNvSpPr/>
              <p:nvPr/>
            </p:nvSpPr>
            <p:spPr>
              <a:xfrm>
                <a:off x="357120" y="2354400"/>
                <a:ext cx="8501400" cy="2481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퇴직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고용상태의 직위에서 물러나 그 직위에 관련된 역할수행을 중단하게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되는 현상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퇴직의 하위영역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event, process, role, phase of life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11345a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사건</a:t>
                </a:r>
                <a:r>
                  <a:rPr b="0" lang="en-US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퇴임식</a:t>
                </a:r>
                <a:r>
                  <a:rPr b="0" lang="en-US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사회보장급여 서류 제출</a:t>
                </a:r>
                <a:r>
                  <a:rPr b="0" lang="en-US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업무인수인계 등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11345a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과정</a:t>
                </a:r>
                <a:r>
                  <a:rPr b="0" lang="en-US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퇴직 전 단계→ 종결단계에 이르는 일련의 단계적 절차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11345a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역할</a:t>
                </a:r>
                <a:r>
                  <a:rPr b="0" lang="en-US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은퇴자</a:t>
                </a:r>
                <a:r>
                  <a:rPr b="0" lang="en-US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퇴직자로서의 역할</a:t>
                </a:r>
                <a:r>
                  <a:rPr b="0" lang="en-US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(Kimmel</a:t>
                </a:r>
                <a:r>
                  <a:rPr b="0" lang="ko-KR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은 지위로서의 퇴직이라 함</a:t>
                </a:r>
                <a:r>
                  <a:rPr b="0" lang="en-US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)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11345a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생활단계</a:t>
                </a:r>
                <a:r>
                  <a:rPr b="0" lang="en-US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약 </a:t>
                </a:r>
                <a:r>
                  <a:rPr b="0" lang="en-US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15-30</a:t>
                </a:r>
                <a:r>
                  <a:rPr b="0" lang="ko-KR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년 정도의 생활주기상의 마지막 단계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  <p:grpSp>
        <p:nvGrpSpPr>
          <p:cNvPr id="544" name="그룹 16"/>
          <p:cNvGrpSpPr/>
          <p:nvPr/>
        </p:nvGrpSpPr>
        <p:grpSpPr>
          <a:xfrm>
            <a:off x="285840" y="4889520"/>
            <a:ext cx="8715240" cy="1409040"/>
            <a:chOff x="285840" y="4889520"/>
            <a:chExt cx="8715240" cy="1409040"/>
          </a:xfrm>
        </p:grpSpPr>
        <p:sp>
          <p:nvSpPr>
            <p:cNvPr id="545" name="AutoShape 2"/>
            <p:cNvSpPr/>
            <p:nvPr/>
          </p:nvSpPr>
          <p:spPr>
            <a:xfrm>
              <a:off x="357120" y="5286600"/>
              <a:ext cx="8572680" cy="10008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46" name="Text Box 6"/>
            <p:cNvSpPr/>
            <p:nvPr/>
          </p:nvSpPr>
          <p:spPr>
            <a:xfrm>
              <a:off x="357120" y="5229000"/>
              <a:ext cx="8643960" cy="106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지난 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1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년간 보수를 받는 고용상태에 있지 않은 자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퇴직연금을 수급하고 있는 자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연간 주 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35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시간 이상 상근으로 고용되지 않은 자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47" name="직사각형 19"/>
            <p:cNvSpPr/>
            <p:nvPr/>
          </p:nvSpPr>
          <p:spPr>
            <a:xfrm>
              <a:off x="285840" y="4889520"/>
              <a:ext cx="407196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퇴직</a:t>
              </a:r>
              <a:r>
                <a:rPr b="0" lang="en-US" sz="2200" spc="-1" strike="noStrike">
                  <a:solidFill>
                    <a:srgbClr val="c00000"/>
                  </a:solidFill>
                  <a:latin typeface="Arial"/>
                </a:rPr>
                <a:t>(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자</a:t>
              </a:r>
              <a:r>
                <a:rPr b="0" lang="en-US" sz="2200" spc="-1" strike="noStrike">
                  <a:solidFill>
                    <a:srgbClr val="c00000"/>
                  </a:solidFill>
                  <a:latin typeface="Arial"/>
                </a:rPr>
                <a:t>)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의 조작적 정의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8" name="그룹 12"/>
          <p:cNvGrpSpPr/>
          <p:nvPr/>
        </p:nvGrpSpPr>
        <p:grpSpPr>
          <a:xfrm>
            <a:off x="285840" y="142920"/>
            <a:ext cx="8572320" cy="5857920"/>
            <a:chOff x="285840" y="142920"/>
            <a:chExt cx="8572320" cy="5857920"/>
          </a:xfrm>
        </p:grpSpPr>
        <p:sp>
          <p:nvSpPr>
            <p:cNvPr id="549" name="AutoShape 4"/>
            <p:cNvSpPr/>
            <p:nvPr/>
          </p:nvSpPr>
          <p:spPr>
            <a:xfrm>
              <a:off x="285840" y="142920"/>
              <a:ext cx="4572000" cy="5713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HY강B"/>
                </a:rPr>
                <a:t>3) </a:t>
              </a:r>
              <a:r>
                <a:rPr b="0" lang="ko-KR" sz="2800" spc="-1" strike="noStrike">
                  <a:solidFill>
                    <a:srgbClr val="ffffff"/>
                  </a:solidFill>
                  <a:latin typeface="HY강B"/>
                </a:rPr>
                <a:t>퇴직의 과정과 영향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50" name="그룹 7"/>
            <p:cNvGrpSpPr/>
            <p:nvPr/>
          </p:nvGrpSpPr>
          <p:grpSpPr>
            <a:xfrm>
              <a:off x="285840" y="928440"/>
              <a:ext cx="8572320" cy="5072400"/>
              <a:chOff x="285840" y="928440"/>
              <a:chExt cx="8572320" cy="5072400"/>
            </a:xfrm>
          </p:grpSpPr>
          <p:sp>
            <p:nvSpPr>
              <p:cNvPr id="551" name="AutoShape 2"/>
              <p:cNvSpPr/>
              <p:nvPr/>
            </p:nvSpPr>
            <p:spPr>
              <a:xfrm>
                <a:off x="285840" y="1356840"/>
                <a:ext cx="8572320" cy="13572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52" name="Text Box 6"/>
              <p:cNvSpPr/>
              <p:nvPr/>
            </p:nvSpPr>
            <p:spPr>
              <a:xfrm>
                <a:off x="357120" y="1410840"/>
                <a:ext cx="8501040" cy="1237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79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퇴직 후 예상되는 경제사정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년연령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동에 대한 가치관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퇴직의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발성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직업에 대한 헌신과 사명감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퇴직 후 생활목표의 확실성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퇴직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이후의 소득보장 정도 등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53" name="직사각형 10"/>
              <p:cNvSpPr/>
              <p:nvPr/>
            </p:nvSpPr>
            <p:spPr>
              <a:xfrm>
                <a:off x="285840" y="928440"/>
                <a:ext cx="507204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884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퇴직 태도에 영향을 미치는 요인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54" name="직사각형 11"/>
              <p:cNvSpPr/>
              <p:nvPr/>
            </p:nvSpPr>
            <p:spPr>
              <a:xfrm>
                <a:off x="285840" y="2889000"/>
                <a:ext cx="407196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884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퇴직 결정의 영향요인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55" name="AutoShape 2"/>
              <p:cNvSpPr/>
              <p:nvPr/>
            </p:nvSpPr>
            <p:spPr>
              <a:xfrm>
                <a:off x="285840" y="3325680"/>
                <a:ext cx="8572320" cy="26751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56" name="Text Box 6"/>
              <p:cNvSpPr/>
              <p:nvPr/>
            </p:nvSpPr>
            <p:spPr>
              <a:xfrm>
                <a:off x="357120" y="3435120"/>
                <a:ext cx="8501040" cy="249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조직의 공식구조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년연령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족의 퇴직에 대한 태도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족 경제상태와 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예상 수입 정도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본인의 건강상태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직업 및 교육수준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배우자 유무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부양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책임 정도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직업에 대한 만족도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여가에 대한 태도 등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79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퇴직결정과정의 흐름도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그림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3-3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buSzPct val="10279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퇴직의 단계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퇴직전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밀월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안정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휴식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환멸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재지향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일상화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종결단계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 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3-13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7" name="그룹 8"/>
          <p:cNvGrpSpPr/>
          <p:nvPr/>
        </p:nvGrpSpPr>
        <p:grpSpPr>
          <a:xfrm>
            <a:off x="285840" y="71280"/>
            <a:ext cx="8572320" cy="6429600"/>
            <a:chOff x="285840" y="71280"/>
            <a:chExt cx="8572320" cy="6429600"/>
          </a:xfrm>
        </p:grpSpPr>
        <p:grpSp>
          <p:nvGrpSpPr>
            <p:cNvPr id="558" name="그룹 7"/>
            <p:cNvGrpSpPr/>
            <p:nvPr/>
          </p:nvGrpSpPr>
          <p:grpSpPr>
            <a:xfrm>
              <a:off x="285840" y="71280"/>
              <a:ext cx="8572320" cy="6429600"/>
              <a:chOff x="285840" y="71280"/>
              <a:chExt cx="8572320" cy="6429600"/>
            </a:xfrm>
          </p:grpSpPr>
          <p:sp>
            <p:nvSpPr>
              <p:cNvPr id="559" name="AutoShape 2"/>
              <p:cNvSpPr/>
              <p:nvPr/>
            </p:nvSpPr>
            <p:spPr>
              <a:xfrm>
                <a:off x="285840" y="499680"/>
                <a:ext cx="8572320" cy="207144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60" name="Text Box 6"/>
              <p:cNvSpPr/>
              <p:nvPr/>
            </p:nvSpPr>
            <p:spPr>
              <a:xfrm>
                <a:off x="357120" y="553680"/>
                <a:ext cx="8358120" cy="19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수입은 급감하나 지출은 일정 수준 유지 → 경제적 애로 유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건강상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건강은 약화 또는 퇴직전과 유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.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스트레스 감소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건강관리 증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활동 참여도가 낮아져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적 소외와 고독의 가능성 높아짐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부정적 자아개념과 자기가치 평가절하 가능성이 높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여가시간 증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-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참여율 감소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여가사회화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재정과 건강상태 따라 참여도 상이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양성적 역할의 수행도가 높아짐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61" name="직사각형 10"/>
              <p:cNvSpPr/>
              <p:nvPr/>
            </p:nvSpPr>
            <p:spPr>
              <a:xfrm>
                <a:off x="285840" y="71280"/>
                <a:ext cx="5072040" cy="39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909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퇴직후 생활변화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62" name="AutoShape 2"/>
              <p:cNvSpPr/>
              <p:nvPr/>
            </p:nvSpPr>
            <p:spPr>
              <a:xfrm>
                <a:off x="285840" y="3286080"/>
                <a:ext cx="8572320" cy="32148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63" name="Text Box 6"/>
              <p:cNvSpPr/>
              <p:nvPr/>
            </p:nvSpPr>
            <p:spPr>
              <a:xfrm>
                <a:off x="357120" y="3286080"/>
                <a:ext cx="8501040" cy="3204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퇴직 태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퇴직 이후 생활변화에 대한 인식이 부족할수록 적응 애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퇴직유형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강제 퇴직일수록 상실감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경제곤란이 크므로 적응 애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퇴직전 직업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전문직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무관리직 종사자 적응도 양호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1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교육수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고학력자가 자원 여유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여가활용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재취업기회 많아 유리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1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경제사정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양호할수록 적응 유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.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빈곤층 비자발적 경제활동참여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1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건강상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건강 양호할수록 적응 유리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1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여가 예비사회화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예비사회화 수준 높을수록 적응 유리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1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따라서 퇴직전 건강유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안정적 소득확보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여가와 사회활동 참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족관계의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재조정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퇴직에 대한 인식전환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second life)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필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564" name="AutoShape 4"/>
            <p:cNvSpPr/>
            <p:nvPr/>
          </p:nvSpPr>
          <p:spPr>
            <a:xfrm>
              <a:off x="285840" y="2714400"/>
              <a:ext cx="407196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ff"/>
                  </a:solidFill>
                  <a:latin typeface="HY강B"/>
                </a:rPr>
                <a:t>4) </a:t>
              </a:r>
              <a:r>
                <a:rPr b="0" lang="ko-KR" sz="2600" spc="-1" strike="noStrike">
                  <a:solidFill>
                    <a:srgbClr val="ffffff"/>
                  </a:solidFill>
                  <a:latin typeface="HY강B"/>
                </a:rPr>
                <a:t>퇴직에 대한 적응</a:t>
              </a:r>
              <a:r>
                <a:rPr b="0" lang="en-US" sz="26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endParaRPr b="0" lang="en-US" sz="26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5" name="그룹 8"/>
          <p:cNvGrpSpPr/>
          <p:nvPr/>
        </p:nvGrpSpPr>
        <p:grpSpPr>
          <a:xfrm>
            <a:off x="285840" y="71280"/>
            <a:ext cx="9072360" cy="6286680"/>
            <a:chOff x="285840" y="71280"/>
            <a:chExt cx="9072360" cy="6286680"/>
          </a:xfrm>
        </p:grpSpPr>
        <p:sp>
          <p:nvSpPr>
            <p:cNvPr id="566" name="Rectangle 2"/>
            <p:cNvSpPr/>
            <p:nvPr/>
          </p:nvSpPr>
          <p:spPr>
            <a:xfrm>
              <a:off x="1571400" y="71280"/>
              <a:ext cx="7786800" cy="71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HY강B"/>
                </a:rPr>
                <a:t>4.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현행 퇴직제도의 현황과 문제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67" name="그룹 1"/>
            <p:cNvGrpSpPr/>
            <p:nvPr/>
          </p:nvGrpSpPr>
          <p:grpSpPr>
            <a:xfrm>
              <a:off x="285840" y="874440"/>
              <a:ext cx="8643960" cy="5483520"/>
              <a:chOff x="285840" y="874440"/>
              <a:chExt cx="8643960" cy="5483520"/>
            </a:xfrm>
          </p:grpSpPr>
          <p:sp>
            <p:nvSpPr>
              <p:cNvPr id="568" name="AutoShape 2"/>
              <p:cNvSpPr/>
              <p:nvPr/>
            </p:nvSpPr>
            <p:spPr>
              <a:xfrm>
                <a:off x="285840" y="1356840"/>
                <a:ext cx="8643960" cy="50011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69" name="AutoShape 4"/>
              <p:cNvSpPr/>
              <p:nvPr/>
            </p:nvSpPr>
            <p:spPr>
              <a:xfrm>
                <a:off x="285840" y="874440"/>
                <a:ext cx="3500280" cy="4824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HY강B"/>
                  </a:rPr>
                  <a:t>1) </a:t>
                </a:r>
                <a:r>
                  <a:rPr b="1" lang="ko-KR" sz="2800" spc="-1" strike="noStrike">
                    <a:solidFill>
                      <a:srgbClr val="ffffff"/>
                    </a:solidFill>
                    <a:latin typeface="HY강B"/>
                  </a:rPr>
                  <a:t>퇴직의 유형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70" name="Text Box 6"/>
              <p:cNvSpPr/>
              <p:nvPr/>
            </p:nvSpPr>
            <p:spPr>
              <a:xfrm>
                <a:off x="500040" y="1544400"/>
                <a:ext cx="8212320" cy="465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ts val="1998"/>
                  </a:lnSpc>
                  <a:spcBef>
                    <a:spcPts val="1250"/>
                  </a:spcBef>
                  <a:buSzPct val="10279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임의퇴직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발적 퇴직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: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본인 의사에 의한 퇴직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ts val="1998"/>
                  </a:lnSpc>
                  <a:spcBef>
                    <a:spcPts val="1250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연퇴직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연금수급연한이 되어 퇴직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ts val="1998"/>
                  </a:lnSpc>
                  <a:spcBef>
                    <a:spcPts val="1250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강제퇴직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비자발적 퇴직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: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능력과 관계없이 정년연령에 퇴직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ts val="1998"/>
                  </a:lnSpc>
                  <a:spcBef>
                    <a:spcPts val="1250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강제퇴직제도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단일정년제 ＋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차등정년제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ts val="1998"/>
                  </a:lnSpc>
                  <a:spcBef>
                    <a:spcPts val="799"/>
                  </a:spcBef>
                  <a:buClr>
                    <a:srgbClr val="003366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단일정년제</a:t>
                </a:r>
                <a:r>
                  <a:rPr b="0" lang="en-US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직급</a:t>
                </a:r>
                <a:r>
                  <a:rPr b="0" lang="en-US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성에 관계없이 정년연령을 적용하는 퇴직제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ts val="1998"/>
                  </a:lnSpc>
                  <a:spcBef>
                    <a:spcPts val="799"/>
                  </a:spcBef>
                  <a:buClr>
                    <a:srgbClr val="003366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계급</a:t>
                </a:r>
                <a:r>
                  <a:rPr b="0" lang="en-US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직급</a:t>
                </a:r>
                <a:r>
                  <a:rPr b="0" lang="en-US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정년제</a:t>
                </a:r>
                <a:r>
                  <a:rPr b="0" lang="en-US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직급 상한연령에 도달하면 퇴직하는 제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ts val="1998"/>
                  </a:lnSpc>
                  <a:spcBef>
                    <a:spcPts val="799"/>
                  </a:spcBef>
                  <a:buClr>
                    <a:srgbClr val="003366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직종정년제</a:t>
                </a:r>
                <a:r>
                  <a:rPr b="0" lang="en-US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직종별로 각기 다른 정년연령을 적용하는 퇴직제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ts val="1998"/>
                  </a:lnSpc>
                  <a:spcBef>
                    <a:spcPts val="799"/>
                  </a:spcBef>
                  <a:buClr>
                    <a:srgbClr val="003366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성별정년제</a:t>
                </a:r>
                <a:r>
                  <a:rPr b="0" lang="en-US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남녀에 따라 각기 다른 정년연령을 적용하는 퇴직제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ts val="1998"/>
                  </a:lnSpc>
                  <a:spcBef>
                    <a:spcPts val="1250"/>
                  </a:spcBef>
                  <a:buSzPct val="10279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계급정년제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경찰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군대에서 채택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ts val="1998"/>
                  </a:lnSpc>
                  <a:spcBef>
                    <a:spcPts val="1250"/>
                  </a:spcBef>
                  <a:buSzPct val="10279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성별 정년제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남녀고용평등 및 일 가정 양립 지원에 관한 법률에도 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ts val="1998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불구하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음성적 차별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ts val="1998"/>
                  </a:lnSpc>
                  <a:spcBef>
                    <a:spcPts val="1250"/>
                  </a:spcBef>
                  <a:buSzPct val="10279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직급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+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직종정년제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기업체에서 활용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1" name="그룹 15"/>
          <p:cNvGrpSpPr/>
          <p:nvPr/>
        </p:nvGrpSpPr>
        <p:grpSpPr>
          <a:xfrm>
            <a:off x="142920" y="0"/>
            <a:ext cx="8929800" cy="6286680"/>
            <a:chOff x="142920" y="0"/>
            <a:chExt cx="8929800" cy="6286680"/>
          </a:xfrm>
        </p:grpSpPr>
        <p:sp>
          <p:nvSpPr>
            <p:cNvPr id="572" name="AutoShape 2"/>
            <p:cNvSpPr/>
            <p:nvPr/>
          </p:nvSpPr>
          <p:spPr>
            <a:xfrm>
              <a:off x="180720" y="4293360"/>
              <a:ext cx="8749080" cy="7786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73" name="AutoShape 2"/>
            <p:cNvSpPr/>
            <p:nvPr/>
          </p:nvSpPr>
          <p:spPr>
            <a:xfrm>
              <a:off x="180720" y="5572440"/>
              <a:ext cx="8749080" cy="7142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74" name="AutoShape 2"/>
            <p:cNvSpPr/>
            <p:nvPr/>
          </p:nvSpPr>
          <p:spPr>
            <a:xfrm>
              <a:off x="142920" y="1857240"/>
              <a:ext cx="8749080" cy="18572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75" name="그룹 1"/>
            <p:cNvGrpSpPr/>
            <p:nvPr/>
          </p:nvGrpSpPr>
          <p:grpSpPr>
            <a:xfrm>
              <a:off x="142920" y="0"/>
              <a:ext cx="8929800" cy="3624120"/>
              <a:chOff x="142920" y="0"/>
              <a:chExt cx="8929800" cy="3624120"/>
            </a:xfrm>
          </p:grpSpPr>
          <p:sp>
            <p:nvSpPr>
              <p:cNvPr id="576" name="Text Box 25"/>
              <p:cNvSpPr/>
              <p:nvPr/>
            </p:nvSpPr>
            <p:spPr>
              <a:xfrm>
                <a:off x="357120" y="1928880"/>
                <a:ext cx="8644320" cy="1695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강제퇴직의 단일정년제 채택 기업 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85%(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단일정년제 기업 평균 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60.2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세로 지속적 증가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013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년 고령자고용촉진법에서 근로자 정년을 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60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세 이상으로 정하도록 의무화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016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년부터 단계적 시행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. 300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인 이상 사업장은 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016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1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월부터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300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인 미만 사업장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017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1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월부터 적용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그러나 정리해고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권고사직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명예퇴직 등의 조기퇴직이 지속적으로 확산되고 있음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577" name="그룹 30"/>
              <p:cNvGrpSpPr/>
              <p:nvPr/>
            </p:nvGrpSpPr>
            <p:grpSpPr>
              <a:xfrm>
                <a:off x="142920" y="0"/>
                <a:ext cx="8929800" cy="1286280"/>
                <a:chOff x="142920" y="0"/>
                <a:chExt cx="8929800" cy="1286280"/>
              </a:xfrm>
            </p:grpSpPr>
            <p:sp>
              <p:nvSpPr>
                <p:cNvPr id="578" name="AutoShape 2"/>
                <p:cNvSpPr/>
                <p:nvPr/>
              </p:nvSpPr>
              <p:spPr>
                <a:xfrm>
                  <a:off x="142920" y="786240"/>
                  <a:ext cx="8715600" cy="5000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6600">
                    <a:alpha val="10000"/>
                  </a:srgbClr>
                </a:solidFill>
                <a:ln w="9360">
                  <a:solidFill>
                    <a:srgbClr val="1d528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579" name="AutoShape 7"/>
                <p:cNvSpPr/>
                <p:nvPr/>
              </p:nvSpPr>
              <p:spPr>
                <a:xfrm>
                  <a:off x="285480" y="0"/>
                  <a:ext cx="4714920" cy="5000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6e81e0"/>
                    </a:gs>
                    <a:gs pos="100000">
                      <a:srgbClr val="333c68"/>
                    </a:gs>
                  </a:gsLst>
                  <a:lin ang="0"/>
                </a:gradFill>
                <a:ln w="38160">
                  <a:solidFill>
                    <a:srgbClr val="ffffff"/>
                  </a:solidFill>
                  <a:miter/>
                </a:ln>
                <a:effectLst>
                  <a:outerShdw dist="63504" dir="3183908" blurRad="0" rotWithShape="0">
                    <a:srgbClr val="cacac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600" spc="-1" strike="noStrike">
                      <a:solidFill>
                        <a:srgbClr val="ffffff"/>
                      </a:solidFill>
                      <a:latin typeface="HY강B"/>
                    </a:rPr>
                    <a:t>2) </a:t>
                  </a:r>
                  <a:r>
                    <a:rPr b="0" lang="ko-KR" sz="2600" spc="-1" strike="noStrike">
                      <a:solidFill>
                        <a:srgbClr val="ffffff"/>
                      </a:solidFill>
                      <a:latin typeface="HY강B"/>
                    </a:rPr>
                    <a:t>정년퇴직제도의 현상</a:t>
                  </a:r>
                  <a:endParaRPr b="0" lang="en-US" sz="26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580" name="Text Box 25"/>
                <p:cNvSpPr/>
                <p:nvPr/>
              </p:nvSpPr>
              <p:spPr>
                <a:xfrm>
                  <a:off x="509400" y="901800"/>
                  <a:ext cx="8563320" cy="383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88"/>
                    </a:spcBef>
                    <a:buSzPct val="102985"/>
                    <a:buBlip>
                      <a:blip r:embed="rId5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9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en-US" sz="19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1970</a:t>
                  </a:r>
                  <a:r>
                    <a:rPr b="0" lang="ko-KR" sz="19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년대 산업화 이후 정년퇴직제도 정착</a:t>
                  </a:r>
                  <a:endParaRPr b="0" lang="en-US" sz="19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1" name="AutoShape 29"/>
              <p:cNvSpPr/>
              <p:nvPr/>
            </p:nvSpPr>
            <p:spPr>
              <a:xfrm>
                <a:off x="285480" y="1357200"/>
                <a:ext cx="8572680" cy="57132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909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HY강B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HY강B"/>
                  </a:rPr>
                  <a:t>민간기업의 정년퇴직제도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582" name="AutoShape 29"/>
            <p:cNvSpPr/>
            <p:nvPr/>
          </p:nvSpPr>
          <p:spPr>
            <a:xfrm>
              <a:off x="142920" y="3786480"/>
              <a:ext cx="8572680" cy="571320"/>
            </a:xfrm>
            <a:prstGeom prst="roundRect">
              <a:avLst>
                <a:gd name="adj" fmla="val 1374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SzPct val="102909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HY강B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HY강B"/>
                </a:rPr>
                <a:t>공공부문 정년퇴직제도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3" name="AutoShape 29"/>
            <p:cNvSpPr/>
            <p:nvPr/>
          </p:nvSpPr>
          <p:spPr>
            <a:xfrm>
              <a:off x="142920" y="5072400"/>
              <a:ext cx="8572680" cy="571320"/>
            </a:xfrm>
            <a:prstGeom prst="roundRect">
              <a:avLst>
                <a:gd name="adj" fmla="val 1374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SzPct val="102909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HY강B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HY강B"/>
                </a:rPr>
                <a:t>정년연장에 대한 노사정의 태도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4" name="Text Box 25"/>
            <p:cNvSpPr/>
            <p:nvPr/>
          </p:nvSpPr>
          <p:spPr>
            <a:xfrm>
              <a:off x="357120" y="4321440"/>
              <a:ext cx="8644320" cy="68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57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공무원 정년연령</a:t>
              </a: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60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세로 통일</a:t>
              </a: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. 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단</a:t>
              </a: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경찰 및 소방공무원은 계급정년제 보완적 시행</a:t>
              </a: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교육공무원은 </a:t>
              </a: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62(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초중고교사</a:t>
              </a: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-65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세</a:t>
              </a: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대학교수</a:t>
              </a: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5" name="Text Box 25"/>
            <p:cNvSpPr/>
            <p:nvPr/>
          </p:nvSpPr>
          <p:spPr>
            <a:xfrm>
              <a:off x="357120" y="5594760"/>
              <a:ext cx="8606160" cy="68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57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근로자는 정년 연장 찬성</a:t>
              </a: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기업체는 반대</a:t>
              </a: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정부는 표면적으로 찬성하지만</a:t>
              </a: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청년실업 등의 사회분위기와 기업의 반대요구에 적극적 정년연장 요구 못하고 있음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6" name="그룹 18"/>
          <p:cNvGrpSpPr/>
          <p:nvPr/>
        </p:nvGrpSpPr>
        <p:grpSpPr>
          <a:xfrm>
            <a:off x="214200" y="142920"/>
            <a:ext cx="8858520" cy="6286320"/>
            <a:chOff x="214200" y="142920"/>
            <a:chExt cx="8858520" cy="6286320"/>
          </a:xfrm>
        </p:grpSpPr>
        <p:sp>
          <p:nvSpPr>
            <p:cNvPr id="587" name="AutoShape 2"/>
            <p:cNvSpPr/>
            <p:nvPr/>
          </p:nvSpPr>
          <p:spPr>
            <a:xfrm>
              <a:off x="252360" y="1214280"/>
              <a:ext cx="8748720" cy="15001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88" name="그룹 1"/>
            <p:cNvGrpSpPr/>
            <p:nvPr/>
          </p:nvGrpSpPr>
          <p:grpSpPr>
            <a:xfrm>
              <a:off x="214200" y="142920"/>
              <a:ext cx="8787240" cy="2493000"/>
              <a:chOff x="214200" y="142920"/>
              <a:chExt cx="8787240" cy="2493000"/>
            </a:xfrm>
          </p:grpSpPr>
          <p:sp>
            <p:nvSpPr>
              <p:cNvPr id="589" name="Text Box 25"/>
              <p:cNvSpPr/>
              <p:nvPr/>
            </p:nvSpPr>
            <p:spPr>
              <a:xfrm>
                <a:off x="356760" y="1276200"/>
                <a:ext cx="8644680" cy="13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평균 수명은 길어지는 반면 체감하는 은퇴연령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49.5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세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은 정년연령보다 낮은 기현상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삼팔선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오정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오륙도 등의 사회적 조로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社會的 早老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현상 비유 은어 등장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 algn="just"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조기퇴직 확산의 계기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경기불황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IMF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관리체제 이후 기업체의 구조조정 확대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기업이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얻는 조기퇴직의 이점 많고 특별한 단점 없음</a:t>
                </a:r>
                <a:r>
                  <a:rPr b="0" lang="en-US" sz="17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7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7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3-14 </a:t>
                </a:r>
                <a:r>
                  <a:rPr b="0" lang="ko-KR" sz="17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7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90" name="AutoShape 7"/>
              <p:cNvSpPr/>
              <p:nvPr/>
            </p:nvSpPr>
            <p:spPr>
              <a:xfrm>
                <a:off x="214200" y="142920"/>
                <a:ext cx="3857760" cy="500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600" spc="-1" strike="noStrike">
                    <a:solidFill>
                      <a:srgbClr val="ffffff"/>
                    </a:solidFill>
                    <a:latin typeface="HY강B"/>
                  </a:rPr>
                  <a:t>3) </a:t>
                </a:r>
                <a:r>
                  <a:rPr b="0" lang="ko-KR" sz="2600" spc="-1" strike="noStrike">
                    <a:solidFill>
                      <a:srgbClr val="ffffff"/>
                    </a:solidFill>
                    <a:latin typeface="HY강B"/>
                  </a:rPr>
                  <a:t>조기퇴직의 문제</a:t>
                </a:r>
                <a:endParaRPr b="0" lang="en-US" sz="2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91" name="AutoShape 29"/>
              <p:cNvSpPr/>
              <p:nvPr/>
            </p:nvSpPr>
            <p:spPr>
              <a:xfrm>
                <a:off x="214200" y="714240"/>
                <a:ext cx="8573040" cy="57132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909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HY강B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HY강B"/>
                  </a:rPr>
                  <a:t>조기퇴직의 현실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92" name="그룹 17"/>
            <p:cNvGrpSpPr/>
            <p:nvPr/>
          </p:nvGrpSpPr>
          <p:grpSpPr>
            <a:xfrm>
              <a:off x="214200" y="2714400"/>
              <a:ext cx="8858520" cy="3714840"/>
              <a:chOff x="214200" y="2714400"/>
              <a:chExt cx="8858520" cy="3714840"/>
            </a:xfrm>
          </p:grpSpPr>
          <p:sp>
            <p:nvSpPr>
              <p:cNvPr id="593" name="AutoShape 2"/>
              <p:cNvSpPr/>
              <p:nvPr/>
            </p:nvSpPr>
            <p:spPr>
              <a:xfrm>
                <a:off x="252360" y="3214440"/>
                <a:ext cx="8748720" cy="15001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94" name="AutoShape 2"/>
              <p:cNvSpPr/>
              <p:nvPr/>
            </p:nvSpPr>
            <p:spPr>
              <a:xfrm>
                <a:off x="252360" y="5286240"/>
                <a:ext cx="8748720" cy="11430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95" name="AutoShape 29"/>
              <p:cNvSpPr/>
              <p:nvPr/>
            </p:nvSpPr>
            <p:spPr>
              <a:xfrm>
                <a:off x="214200" y="2714400"/>
                <a:ext cx="8573040" cy="57132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909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HY강B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HY강B"/>
                  </a:rPr>
                  <a:t>조기퇴직으로 인한 문제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96" name="AutoShape 29"/>
              <p:cNvSpPr/>
              <p:nvPr/>
            </p:nvSpPr>
            <p:spPr>
              <a:xfrm>
                <a:off x="214200" y="4786200"/>
                <a:ext cx="8573040" cy="57132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909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HY강B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HY강B"/>
                  </a:rPr>
                  <a:t>조기퇴직자의 적응 지원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97" name="Text Box 25"/>
              <p:cNvSpPr/>
              <p:nvPr/>
            </p:nvSpPr>
            <p:spPr>
              <a:xfrm>
                <a:off x="356760" y="3273120"/>
                <a:ext cx="8715960" cy="13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조기퇴직자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경제적 애로와 중년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-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년까지의 긴 시간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제 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3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연령층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으로 재취업이 필수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적이나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개인 노력만으로는 재취업이 어려워 취업 포기자 또는 빈곤층으로 전락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족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경제적 애로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족갈등 또는 해체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국가 차원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인적자원 낭비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적 비용 증가를 초래하여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결국 기업 경쟁력 약화시킴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98" name="Text Box 25"/>
              <p:cNvSpPr/>
              <p:nvPr/>
            </p:nvSpPr>
            <p:spPr>
              <a:xfrm>
                <a:off x="356760" y="5327640"/>
                <a:ext cx="8430120" cy="102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근로자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조기퇴직을 제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, 3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의 직업전환기로 수용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재취업 노력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1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족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상호지지와 결속증진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부부간의 양성적 역할 공유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1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국가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생산적 고령화 시스템 구축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년연장정책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고령자 일자리 창출사업 추진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Picture 53" descr="그림1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287280"/>
          </a:xfrm>
          <a:prstGeom prst="rect">
            <a:avLst/>
          </a:prstGeom>
          <a:ln w="0">
            <a:noFill/>
          </a:ln>
        </p:spPr>
      </p:pic>
      <p:sp>
        <p:nvSpPr>
          <p:cNvPr id="399" name="Rectangle 42"/>
          <p:cNvSpPr/>
          <p:nvPr/>
        </p:nvSpPr>
        <p:spPr>
          <a:xfrm>
            <a:off x="6037200" y="6259680"/>
            <a:ext cx="165744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400" name="Group 6"/>
          <p:cNvGrpSpPr/>
          <p:nvPr/>
        </p:nvGrpSpPr>
        <p:grpSpPr>
          <a:xfrm>
            <a:off x="-2411280" y="1978200"/>
            <a:ext cx="4032000" cy="3776400"/>
            <a:chOff x="-2411280" y="1978200"/>
            <a:chExt cx="4032000" cy="3776400"/>
          </a:xfrm>
        </p:grpSpPr>
        <p:sp>
          <p:nvSpPr>
            <p:cNvPr id="401" name="AutoShape 7"/>
            <p:cNvSpPr/>
            <p:nvPr/>
          </p:nvSpPr>
          <p:spPr>
            <a:xfrm rot="5400000">
              <a:off x="-2283480" y="1850040"/>
              <a:ext cx="3776400" cy="4032000"/>
            </a:xfrm>
            <a:custGeom>
              <a:avLst/>
              <a:gdLst>
                <a:gd name="textAreaLeft" fmla="*/ 69840 w 3776400"/>
                <a:gd name="textAreaRight" fmla="*/ 3706560 w 3776400"/>
                <a:gd name="textAreaTop" fmla="*/ 0 h 4032000"/>
                <a:gd name="textAreaBottom" fmla="*/ 2544840 h 40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23" y="10641"/>
                  </a:moveTo>
                  <a:cubicBezTo>
                    <a:pt x="410" y="4916"/>
                    <a:pt x="5075" y="321"/>
                    <a:pt x="10800" y="322"/>
                  </a:cubicBezTo>
                  <a:cubicBezTo>
                    <a:pt x="16524" y="322"/>
                    <a:pt x="21189" y="4916"/>
                    <a:pt x="21276" y="10641"/>
                  </a:cubicBezTo>
                  <a:lnTo>
                    <a:pt x="21598" y="10636"/>
                  </a:lnTo>
                  <a:cubicBezTo>
                    <a:pt x="21509" y="4736"/>
                    <a:pt x="16700" y="-1"/>
                    <a:pt x="10799" y="0"/>
                  </a:cubicBezTo>
                  <a:cubicBezTo>
                    <a:pt x="4899" y="0"/>
                    <a:pt x="90" y="4736"/>
                    <a:pt x="1" y="10636"/>
                  </a:cubicBezTo>
                  <a:lnTo>
                    <a:pt x="323" y="1064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8">
                    <a:alpha val="84313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02" name="AutoShape 8"/>
            <p:cNvSpPr/>
            <p:nvPr/>
          </p:nvSpPr>
          <p:spPr>
            <a:xfrm rot="5400000">
              <a:off x="-1182240" y="3020760"/>
              <a:ext cx="2453040" cy="1717560"/>
            </a:xfrm>
            <a:custGeom>
              <a:avLst/>
              <a:gdLst>
                <a:gd name="textAreaLeft" fmla="*/ 0 w 2453040"/>
                <a:gd name="textAreaRight" fmla="*/ 2453400 w 2453040"/>
                <a:gd name="textAreaTop" fmla="*/ 0 h 1717560"/>
                <a:gd name="textAreaBottom" fmla="*/ 622080 h 171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56" y="10807"/>
                  </a:moveTo>
                  <a:cubicBezTo>
                    <a:pt x="10056" y="10805"/>
                    <a:pt x="10056" y="10802"/>
                    <a:pt x="10056" y="10800"/>
                  </a:cubicBezTo>
                  <a:cubicBezTo>
                    <a:pt x="10056" y="10389"/>
                    <a:pt x="10389" y="10056"/>
                    <a:pt x="10800" y="10056"/>
                  </a:cubicBezTo>
                  <a:cubicBezTo>
                    <a:pt x="11210" y="10056"/>
                    <a:pt x="11544" y="10389"/>
                    <a:pt x="11544" y="10800"/>
                  </a:cubicBezTo>
                  <a:cubicBezTo>
                    <a:pt x="11544" y="10802"/>
                    <a:pt x="11543" y="10805"/>
                    <a:pt x="11543" y="10807"/>
                  </a:cubicBezTo>
                  <a:lnTo>
                    <a:pt x="21599" y="10916"/>
                  </a:lnTo>
                  <a:cubicBezTo>
                    <a:pt x="21599" y="10877"/>
                    <a:pt x="21600" y="10838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-1" y="10838"/>
                    <a:pt x="0" y="10877"/>
                    <a:pt x="0" y="10916"/>
                  </a:cubicBezTo>
                  <a:lnTo>
                    <a:pt x="10056" y="10807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8">
                    <a:alpha val="76078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03" name="Line 9"/>
          <p:cNvSpPr/>
          <p:nvPr/>
        </p:nvSpPr>
        <p:spPr>
          <a:xfrm flipV="1">
            <a:off x="0" y="3428640"/>
            <a:ext cx="857160" cy="50004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4" name="Line 12"/>
          <p:cNvSpPr/>
          <p:nvPr/>
        </p:nvSpPr>
        <p:spPr>
          <a:xfrm>
            <a:off x="0" y="4071960"/>
            <a:ext cx="928800" cy="42876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5" name="Line 64"/>
          <p:cNvSpPr/>
          <p:nvPr/>
        </p:nvSpPr>
        <p:spPr>
          <a:xfrm>
            <a:off x="0" y="4143240"/>
            <a:ext cx="785880" cy="114300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6" name="Line 9"/>
          <p:cNvSpPr/>
          <p:nvPr/>
        </p:nvSpPr>
        <p:spPr>
          <a:xfrm flipV="1">
            <a:off x="0" y="2643120"/>
            <a:ext cx="857160" cy="120816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407" name="Group 44"/>
          <p:cNvGrpSpPr/>
          <p:nvPr/>
        </p:nvGrpSpPr>
        <p:grpSpPr>
          <a:xfrm>
            <a:off x="642960" y="2097000"/>
            <a:ext cx="8199360" cy="3543840"/>
            <a:chOff x="642960" y="2097000"/>
            <a:chExt cx="8199360" cy="3543840"/>
          </a:xfrm>
        </p:grpSpPr>
        <p:sp>
          <p:nvSpPr>
            <p:cNvPr id="408" name="AutoShape 4"/>
            <p:cNvSpPr/>
            <p:nvPr/>
          </p:nvSpPr>
          <p:spPr>
            <a:xfrm>
              <a:off x="1622520" y="2097000"/>
              <a:ext cx="7199280" cy="67068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770000"/>
                </a:gs>
                <a:gs pos="100000">
                  <a:srgbClr val="ce0000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700" spc="-1" strike="noStrike">
                  <a:solidFill>
                    <a:srgbClr val="ffffff"/>
                  </a:solidFill>
                  <a:latin typeface="HY강B"/>
                </a:rPr>
                <a:t>노년기의 소득 및 경제생활 실태 파악</a:t>
              </a:r>
              <a:endParaRPr b="0" lang="en-US" sz="27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09" name="Group 14"/>
            <p:cNvGrpSpPr/>
            <p:nvPr/>
          </p:nvGrpSpPr>
          <p:grpSpPr>
            <a:xfrm>
              <a:off x="642960" y="2116440"/>
              <a:ext cx="856800" cy="714600"/>
              <a:chOff x="642960" y="2116440"/>
              <a:chExt cx="856800" cy="714600"/>
            </a:xfrm>
          </p:grpSpPr>
          <p:sp>
            <p:nvSpPr>
              <p:cNvPr id="410" name="Oval 15"/>
              <p:cNvSpPr/>
              <p:nvPr/>
            </p:nvSpPr>
            <p:spPr>
              <a:xfrm>
                <a:off x="664200" y="211644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11" name="Oval 16"/>
              <p:cNvSpPr/>
              <p:nvPr/>
            </p:nvSpPr>
            <p:spPr>
              <a:xfrm>
                <a:off x="664200" y="211824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412" name="Picture 17" descr="알"/>
              <p:cNvPicPr/>
              <p:nvPr/>
            </p:nvPicPr>
            <p:blipFill>
              <a:blip r:embed="rId2"/>
              <a:stretch/>
            </p:blipFill>
            <p:spPr>
              <a:xfrm>
                <a:off x="713160" y="212040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3" name="Text Box 18"/>
              <p:cNvSpPr/>
              <p:nvPr/>
            </p:nvSpPr>
            <p:spPr>
              <a:xfrm>
                <a:off x="642960" y="2122560"/>
                <a:ext cx="856800" cy="6426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Ⅰ</a:t>
                </a:r>
                <a:endParaRPr b="0" lang="en-US" sz="3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14" name="Group 14"/>
            <p:cNvGrpSpPr/>
            <p:nvPr/>
          </p:nvGrpSpPr>
          <p:grpSpPr>
            <a:xfrm>
              <a:off x="642960" y="3053160"/>
              <a:ext cx="856800" cy="714600"/>
              <a:chOff x="642960" y="3053160"/>
              <a:chExt cx="856800" cy="714600"/>
            </a:xfrm>
          </p:grpSpPr>
          <p:sp>
            <p:nvSpPr>
              <p:cNvPr id="415" name="Oval 15"/>
              <p:cNvSpPr/>
              <p:nvPr/>
            </p:nvSpPr>
            <p:spPr>
              <a:xfrm>
                <a:off x="664200" y="305316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16" name="Oval 16"/>
              <p:cNvSpPr/>
              <p:nvPr/>
            </p:nvSpPr>
            <p:spPr>
              <a:xfrm>
                <a:off x="664200" y="305496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417" name="Picture 17" descr="알"/>
              <p:cNvPicPr/>
              <p:nvPr/>
            </p:nvPicPr>
            <p:blipFill>
              <a:blip r:embed="rId3"/>
              <a:stretch/>
            </p:blipFill>
            <p:spPr>
              <a:xfrm>
                <a:off x="713160" y="305712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8" name="Text Box 18"/>
              <p:cNvSpPr/>
              <p:nvPr/>
            </p:nvSpPr>
            <p:spPr>
              <a:xfrm>
                <a:off x="642960" y="3057120"/>
                <a:ext cx="856800" cy="6426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Ⅱ</a:t>
                </a:r>
                <a:endParaRPr b="0" lang="en-US" sz="3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19" name="Group 14"/>
            <p:cNvGrpSpPr/>
            <p:nvPr/>
          </p:nvGrpSpPr>
          <p:grpSpPr>
            <a:xfrm>
              <a:off x="642960" y="3991320"/>
              <a:ext cx="856800" cy="714600"/>
              <a:chOff x="642960" y="3991320"/>
              <a:chExt cx="856800" cy="714600"/>
            </a:xfrm>
          </p:grpSpPr>
          <p:sp>
            <p:nvSpPr>
              <p:cNvPr id="420" name="Oval 15"/>
              <p:cNvSpPr/>
              <p:nvPr/>
            </p:nvSpPr>
            <p:spPr>
              <a:xfrm>
                <a:off x="664200" y="399132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21" name="Oval 16"/>
              <p:cNvSpPr/>
              <p:nvPr/>
            </p:nvSpPr>
            <p:spPr>
              <a:xfrm>
                <a:off x="664200" y="399312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422" name="Picture 17" descr="알"/>
              <p:cNvPicPr/>
              <p:nvPr/>
            </p:nvPicPr>
            <p:blipFill>
              <a:blip r:embed="rId4"/>
              <a:stretch/>
            </p:blipFill>
            <p:spPr>
              <a:xfrm>
                <a:off x="713160" y="399528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3" name="Text Box 18"/>
              <p:cNvSpPr/>
              <p:nvPr/>
            </p:nvSpPr>
            <p:spPr>
              <a:xfrm>
                <a:off x="642960" y="3995280"/>
                <a:ext cx="856800" cy="6426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Ⅲ</a:t>
                </a:r>
                <a:endParaRPr b="0" lang="en-US" sz="3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24" name="Group 14"/>
            <p:cNvGrpSpPr/>
            <p:nvPr/>
          </p:nvGrpSpPr>
          <p:grpSpPr>
            <a:xfrm>
              <a:off x="642960" y="4924800"/>
              <a:ext cx="856800" cy="716040"/>
              <a:chOff x="642960" y="4924800"/>
              <a:chExt cx="856800" cy="716040"/>
            </a:xfrm>
          </p:grpSpPr>
          <p:sp>
            <p:nvSpPr>
              <p:cNvPr id="425" name="Oval 15"/>
              <p:cNvSpPr/>
              <p:nvPr/>
            </p:nvSpPr>
            <p:spPr>
              <a:xfrm>
                <a:off x="664200" y="492480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26" name="Oval 16"/>
              <p:cNvSpPr/>
              <p:nvPr/>
            </p:nvSpPr>
            <p:spPr>
              <a:xfrm>
                <a:off x="664200" y="4928760"/>
                <a:ext cx="777600" cy="71208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427" name="Picture 17" descr="알"/>
              <p:cNvPicPr/>
              <p:nvPr/>
            </p:nvPicPr>
            <p:blipFill>
              <a:blip r:embed="rId5"/>
              <a:stretch/>
            </p:blipFill>
            <p:spPr>
              <a:xfrm>
                <a:off x="713160" y="4930920"/>
                <a:ext cx="694440" cy="66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8" name="Text Box 18"/>
              <p:cNvSpPr/>
              <p:nvPr/>
            </p:nvSpPr>
            <p:spPr>
              <a:xfrm>
                <a:off x="642960" y="4930920"/>
                <a:ext cx="856800" cy="6426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Ⅳ</a:t>
                </a:r>
                <a:endParaRPr b="0" lang="en-US" sz="3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429" name="AutoShape 4"/>
            <p:cNvSpPr/>
            <p:nvPr/>
          </p:nvSpPr>
          <p:spPr>
            <a:xfrm>
              <a:off x="1643040" y="3033720"/>
              <a:ext cx="7199280" cy="67212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a07400"/>
                </a:gs>
                <a:gs pos="100000">
                  <a:srgbClr val="ffca00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700" spc="-1" strike="noStrike">
                  <a:solidFill>
                    <a:srgbClr val="ffffff"/>
                  </a:solidFill>
                  <a:latin typeface="HY강B"/>
                </a:rPr>
                <a:t>노년기 일의 의미와 경제활동 실태 파악</a:t>
              </a:r>
              <a:endParaRPr b="0" lang="en-US" sz="27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0" name="AutoShape 4"/>
            <p:cNvSpPr/>
            <p:nvPr/>
          </p:nvSpPr>
          <p:spPr>
            <a:xfrm>
              <a:off x="1622520" y="3970440"/>
              <a:ext cx="7199280" cy="67500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537e25"/>
                </a:gs>
                <a:gs pos="100000">
                  <a:srgbClr val="92da46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600" spc="-1" strike="noStrike">
                  <a:solidFill>
                    <a:srgbClr val="ffffff"/>
                  </a:solidFill>
                  <a:latin typeface="HY강B"/>
                </a:rPr>
                <a:t>은퇴의 과정과 적응에 대한 이해</a:t>
              </a:r>
              <a:endParaRPr b="0" lang="en-US" sz="2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1" name="AutoShape 4"/>
            <p:cNvSpPr/>
            <p:nvPr/>
          </p:nvSpPr>
          <p:spPr>
            <a:xfrm>
              <a:off x="1643040" y="4907520"/>
              <a:ext cx="7199280" cy="67608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46678b"/>
                </a:gs>
                <a:gs pos="100000">
                  <a:srgbClr val="7cb3ef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600" spc="-1" strike="noStrike">
                  <a:solidFill>
                    <a:srgbClr val="ffffff"/>
                  </a:solidFill>
                  <a:latin typeface="HY강B"/>
                </a:rPr>
                <a:t>퇴직제도의 현상과 문제점 이해</a:t>
              </a:r>
              <a:r>
                <a:rPr b="0" lang="en-US" sz="26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0" lang="ko-KR" sz="2600" spc="-1" strike="noStrike">
                  <a:solidFill>
                    <a:srgbClr val="ffffff"/>
                  </a:solidFill>
                  <a:latin typeface="HY강B"/>
                </a:rPr>
                <a:t>개선방안 모색</a:t>
              </a:r>
              <a:endParaRPr b="0" lang="en-US" sz="26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32" name="AutoShape 7"/>
          <p:cNvSpPr/>
          <p:nvPr/>
        </p:nvSpPr>
        <p:spPr>
          <a:xfrm>
            <a:off x="250920" y="1353960"/>
            <a:ext cx="1606320" cy="432000"/>
          </a:xfrm>
          <a:prstGeom prst="roundRect">
            <a:avLst>
              <a:gd name="adj" fmla="val 49106"/>
            </a:avLst>
          </a:prstGeom>
          <a:gradFill rotWithShape="0">
            <a:gsLst>
              <a:gs pos="0">
                <a:srgbClr val="9e3483"/>
              </a:gs>
              <a:gs pos="50000">
                <a:srgbClr val="ef4fc5"/>
              </a:gs>
              <a:gs pos="100000">
                <a:srgbClr val="9e3483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cacac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ffff"/>
                </a:solidFill>
                <a:latin typeface="HY강B"/>
              </a:rPr>
              <a:t>학습목표</a:t>
            </a:r>
            <a:endParaRPr b="0" lang="en-US" sz="2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ffffff"/>
                </a:solidFill>
                <a:latin typeface="HY강B"/>
                <a:ea typeface="HY강B"/>
              </a:rPr>
              <a:t>제 </a:t>
            </a:r>
            <a:r>
              <a:rPr b="1" lang="en-US" sz="3800" spc="-1" strike="noStrike">
                <a:solidFill>
                  <a:srgbClr val="ffffff"/>
                </a:solidFill>
                <a:latin typeface="HY강B"/>
                <a:ea typeface="HY강B"/>
              </a:rPr>
              <a:t>3 </a:t>
            </a:r>
            <a:r>
              <a:rPr b="1" lang="ko-KR" sz="3800" spc="-1" strike="noStrike">
                <a:solidFill>
                  <a:srgbClr val="ffffff"/>
                </a:solidFill>
                <a:latin typeface="HY강B"/>
                <a:ea typeface="HY강B"/>
              </a:rPr>
              <a:t>장 노년기의 경제생활</a:t>
            </a:r>
            <a:endParaRPr b="0" lang="en-US" sz="3800" spc="-1" strike="noStrike">
              <a:solidFill>
                <a:srgbClr val="ffffff"/>
              </a:solidFill>
              <a:latin typeface="HY견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9" name="그룹 15"/>
          <p:cNvGrpSpPr/>
          <p:nvPr/>
        </p:nvGrpSpPr>
        <p:grpSpPr>
          <a:xfrm>
            <a:off x="0" y="5757840"/>
            <a:ext cx="7572240" cy="898560"/>
            <a:chOff x="0" y="5757840"/>
            <a:chExt cx="7572240" cy="898560"/>
          </a:xfrm>
        </p:grpSpPr>
        <p:pic>
          <p:nvPicPr>
            <p:cNvPr id="600" name="Picture 4" descr="C:\DOCUME~1\USER\LOCALS~1\Temp\UNI000006c8818c.gif"/>
            <p:cNvPicPr/>
            <p:nvPr/>
          </p:nvPicPr>
          <p:blipFill>
            <a:blip r:embed="rId1"/>
            <a:stretch/>
          </p:blipFill>
          <p:spPr>
            <a:xfrm>
              <a:off x="0" y="5757840"/>
              <a:ext cx="1000080" cy="89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1" name="Rectangle 4"/>
            <p:cNvSpPr/>
            <p:nvPr/>
          </p:nvSpPr>
          <p:spPr>
            <a:xfrm>
              <a:off x="857160" y="6084720"/>
              <a:ext cx="671508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300" spc="-1" strike="noStrike">
                  <a:solidFill>
                    <a:srgbClr val="827305"/>
                  </a:solidFill>
                  <a:latin typeface="맑은 고딕"/>
                  <a:ea typeface="맑은 고딕"/>
                </a:rPr>
                <a:t>다음 주 강의주제</a:t>
              </a:r>
              <a:r>
                <a:rPr b="0" lang="en-US" sz="2300" spc="-1" strike="noStrike">
                  <a:solidFill>
                    <a:srgbClr val="827305"/>
                  </a:solidFill>
                  <a:latin typeface="맑은 고딕"/>
                  <a:ea typeface="맑은 고딕"/>
                </a:rPr>
                <a:t>: </a:t>
              </a:r>
              <a:r>
                <a:rPr b="1" lang="ko-KR" sz="2300" spc="-1" strike="noStrike">
                  <a:solidFill>
                    <a:srgbClr val="827305"/>
                  </a:solidFill>
                  <a:latin typeface="맑은 고딕"/>
                  <a:ea typeface="맑은 고딕"/>
                </a:rPr>
                <a:t>노년기의 건강과 케어</a:t>
              </a:r>
              <a:endParaRPr b="0" lang="en-US" sz="23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602" name="그룹 13"/>
          <p:cNvGrpSpPr/>
          <p:nvPr/>
        </p:nvGrpSpPr>
        <p:grpSpPr>
          <a:xfrm>
            <a:off x="285840" y="63360"/>
            <a:ext cx="8715240" cy="5722920"/>
            <a:chOff x="285840" y="63360"/>
            <a:chExt cx="8715240" cy="5722920"/>
          </a:xfrm>
        </p:grpSpPr>
        <p:sp>
          <p:nvSpPr>
            <p:cNvPr id="603" name="AutoShape 2"/>
            <p:cNvSpPr/>
            <p:nvPr/>
          </p:nvSpPr>
          <p:spPr>
            <a:xfrm>
              <a:off x="285840" y="2500200"/>
              <a:ext cx="8715240" cy="32860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04" name="AutoShape 2"/>
            <p:cNvSpPr/>
            <p:nvPr/>
          </p:nvSpPr>
          <p:spPr>
            <a:xfrm>
              <a:off x="285840" y="348840"/>
              <a:ext cx="8715240" cy="17143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605" name="그룹 10"/>
            <p:cNvGrpSpPr/>
            <p:nvPr/>
          </p:nvGrpSpPr>
          <p:grpSpPr>
            <a:xfrm>
              <a:off x="357120" y="63360"/>
              <a:ext cx="8643960" cy="1995840"/>
              <a:chOff x="357120" y="63360"/>
              <a:chExt cx="8643960" cy="1995840"/>
            </a:xfrm>
          </p:grpSpPr>
          <p:sp>
            <p:nvSpPr>
              <p:cNvPr id="606" name="AutoShape 4"/>
              <p:cNvSpPr/>
              <p:nvPr/>
            </p:nvSpPr>
            <p:spPr>
              <a:xfrm>
                <a:off x="357120" y="63360"/>
                <a:ext cx="3959280" cy="4683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</a:rPr>
                  <a:t>4) 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</a:rPr>
                  <a:t>퇴직제도의 문제점</a:t>
                </a: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</a:rPr>
                  <a:t> 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07" name="Text Box 6"/>
              <p:cNvSpPr/>
              <p:nvPr/>
            </p:nvSpPr>
            <p:spPr>
              <a:xfrm>
                <a:off x="357120" y="563400"/>
                <a:ext cx="8643960" cy="1495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년연령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60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대 초반 사회적 노인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동력 부족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생산성 저하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복지비용 증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퇴직 이후 소득보장에 대한 고려 없음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경제생활 애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연금재정 부담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차별적 정년연령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여성 노동권과 생존권 위협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차등정년 기준 모호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퇴직후 재고용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재취업 장치 미흡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608" name="그룹 10"/>
            <p:cNvGrpSpPr/>
            <p:nvPr/>
          </p:nvGrpSpPr>
          <p:grpSpPr>
            <a:xfrm>
              <a:off x="357120" y="2143080"/>
              <a:ext cx="8643960" cy="3570480"/>
              <a:chOff x="357120" y="2143080"/>
              <a:chExt cx="8643960" cy="3570480"/>
            </a:xfrm>
          </p:grpSpPr>
          <p:sp>
            <p:nvSpPr>
              <p:cNvPr id="609" name="Text Box 6"/>
              <p:cNvSpPr/>
              <p:nvPr/>
            </p:nvSpPr>
            <p:spPr>
              <a:xfrm>
                <a:off x="357120" y="2714400"/>
                <a:ext cx="8643960" cy="2999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정년연령 연장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고령자고용촉진법에 의해 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60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세 이상으로 상향 조정되었으나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장기적으로 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65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세로 상향 또는 정년제 폐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직종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직급 및 성별 차등제도 개선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타당한 기준 마련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임금구조 개선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부분 정년제 도입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임금피크제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정년연장형 임금피크제 지원금제도 강화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퇴직 후 재고용제도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반일근무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격일근무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주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4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일 근무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-3&amp;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＋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3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제도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재고용지원금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고령자 평생직업능력 개발 촉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1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은퇴준비교육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한국전력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중앙공무원교육원 등에서 퇴직 전 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1-2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년 장단기교육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1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기타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은퇴자 가족공동체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퇴직자 가족생활 적응지원 프로그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10" name="AutoShape 4"/>
              <p:cNvSpPr/>
              <p:nvPr/>
            </p:nvSpPr>
            <p:spPr>
              <a:xfrm>
                <a:off x="357120" y="2143080"/>
                <a:ext cx="3959280" cy="4665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</a:rPr>
                  <a:t>5) 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</a:rPr>
                  <a:t>퇴직제도의 개선방안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4" name="그룹 10"/>
          <p:cNvGrpSpPr/>
          <p:nvPr/>
        </p:nvGrpSpPr>
        <p:grpSpPr>
          <a:xfrm>
            <a:off x="0" y="0"/>
            <a:ext cx="9144000" cy="6427440"/>
            <a:chOff x="0" y="0"/>
            <a:chExt cx="9144000" cy="6427440"/>
          </a:xfrm>
        </p:grpSpPr>
        <p:sp>
          <p:nvSpPr>
            <p:cNvPr id="435" name="AutoShape 2"/>
            <p:cNvSpPr/>
            <p:nvPr/>
          </p:nvSpPr>
          <p:spPr>
            <a:xfrm>
              <a:off x="180720" y="1285200"/>
              <a:ext cx="8820360" cy="9280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6" name="AutoShape 2"/>
            <p:cNvSpPr/>
            <p:nvPr/>
          </p:nvSpPr>
          <p:spPr>
            <a:xfrm>
              <a:off x="180720" y="2999520"/>
              <a:ext cx="8820360" cy="34279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437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99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8" name="Rectangle 2"/>
            <p:cNvSpPr/>
            <p:nvPr/>
          </p:nvSpPr>
          <p:spPr>
            <a:xfrm>
              <a:off x="1428480" y="142560"/>
              <a:ext cx="6858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ffffff"/>
                  </a:solidFill>
                  <a:latin typeface="HY강B"/>
                </a:rPr>
                <a:t>1.</a:t>
              </a:r>
              <a:r>
                <a:rPr b="1" lang="ko-KR" sz="31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100" spc="-1" strike="noStrike">
                  <a:solidFill>
                    <a:srgbClr val="ffffff"/>
                  </a:solidFill>
                  <a:latin typeface="HY강B"/>
                </a:rPr>
                <a:t>노년기의 소득과 지출</a:t>
              </a:r>
              <a:endParaRPr b="0" lang="en-US" sz="31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39" name="그룹 10"/>
            <p:cNvGrpSpPr/>
            <p:nvPr/>
          </p:nvGrpSpPr>
          <p:grpSpPr>
            <a:xfrm>
              <a:off x="142560" y="856800"/>
              <a:ext cx="8715600" cy="1269360"/>
              <a:chOff x="142560" y="856800"/>
              <a:chExt cx="8715600" cy="1269360"/>
            </a:xfrm>
          </p:grpSpPr>
          <p:sp>
            <p:nvSpPr>
              <p:cNvPr id="440" name="AutoShape 29"/>
              <p:cNvSpPr/>
              <p:nvPr/>
            </p:nvSpPr>
            <p:spPr>
              <a:xfrm>
                <a:off x="142560" y="856800"/>
                <a:ext cx="8573040" cy="42840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909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af334e"/>
                    </a:solidFill>
                    <a:latin typeface="HY강B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HY강B"/>
                  </a:rPr>
                  <a:t>노년기 안정적 소득 확보의 중요성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41" name="Text Box 25"/>
              <p:cNvSpPr/>
              <p:nvPr/>
            </p:nvSpPr>
            <p:spPr>
              <a:xfrm>
                <a:off x="213840" y="1356480"/>
                <a:ext cx="8644320" cy="76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퇴직으로 인한 근로소득의 급감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개인의 노후소득 준비 미흡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소득보장제도의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미성숙으로 경제적 어려움 증가→ 생계와 노후생활 적응문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442" name="Text Box 25"/>
            <p:cNvSpPr/>
            <p:nvPr/>
          </p:nvSpPr>
          <p:spPr>
            <a:xfrm>
              <a:off x="285480" y="3029040"/>
              <a:ext cx="8643960" cy="33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57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노동능력</a:t>
              </a: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소비와 저축패턴</a:t>
              </a: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가족특성에 따라 경제사정 다름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57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생활주기에 따른 소득과 지출 변화 추이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11345a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소득</a:t>
              </a:r>
              <a:r>
                <a:rPr b="0" lang="en-US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: 40</a:t>
              </a:r>
              <a:r>
                <a:rPr b="0" lang="ko-KR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대 후반</a:t>
              </a:r>
              <a:r>
                <a:rPr b="0" lang="en-US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-50</a:t>
              </a:r>
              <a:r>
                <a:rPr b="0" lang="ko-KR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대 초반에 최고 수준</a:t>
              </a:r>
              <a:r>
                <a:rPr b="0" lang="en-US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노년기에는 건강문제</a:t>
              </a:r>
              <a:r>
                <a:rPr b="0" lang="en-US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재취업 기회 제한</a:t>
              </a:r>
              <a:r>
                <a:rPr b="0" lang="en-US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으로 소득 감소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11345a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지출</a:t>
              </a:r>
              <a:r>
                <a:rPr b="0" lang="en-US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: 55</a:t>
              </a:r>
              <a:r>
                <a:rPr b="0" lang="ko-KR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세 이후에도 자녀결혼 등으로 인한 가계지출은 이전과 유사하거나 오히려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증가하며</a:t>
              </a:r>
              <a:r>
                <a:rPr b="0" lang="en-US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, 65</a:t>
              </a:r>
              <a:r>
                <a:rPr b="0" lang="ko-KR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세 이후에는 의료비 증가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11345a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고용노동부 조사</a:t>
              </a:r>
              <a:r>
                <a:rPr b="0" lang="en-US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: 40</a:t>
              </a:r>
              <a:r>
                <a:rPr b="0" lang="ko-KR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대에 임금소득 최고 수준</a:t>
              </a:r>
              <a:r>
                <a:rPr b="0" lang="en-US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, 50</a:t>
              </a:r>
              <a:r>
                <a:rPr b="0" lang="ko-KR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대부터 감소 시작하여 </a:t>
              </a:r>
              <a:r>
                <a:rPr b="0" lang="en-US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60</a:t>
              </a:r>
              <a:r>
                <a:rPr b="0" lang="ko-KR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대 이후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에는 </a:t>
              </a:r>
              <a:r>
                <a:rPr b="0" lang="en-US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20</a:t>
              </a:r>
              <a:r>
                <a:rPr b="0" lang="ko-KR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대 임금소득 수준으로 회귀하는 경향 보임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57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노년기에는 소득 격감하나</a:t>
              </a: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기본생계비 지출 유지 및 의료비 증가로 인해 적자 가계</a:t>
              </a: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가족이나 사회에 대한 경제적 의존 가능성 높아짐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(</a:t>
              </a: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그림 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3-1 </a:t>
              </a: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참조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)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3" name="AutoShape 7"/>
            <p:cNvSpPr/>
            <p:nvPr/>
          </p:nvSpPr>
          <p:spPr>
            <a:xfrm>
              <a:off x="214200" y="2428920"/>
              <a:ext cx="4000320" cy="428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ffffff"/>
                  </a:solidFill>
                  <a:latin typeface="HY강B"/>
                </a:rPr>
                <a:t>1) </a:t>
              </a:r>
              <a:r>
                <a:rPr b="0" lang="ko-KR" sz="2300" spc="-1" strike="noStrike">
                  <a:solidFill>
                    <a:srgbClr val="ffffff"/>
                  </a:solidFill>
                  <a:latin typeface="HY강B"/>
                </a:rPr>
                <a:t>노년기 경제생활 변화</a:t>
              </a:r>
              <a:endParaRPr b="0" lang="en-US" sz="23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Group 13"/>
          <p:cNvGrpSpPr/>
          <p:nvPr/>
        </p:nvGrpSpPr>
        <p:grpSpPr>
          <a:xfrm>
            <a:off x="142920" y="71280"/>
            <a:ext cx="8896320" cy="6429600"/>
            <a:chOff x="142920" y="71280"/>
            <a:chExt cx="8896320" cy="6429600"/>
          </a:xfrm>
        </p:grpSpPr>
        <p:sp>
          <p:nvSpPr>
            <p:cNvPr id="445" name="AutoShape 2"/>
            <p:cNvSpPr/>
            <p:nvPr/>
          </p:nvSpPr>
          <p:spPr>
            <a:xfrm>
              <a:off x="181080" y="3643200"/>
              <a:ext cx="8820000" cy="28576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6" name="AutoShape 2"/>
            <p:cNvSpPr/>
            <p:nvPr/>
          </p:nvSpPr>
          <p:spPr>
            <a:xfrm>
              <a:off x="181080" y="1071720"/>
              <a:ext cx="8820000" cy="21430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47" name="그룹 10"/>
            <p:cNvGrpSpPr/>
            <p:nvPr/>
          </p:nvGrpSpPr>
          <p:grpSpPr>
            <a:xfrm>
              <a:off x="142920" y="642960"/>
              <a:ext cx="8896320" cy="2549880"/>
              <a:chOff x="142920" y="642960"/>
              <a:chExt cx="8896320" cy="2549880"/>
            </a:xfrm>
          </p:grpSpPr>
          <p:sp>
            <p:nvSpPr>
              <p:cNvPr id="448" name="AutoShape 29"/>
              <p:cNvSpPr/>
              <p:nvPr/>
            </p:nvSpPr>
            <p:spPr>
              <a:xfrm>
                <a:off x="142920" y="642960"/>
                <a:ext cx="8572680" cy="42840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79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af334e"/>
                    </a:solidFill>
                    <a:latin typeface="HY강B"/>
                  </a:rPr>
                  <a:t> 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B"/>
                  </a:rPr>
                  <a:t>노후 소득보장에 대한 태도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49" name="Text Box 25"/>
              <p:cNvSpPr/>
              <p:nvPr/>
            </p:nvSpPr>
            <p:spPr>
              <a:xfrm>
                <a:off x="285480" y="1071360"/>
                <a:ext cx="8753760" cy="2121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녀가 노부모 부양 책임을 지는 전통적 의식이 약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족의 부양책임 의식은 낮아지고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 스스로 노후소득보장을 준비해야 한다는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의식과 가족과 사회가 공동으로 책임져야 한다는 의식이 높아짐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3-1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국민연금 급여의 본격화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년기의 경제활동 참여 의식이 강화됨에 따라 노인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신과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국가와 사회가 노후소득보장의 책임을 져야 한다는 의식은 지속적으로  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증가할 것으로 예측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50" name="그룹 10"/>
            <p:cNvGrpSpPr/>
            <p:nvPr/>
          </p:nvGrpSpPr>
          <p:grpSpPr>
            <a:xfrm>
              <a:off x="142920" y="3214800"/>
              <a:ext cx="8786880" cy="3262320"/>
              <a:chOff x="142920" y="3214800"/>
              <a:chExt cx="8786880" cy="3262320"/>
            </a:xfrm>
          </p:grpSpPr>
          <p:sp>
            <p:nvSpPr>
              <p:cNvPr id="451" name="AutoShape 29"/>
              <p:cNvSpPr/>
              <p:nvPr/>
            </p:nvSpPr>
            <p:spPr>
              <a:xfrm>
                <a:off x="142920" y="3214800"/>
                <a:ext cx="8572680" cy="50004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79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af334e"/>
                    </a:solidFill>
                    <a:latin typeface="HY강B"/>
                  </a:rPr>
                  <a:t> 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B"/>
                  </a:rPr>
                  <a:t>노후 소득보장 준비 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52" name="Text Box 25"/>
              <p:cNvSpPr/>
              <p:nvPr/>
            </p:nvSpPr>
            <p:spPr>
              <a:xfrm>
                <a:off x="285480" y="3654360"/>
                <a:ext cx="8644320" cy="282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민간금융기관은 노후생활자금을 과다 추정하는 경향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국민연금연구원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65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세 노부부의 최소생활비는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4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억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6,800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만원 정도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3-2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후자금 준비를 못하고 있는 경우가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35%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도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3-3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특히 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65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세 이상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서비스판매직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무직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저소득층의 노후준비 정도가 미흡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후준비 부족의 원인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청년기의 사회진출 시기 지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결혼과 주택마련 비용의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상승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교육비 및 조세 부담 증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1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후준비 인식은 증가하나 실제 준비는 부족하여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국가와 사회의 부담 가중될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것으로 예측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453" name="AutoShape 7"/>
            <p:cNvSpPr/>
            <p:nvPr/>
          </p:nvSpPr>
          <p:spPr>
            <a:xfrm>
              <a:off x="214200" y="71280"/>
              <a:ext cx="6286680" cy="500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3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0" lang="en-US" sz="2300" spc="-1" strike="noStrike">
                  <a:solidFill>
                    <a:srgbClr val="ffffff"/>
                  </a:solidFill>
                  <a:latin typeface="HY강B"/>
                </a:rPr>
                <a:t>2) </a:t>
              </a:r>
              <a:r>
                <a:rPr b="0" lang="ko-KR" sz="2300" spc="-1" strike="noStrike">
                  <a:solidFill>
                    <a:srgbClr val="ffffff"/>
                  </a:solidFill>
                  <a:latin typeface="HY강B"/>
                </a:rPr>
                <a:t>노후 경제생활 보장에 대한 태도와 준비</a:t>
              </a:r>
              <a:endParaRPr b="0" lang="en-US" sz="23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4" name="그룹 10"/>
          <p:cNvGrpSpPr/>
          <p:nvPr/>
        </p:nvGrpSpPr>
        <p:grpSpPr>
          <a:xfrm>
            <a:off x="0" y="71280"/>
            <a:ext cx="9109080" cy="6000840"/>
            <a:chOff x="0" y="71280"/>
            <a:chExt cx="9109080" cy="6000840"/>
          </a:xfrm>
        </p:grpSpPr>
        <p:sp>
          <p:nvSpPr>
            <p:cNvPr id="455" name="AutoShape 2"/>
            <p:cNvSpPr/>
            <p:nvPr/>
          </p:nvSpPr>
          <p:spPr>
            <a:xfrm>
              <a:off x="142560" y="4500720"/>
              <a:ext cx="8858160" cy="15714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6" name="AutoShape 2"/>
            <p:cNvSpPr/>
            <p:nvPr/>
          </p:nvSpPr>
          <p:spPr>
            <a:xfrm>
              <a:off x="142560" y="1214280"/>
              <a:ext cx="8858160" cy="27147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7" name="AutoShape 29"/>
            <p:cNvSpPr/>
            <p:nvPr/>
          </p:nvSpPr>
          <p:spPr>
            <a:xfrm>
              <a:off x="142560" y="714240"/>
              <a:ext cx="8572680" cy="487080"/>
            </a:xfrm>
            <a:prstGeom prst="roundRect">
              <a:avLst>
                <a:gd name="adj" fmla="val 1374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SzPct val="102884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af334e"/>
                  </a:solidFill>
                  <a:latin typeface="HY강B"/>
                </a:rPr>
                <a:t>  </a:t>
              </a:r>
              <a:r>
                <a:rPr b="0" lang="ko-KR" sz="2400" spc="-1" strike="noStrike">
                  <a:solidFill>
                    <a:srgbClr val="af334e"/>
                  </a:solidFill>
                  <a:latin typeface="HY강B"/>
                </a:rPr>
                <a:t>소득원과 소득액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8" name="Text Box 25"/>
            <p:cNvSpPr/>
            <p:nvPr/>
          </p:nvSpPr>
          <p:spPr>
            <a:xfrm>
              <a:off x="179280" y="1214280"/>
              <a:ext cx="8929800" cy="261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spcBef>
                  <a:spcPts val="601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노년기 소득원의 유형 분류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근로사업소득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재산소득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적 이전소득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공적 이전소득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spcBef>
                  <a:spcPts val="601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노년기의 소득원별 소득비중 변화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적이전소득은 감소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재산소득은 비중 증가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표 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3-4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참조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)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일반적인 장년기 이후 소득변화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14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적이전소득 증가</a:t>
              </a:r>
              <a:r>
                <a:rPr b="0" lang="en-US" sz="14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4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재산소득 감소</a:t>
              </a:r>
              <a:r>
                <a:rPr b="0" lang="en-US" sz="14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와 다름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spcBef>
                  <a:spcPts val="601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소득원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공적 및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적 이전소득원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87-95%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근로소득원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44%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재산소득원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35%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정도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spcBef>
                  <a:spcPts val="601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가구 및 개인소득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연 가구소득은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3,0269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만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연 개인수입은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1,557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만원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표 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3-5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참조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),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개인차가 크고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여성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고령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농촌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교육수준 낮은 노인의 소득이 낮음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59" name="그룹 10"/>
            <p:cNvGrpSpPr/>
            <p:nvPr/>
          </p:nvGrpSpPr>
          <p:grpSpPr>
            <a:xfrm>
              <a:off x="0" y="4000320"/>
              <a:ext cx="9072720" cy="2036880"/>
              <a:chOff x="0" y="4000320"/>
              <a:chExt cx="9072720" cy="2036880"/>
            </a:xfrm>
          </p:grpSpPr>
          <p:sp>
            <p:nvSpPr>
              <p:cNvPr id="460" name="AutoShape 29"/>
              <p:cNvSpPr/>
              <p:nvPr/>
            </p:nvSpPr>
            <p:spPr>
              <a:xfrm>
                <a:off x="0" y="4000320"/>
                <a:ext cx="8572680" cy="43956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884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af334e"/>
                    </a:solidFill>
                    <a:latin typeface="HY강B"/>
                  </a:rPr>
                  <a:t>  </a:t>
                </a:r>
                <a:r>
                  <a:rPr b="0" lang="ko-KR" sz="2400" spc="-1" strike="noStrike">
                    <a:solidFill>
                      <a:srgbClr val="af334e"/>
                    </a:solidFill>
                    <a:latin typeface="HY강B"/>
                  </a:rPr>
                  <a:t>자산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61" name="Text Box 25"/>
              <p:cNvSpPr/>
              <p:nvPr/>
            </p:nvSpPr>
            <p:spPr>
              <a:xfrm>
                <a:off x="214200" y="4571640"/>
                <a:ext cx="8858520" cy="146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의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97%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는 부동산자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78%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는 금융자산을 소유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총 자산규모는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3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억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515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만원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산의 대부분이 부동산 자산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3-6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1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부채가 있는 경우는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7%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부채액은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1,893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만원으로 순자산액은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억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8,623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만원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462" name="AutoShape 7"/>
            <p:cNvSpPr/>
            <p:nvPr/>
          </p:nvSpPr>
          <p:spPr>
            <a:xfrm>
              <a:off x="214200" y="71280"/>
              <a:ext cx="492912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ff"/>
                  </a:solidFill>
                  <a:latin typeface="HY강B"/>
                </a:rPr>
                <a:t>3) </a:t>
              </a:r>
              <a:r>
                <a:rPr b="0" lang="ko-KR" sz="2600" spc="-1" strike="noStrike">
                  <a:solidFill>
                    <a:srgbClr val="ffffff"/>
                  </a:solidFill>
                  <a:latin typeface="HY강B"/>
                </a:rPr>
                <a:t>노년기의 소득과 자산</a:t>
              </a:r>
              <a:endParaRPr b="0" lang="en-US" sz="26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3" name="그룹 14"/>
          <p:cNvGrpSpPr/>
          <p:nvPr/>
        </p:nvGrpSpPr>
        <p:grpSpPr>
          <a:xfrm>
            <a:off x="142920" y="71280"/>
            <a:ext cx="8858160" cy="6143760"/>
            <a:chOff x="142920" y="71280"/>
            <a:chExt cx="8858160" cy="6143760"/>
          </a:xfrm>
        </p:grpSpPr>
        <p:sp>
          <p:nvSpPr>
            <p:cNvPr id="464" name="AutoShape 2"/>
            <p:cNvSpPr/>
            <p:nvPr/>
          </p:nvSpPr>
          <p:spPr>
            <a:xfrm>
              <a:off x="142920" y="4429080"/>
              <a:ext cx="8858160" cy="17859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65" name="그룹 13"/>
            <p:cNvGrpSpPr/>
            <p:nvPr/>
          </p:nvGrpSpPr>
          <p:grpSpPr>
            <a:xfrm>
              <a:off x="142920" y="785520"/>
              <a:ext cx="8858160" cy="5421600"/>
              <a:chOff x="142920" y="785520"/>
              <a:chExt cx="8858160" cy="5421600"/>
            </a:xfrm>
          </p:grpSpPr>
          <p:sp>
            <p:nvSpPr>
              <p:cNvPr id="466" name="AutoShape 2"/>
              <p:cNvSpPr/>
              <p:nvPr/>
            </p:nvSpPr>
            <p:spPr>
              <a:xfrm>
                <a:off x="142920" y="1213920"/>
                <a:ext cx="8858160" cy="26434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467" name="그룹 12"/>
              <p:cNvGrpSpPr/>
              <p:nvPr/>
            </p:nvGrpSpPr>
            <p:grpSpPr>
              <a:xfrm>
                <a:off x="142920" y="785520"/>
                <a:ext cx="8715600" cy="3085200"/>
                <a:chOff x="142920" y="785520"/>
                <a:chExt cx="8715600" cy="3085200"/>
              </a:xfrm>
            </p:grpSpPr>
            <p:sp>
              <p:nvSpPr>
                <p:cNvPr id="468" name="AutoShape 29"/>
                <p:cNvSpPr/>
                <p:nvPr/>
              </p:nvSpPr>
              <p:spPr>
                <a:xfrm>
                  <a:off x="142920" y="785520"/>
                  <a:ext cx="8573040" cy="428760"/>
                </a:xfrm>
                <a:prstGeom prst="roundRect">
                  <a:avLst>
                    <a:gd name="adj" fmla="val 13745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buSzPct val="102884"/>
                    <a:buBlip>
                      <a:blip r:embed="rId1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400" spc="-1" strike="noStrike">
                      <a:solidFill>
                        <a:srgbClr val="af334e"/>
                      </a:solidFill>
                      <a:latin typeface="HY강B"/>
                    </a:rPr>
                    <a:t>  </a:t>
                  </a:r>
                  <a:r>
                    <a:rPr b="0" lang="ko-KR" sz="2400" spc="-1" strike="noStrike">
                      <a:solidFill>
                        <a:srgbClr val="af334e"/>
                      </a:solidFill>
                      <a:latin typeface="HY강B"/>
                    </a:rPr>
                    <a:t>노인가구의 생계수단 및 지출</a:t>
                  </a:r>
                  <a:r>
                    <a:rPr b="0" lang="en-US" sz="2400" spc="-1" strike="noStrike">
                      <a:solidFill>
                        <a:srgbClr val="af334e"/>
                      </a:solidFill>
                      <a:latin typeface="HY강B"/>
                    </a:rPr>
                    <a:t>, </a:t>
                  </a:r>
                  <a:r>
                    <a:rPr b="0" lang="ko-KR" sz="2400" spc="-1" strike="noStrike">
                      <a:solidFill>
                        <a:srgbClr val="af334e"/>
                      </a:solidFill>
                      <a:latin typeface="HY강B"/>
                    </a:rPr>
                    <a:t>생활비</a:t>
                  </a:r>
                  <a:endParaRPr b="0" lang="en-US" sz="24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69" name="Text Box 25"/>
                <p:cNvSpPr/>
                <p:nvPr/>
              </p:nvSpPr>
              <p:spPr>
                <a:xfrm>
                  <a:off x="285480" y="1261800"/>
                  <a:ext cx="8573040" cy="2608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792"/>
                    <a:buBlip>
                      <a:blip r:embed="rId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생활비 마련방법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본인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·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배우자 수입 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70%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자녀와 친척 보조 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18%, 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정부와 사회단체 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12%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정도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(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표 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3-7 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참조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)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792"/>
                    <a:buBlip>
                      <a:blip r:embed="rId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남성노인은 본인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/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배우자 수입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여성노인은 자녀보조의 비중이 높음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792"/>
                    <a:buBlip>
                      <a:blip r:embed="rId4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연령이 낮을수록 본인 수입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높을수록 자녀 등의 보조 비중 높음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792"/>
                    <a:buBlip>
                      <a:blip r:embed="rId5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노인가구의 월소비지출액은 월 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147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만 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5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천원으로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전체가구의 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67%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수준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식료품비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주거비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의료비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교통비 비중이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상대적으로 높음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(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표 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3-8 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참조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)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0" name="그룹 10"/>
              <p:cNvGrpSpPr/>
              <p:nvPr/>
            </p:nvGrpSpPr>
            <p:grpSpPr>
              <a:xfrm>
                <a:off x="142920" y="3928680"/>
                <a:ext cx="8715600" cy="2278440"/>
                <a:chOff x="142920" y="3928680"/>
                <a:chExt cx="8715600" cy="2278440"/>
              </a:xfrm>
            </p:grpSpPr>
            <p:sp>
              <p:nvSpPr>
                <p:cNvPr id="471" name="AutoShape 29"/>
                <p:cNvSpPr/>
                <p:nvPr/>
              </p:nvSpPr>
              <p:spPr>
                <a:xfrm>
                  <a:off x="142920" y="3928680"/>
                  <a:ext cx="8573040" cy="500040"/>
                </a:xfrm>
                <a:prstGeom prst="roundRect">
                  <a:avLst>
                    <a:gd name="adj" fmla="val 13745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buSzPct val="102884"/>
                    <a:buBlip>
                      <a:blip r:embed="rId6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400" spc="-1" strike="noStrike">
                      <a:solidFill>
                        <a:srgbClr val="af334e"/>
                      </a:solidFill>
                      <a:latin typeface="HY강B"/>
                    </a:rPr>
                    <a:t>  </a:t>
                  </a:r>
                  <a:r>
                    <a:rPr b="0" lang="ko-KR" sz="2400" spc="-1" strike="noStrike">
                      <a:solidFill>
                        <a:srgbClr val="af334e"/>
                      </a:solidFill>
                      <a:latin typeface="HY강B"/>
                    </a:rPr>
                    <a:t>노인 개인 지출</a:t>
                  </a:r>
                  <a:endParaRPr b="0" lang="en-US" sz="24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72" name="Text Box 25"/>
                <p:cNvSpPr/>
                <p:nvPr/>
              </p:nvSpPr>
              <p:spPr>
                <a:xfrm>
                  <a:off x="285480" y="4436640"/>
                  <a:ext cx="8573040" cy="177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792"/>
                    <a:buBlip>
                      <a:blip r:embed="rId7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보건의료비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경조사비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문화여가비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간병수발비 순으로 지출 금액 높음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en-US" sz="2000" spc="-1" strike="noStrike">
                      <a:solidFill>
                        <a:srgbClr val="c00000"/>
                      </a:solidFill>
                      <a:latin typeface="HY강M"/>
                      <a:ea typeface="HY강M"/>
                    </a:rPr>
                    <a:t>  </a:t>
                  </a:r>
                  <a:r>
                    <a:rPr b="0" lang="en-US" sz="2000" spc="-1" strike="noStrike">
                      <a:solidFill>
                        <a:srgbClr val="c00000"/>
                      </a:solidFill>
                      <a:latin typeface="HY강M"/>
                      <a:ea typeface="HY강M"/>
                    </a:rPr>
                    <a:t>(</a:t>
                  </a:r>
                  <a:r>
                    <a:rPr b="0" lang="ko-KR" sz="2000" spc="-1" strike="noStrike">
                      <a:solidFill>
                        <a:srgbClr val="c00000"/>
                      </a:solidFill>
                      <a:latin typeface="HY강M"/>
                      <a:ea typeface="HY강M"/>
                    </a:rPr>
                    <a:t>표 </a:t>
                  </a:r>
                  <a:r>
                    <a:rPr b="0" lang="en-US" sz="2000" spc="-1" strike="noStrike">
                      <a:solidFill>
                        <a:srgbClr val="c00000"/>
                      </a:solidFill>
                      <a:latin typeface="HY강M"/>
                      <a:ea typeface="HY강M"/>
                    </a:rPr>
                    <a:t>3-9 </a:t>
                  </a:r>
                  <a:r>
                    <a:rPr b="0" lang="ko-KR" sz="2000" spc="-1" strike="noStrike">
                      <a:solidFill>
                        <a:srgbClr val="c00000"/>
                      </a:solidFill>
                      <a:latin typeface="HY강M"/>
                      <a:ea typeface="HY강M"/>
                    </a:rPr>
                    <a:t>참조</a:t>
                  </a:r>
                  <a:r>
                    <a:rPr b="0" lang="en-US" sz="2000" spc="-1" strike="noStrike">
                      <a:solidFill>
                        <a:srgbClr val="c00000"/>
                      </a:solidFill>
                      <a:latin typeface="HY강M"/>
                      <a:ea typeface="HY강M"/>
                    </a:rPr>
                    <a:t>)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792"/>
                    <a:buBlip>
                      <a:blip r:embed="rId8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보건의료비 지출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여성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80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대 초반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자녀동거가구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ADL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제한 노인이 높음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792"/>
                    <a:buBlip>
                      <a:blip r:embed="rId9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문화여가비 지출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남성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60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대 후반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부부가구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ADL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제한 없는 노인 높음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73" name="AutoShape 7"/>
            <p:cNvSpPr/>
            <p:nvPr/>
          </p:nvSpPr>
          <p:spPr>
            <a:xfrm>
              <a:off x="214200" y="71280"/>
              <a:ext cx="3571920" cy="5713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HY강B"/>
                </a:rPr>
                <a:t>4) </a:t>
              </a:r>
              <a:r>
                <a:rPr b="0" lang="ko-KR" sz="2800" spc="-1" strike="noStrike">
                  <a:solidFill>
                    <a:srgbClr val="ffffff"/>
                  </a:solidFill>
                  <a:latin typeface="HY강B"/>
                </a:rPr>
                <a:t>소비지출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4" name="그룹 12"/>
          <p:cNvGrpSpPr/>
          <p:nvPr/>
        </p:nvGrpSpPr>
        <p:grpSpPr>
          <a:xfrm>
            <a:off x="142920" y="71280"/>
            <a:ext cx="9001080" cy="6309000"/>
            <a:chOff x="142920" y="71280"/>
            <a:chExt cx="9001080" cy="6309000"/>
          </a:xfrm>
        </p:grpSpPr>
        <p:sp>
          <p:nvSpPr>
            <p:cNvPr id="475" name="AutoShape 2"/>
            <p:cNvSpPr/>
            <p:nvPr/>
          </p:nvSpPr>
          <p:spPr>
            <a:xfrm>
              <a:off x="142920" y="3571200"/>
              <a:ext cx="8858520" cy="28090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76" name="그룹 9"/>
            <p:cNvGrpSpPr/>
            <p:nvPr/>
          </p:nvGrpSpPr>
          <p:grpSpPr>
            <a:xfrm>
              <a:off x="142920" y="785520"/>
              <a:ext cx="9001080" cy="5300280"/>
              <a:chOff x="142920" y="785520"/>
              <a:chExt cx="9001080" cy="5300280"/>
            </a:xfrm>
          </p:grpSpPr>
          <p:sp>
            <p:nvSpPr>
              <p:cNvPr id="477" name="AutoShape 2"/>
              <p:cNvSpPr/>
              <p:nvPr/>
            </p:nvSpPr>
            <p:spPr>
              <a:xfrm>
                <a:off x="142920" y="1285200"/>
                <a:ext cx="8858520" cy="17139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478" name="그룹 10"/>
              <p:cNvGrpSpPr/>
              <p:nvPr/>
            </p:nvGrpSpPr>
            <p:grpSpPr>
              <a:xfrm>
                <a:off x="142920" y="785520"/>
                <a:ext cx="9001080" cy="2194560"/>
                <a:chOff x="142920" y="785520"/>
                <a:chExt cx="9001080" cy="2194560"/>
              </a:xfrm>
            </p:grpSpPr>
            <p:sp>
              <p:nvSpPr>
                <p:cNvPr id="479" name="AutoShape 29"/>
                <p:cNvSpPr/>
                <p:nvPr/>
              </p:nvSpPr>
              <p:spPr>
                <a:xfrm>
                  <a:off x="142920" y="785520"/>
                  <a:ext cx="8572680" cy="428400"/>
                </a:xfrm>
                <a:prstGeom prst="roundRect">
                  <a:avLst>
                    <a:gd name="adj" fmla="val 13745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buSzPct val="102884"/>
                    <a:buBlip>
                      <a:blip r:embed="rId1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400" spc="-1" strike="noStrike">
                      <a:solidFill>
                        <a:srgbClr val="af334e"/>
                      </a:solidFill>
                      <a:latin typeface="HY강B"/>
                    </a:rPr>
                    <a:t>  </a:t>
                  </a:r>
                  <a:r>
                    <a:rPr b="0" lang="ko-KR" sz="2400" spc="-1" strike="noStrike">
                      <a:solidFill>
                        <a:srgbClr val="af334e"/>
                      </a:solidFill>
                      <a:latin typeface="HY강B"/>
                    </a:rPr>
                    <a:t>경제생활 유형</a:t>
                  </a:r>
                  <a:endParaRPr b="0" lang="en-US" sz="24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80" name="Text Box 25"/>
                <p:cNvSpPr/>
                <p:nvPr/>
              </p:nvSpPr>
              <p:spPr>
                <a:xfrm>
                  <a:off x="285480" y="1285560"/>
                  <a:ext cx="8858520" cy="1694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792"/>
                    <a:buBlip>
                      <a:blip r:embed="rId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경제생활 유형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자립형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(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가족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국가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사회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)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의존형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경제생활불가형</a:t>
                  </a:r>
                  <a:r>
                    <a:rPr b="0" lang="en-US" sz="1500" spc="-1" strike="noStrike">
                      <a:solidFill>
                        <a:srgbClr val="c00000"/>
                      </a:solidFill>
                      <a:latin typeface="HY강M"/>
                      <a:ea typeface="HY강M"/>
                    </a:rPr>
                    <a:t>(</a:t>
                  </a:r>
                  <a:r>
                    <a:rPr b="0" lang="ko-KR" sz="1500" spc="-1" strike="noStrike">
                      <a:solidFill>
                        <a:srgbClr val="c00000"/>
                      </a:solidFill>
                      <a:latin typeface="HY강M"/>
                      <a:ea typeface="HY강M"/>
                    </a:rPr>
                    <a:t>소득원 기준</a:t>
                  </a:r>
                  <a:r>
                    <a:rPr b="0" lang="en-US" sz="1500" spc="-1" strike="noStrike">
                      <a:solidFill>
                        <a:srgbClr val="c00000"/>
                      </a:solidFill>
                      <a:latin typeface="HY강M"/>
                      <a:ea typeface="HY강M"/>
                    </a:rPr>
                    <a:t>)</a:t>
                  </a:r>
                  <a:endParaRPr b="0" lang="en-US" sz="15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792"/>
                    <a:buBlip>
                      <a:blip r:embed="rId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자립형 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69%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가족의존형 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18%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국가와 사회의존형 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12%</a:t>
                  </a:r>
                  <a:r>
                    <a:rPr b="0" lang="en-US" sz="20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(</a:t>
                  </a:r>
                  <a:r>
                    <a:rPr b="0" lang="ko-KR" sz="20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표 </a:t>
                  </a:r>
                  <a:r>
                    <a:rPr b="0" lang="en-US" sz="20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3-7 </a:t>
                  </a:r>
                  <a:r>
                    <a:rPr b="0" lang="ko-KR" sz="20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참조</a:t>
                  </a:r>
                  <a:r>
                    <a:rPr b="0" lang="en-US" sz="20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)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792"/>
                    <a:buBlip>
                      <a:blip r:embed="rId4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향후 자립형과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국가의존형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(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기초연금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국민연금 등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)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은 증가하는 반면 가족 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의존형 감소 예상되지만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부양의무 이행 않는 자녀 비율도 증가 예상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1" name="그룹 10"/>
              <p:cNvGrpSpPr/>
              <p:nvPr/>
            </p:nvGrpSpPr>
            <p:grpSpPr>
              <a:xfrm>
                <a:off x="142920" y="3071880"/>
                <a:ext cx="8858520" cy="3013920"/>
                <a:chOff x="142920" y="3071880"/>
                <a:chExt cx="8858520" cy="3013920"/>
              </a:xfrm>
            </p:grpSpPr>
            <p:sp>
              <p:nvSpPr>
                <p:cNvPr id="482" name="AutoShape 29"/>
                <p:cNvSpPr/>
                <p:nvPr/>
              </p:nvSpPr>
              <p:spPr>
                <a:xfrm>
                  <a:off x="142920" y="3071880"/>
                  <a:ext cx="8573040" cy="500040"/>
                </a:xfrm>
                <a:prstGeom prst="roundRect">
                  <a:avLst>
                    <a:gd name="adj" fmla="val 13745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buSzPct val="102884"/>
                    <a:buBlip>
                      <a:blip r:embed="rId5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400" spc="-1" strike="noStrike">
                      <a:solidFill>
                        <a:srgbClr val="af334e"/>
                      </a:solidFill>
                      <a:latin typeface="HY강B"/>
                    </a:rPr>
                    <a:t>  </a:t>
                  </a:r>
                  <a:r>
                    <a:rPr b="0" lang="ko-KR" sz="2400" spc="-1" strike="noStrike">
                      <a:solidFill>
                        <a:srgbClr val="af334e"/>
                      </a:solidFill>
                      <a:latin typeface="HY강B"/>
                    </a:rPr>
                    <a:t>경제생활 만족도</a:t>
                  </a:r>
                  <a:endParaRPr b="0" lang="en-US" sz="24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83" name="Text Box 25"/>
                <p:cNvSpPr/>
                <p:nvPr/>
              </p:nvSpPr>
              <p:spPr>
                <a:xfrm>
                  <a:off x="285480" y="3573000"/>
                  <a:ext cx="8715960" cy="2512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80000"/>
                    </a:lnSpc>
                    <a:spcBef>
                      <a:spcPts val="601"/>
                    </a:spcBef>
                    <a:buSzPct val="102792"/>
                    <a:buBlip>
                      <a:blip r:embed="rId6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노인의 경제생활 수준은 점차 개선될 것으로 예측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80000"/>
                    </a:lnSpc>
                    <a:spcBef>
                      <a:spcPts val="1199"/>
                    </a:spcBef>
                    <a:buSzPct val="102792"/>
                    <a:buBlip>
                      <a:blip r:embed="rId7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절대 빈곤계층은 감소보다는 일정 수준 유지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66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세 이상의 상대빈곤율은 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80000"/>
                    </a:lnSpc>
                    <a:spcBef>
                      <a:spcPts val="11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43.4%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로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OECD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국가 중 그 비율이 가장 높음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80000"/>
                    </a:lnSpc>
                    <a:spcBef>
                      <a:spcPts val="601"/>
                    </a:spcBef>
                    <a:buClr>
                      <a:srgbClr val="174578"/>
                    </a:buClr>
                    <a:buFont typeface="Wingdings" charset="2"/>
                    <a:buChar char="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7030a0"/>
                      </a:solidFill>
                      <a:latin typeface="HY강M"/>
                      <a:ea typeface="HY강M"/>
                    </a:rPr>
                    <a:t>국민기초생활보장 노인</a:t>
                  </a:r>
                  <a:r>
                    <a:rPr b="0" lang="en-US" sz="1800" spc="-1" strike="noStrike">
                      <a:solidFill>
                        <a:srgbClr val="7030a0"/>
                      </a:solidFill>
                      <a:latin typeface="HY강M"/>
                      <a:ea typeface="HY강M"/>
                    </a:rPr>
                    <a:t>: 2020</a:t>
                  </a:r>
                  <a:r>
                    <a:rPr b="0" lang="ko-KR" sz="1800" spc="-1" strike="noStrike">
                      <a:solidFill>
                        <a:srgbClr val="7030a0"/>
                      </a:solidFill>
                      <a:latin typeface="HY강M"/>
                      <a:ea typeface="HY강M"/>
                    </a:rPr>
                    <a:t>년 노인인구의 </a:t>
                  </a:r>
                  <a:r>
                    <a:rPr b="0" lang="en-US" sz="1800" spc="-1" strike="noStrike">
                      <a:solidFill>
                        <a:srgbClr val="7030a0"/>
                      </a:solidFill>
                      <a:latin typeface="HY강M"/>
                      <a:ea typeface="HY강M"/>
                    </a:rPr>
                    <a:t>5.2%(43</a:t>
                  </a:r>
                  <a:r>
                    <a:rPr b="0" lang="ko-KR" sz="1800" spc="-1" strike="noStrike">
                      <a:solidFill>
                        <a:srgbClr val="7030a0"/>
                      </a:solidFill>
                      <a:latin typeface="HY강M"/>
                      <a:ea typeface="HY강M"/>
                    </a:rPr>
                    <a:t>만</a:t>
                  </a:r>
                  <a:r>
                    <a:rPr b="0" lang="en-US" sz="1800" spc="-1" strike="noStrike">
                      <a:solidFill>
                        <a:srgbClr val="7030a0"/>
                      </a:solidFill>
                      <a:latin typeface="HY강M"/>
                      <a:ea typeface="HY강M"/>
                    </a:rPr>
                    <a:t>9</a:t>
                  </a:r>
                  <a:r>
                    <a:rPr b="0" lang="ko-KR" sz="1800" spc="-1" strike="noStrike">
                      <a:solidFill>
                        <a:srgbClr val="7030a0"/>
                      </a:solidFill>
                      <a:latin typeface="HY강M"/>
                      <a:ea typeface="HY강M"/>
                    </a:rPr>
                    <a:t>천여명</a:t>
                  </a:r>
                  <a:r>
                    <a:rPr b="0" lang="en-US" sz="1800" spc="-1" strike="noStrike">
                      <a:solidFill>
                        <a:srgbClr val="7030a0"/>
                      </a:solidFill>
                      <a:latin typeface="HY강M"/>
                      <a:ea typeface="HY강M"/>
                    </a:rPr>
                    <a:t>)</a:t>
                  </a:r>
                  <a:r>
                    <a:rPr b="0" lang="ko-KR" sz="1800" spc="-1" strike="noStrike">
                      <a:solidFill>
                        <a:srgbClr val="7030a0"/>
                      </a:solidFill>
                      <a:latin typeface="HY강M"/>
                      <a:ea typeface="HY강M"/>
                    </a:rPr>
                    <a:t>으로</a:t>
                  </a:r>
                  <a:r>
                    <a:rPr b="0" lang="en-US" sz="1800" spc="-1" strike="noStrike">
                      <a:solidFill>
                        <a:srgbClr val="7030a0"/>
                      </a:solidFill>
                      <a:latin typeface="HY강M"/>
                      <a:ea typeface="HY강M"/>
                    </a:rPr>
                    <a:t>,2010</a:t>
                  </a:r>
                  <a:r>
                    <a:rPr b="0" lang="ko-KR" sz="1800" spc="-1" strike="noStrike">
                      <a:solidFill>
                        <a:srgbClr val="7030a0"/>
                      </a:solidFill>
                      <a:latin typeface="HY강M"/>
                      <a:ea typeface="HY강M"/>
                    </a:rPr>
                    <a:t>년에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8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7030a0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7030a0"/>
                      </a:solidFill>
                      <a:latin typeface="HY강M"/>
                      <a:ea typeface="HY강M"/>
                    </a:rPr>
                    <a:t>비해 수급인원 </a:t>
                  </a:r>
                  <a:r>
                    <a:rPr b="0" lang="en-US" sz="1800" spc="-1" strike="noStrike">
                      <a:solidFill>
                        <a:srgbClr val="7030a0"/>
                      </a:solidFill>
                      <a:latin typeface="HY강M"/>
                      <a:ea typeface="HY강M"/>
                    </a:rPr>
                    <a:t>4</a:t>
                  </a:r>
                  <a:r>
                    <a:rPr b="0" lang="ko-KR" sz="1800" spc="-1" strike="noStrike">
                      <a:solidFill>
                        <a:srgbClr val="7030a0"/>
                      </a:solidFill>
                      <a:latin typeface="HY강M"/>
                      <a:ea typeface="HY강M"/>
                    </a:rPr>
                    <a:t>만 </a:t>
                  </a:r>
                  <a:r>
                    <a:rPr b="0" lang="en-US" sz="1800" spc="-1" strike="noStrike">
                      <a:solidFill>
                        <a:srgbClr val="7030a0"/>
                      </a:solidFill>
                      <a:latin typeface="HY강M"/>
                      <a:ea typeface="HY강M"/>
                    </a:rPr>
                    <a:t>7,900</a:t>
                  </a:r>
                  <a:r>
                    <a:rPr b="0" lang="ko-KR" sz="1800" spc="-1" strike="noStrike">
                      <a:solidFill>
                        <a:srgbClr val="7030a0"/>
                      </a:solidFill>
                      <a:latin typeface="HY강M"/>
                      <a:ea typeface="HY강M"/>
                    </a:rPr>
                    <a:t>명 증가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(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표 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3-10 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참조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)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80000"/>
                    </a:lnSpc>
                    <a:spcBef>
                      <a:spcPts val="1199"/>
                    </a:spcBef>
                    <a:buSzPct val="102792"/>
                    <a:buBlip>
                      <a:blip r:embed="rId8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주관적 경제상태 평가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만족 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37%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불만족 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20%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80000"/>
                    </a:lnSpc>
                    <a:spcBef>
                      <a:spcPts val="1199"/>
                    </a:spcBef>
                    <a:buSzPct val="102792"/>
                    <a:buBlip>
                      <a:blip r:embed="rId9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소득 및 소비생활 만족도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만족하는 노인 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10-17%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수준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(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표 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3-11 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참조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)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84" name="AutoShape 7"/>
            <p:cNvSpPr/>
            <p:nvPr/>
          </p:nvSpPr>
          <p:spPr>
            <a:xfrm>
              <a:off x="214200" y="71280"/>
              <a:ext cx="471492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ff"/>
                  </a:solidFill>
                  <a:latin typeface="HY강B"/>
                </a:rPr>
                <a:t>5) </a:t>
              </a:r>
              <a:r>
                <a:rPr b="0" lang="ko-KR" sz="2600" spc="-1" strike="noStrike">
                  <a:solidFill>
                    <a:srgbClr val="ffffff"/>
                  </a:solidFill>
                  <a:latin typeface="HY강B"/>
                </a:rPr>
                <a:t>경제생활 유형과 만족도</a:t>
              </a:r>
              <a:endParaRPr b="0" lang="en-US" sz="26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5" name="그룹 7"/>
          <p:cNvGrpSpPr/>
          <p:nvPr/>
        </p:nvGrpSpPr>
        <p:grpSpPr>
          <a:xfrm>
            <a:off x="0" y="0"/>
            <a:ext cx="9144000" cy="6286680"/>
            <a:chOff x="0" y="0"/>
            <a:chExt cx="9144000" cy="6286680"/>
          </a:xfrm>
        </p:grpSpPr>
        <p:pic>
          <p:nvPicPr>
            <p:cNvPr id="486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8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7" name="Rectangle 2"/>
            <p:cNvSpPr/>
            <p:nvPr/>
          </p:nvSpPr>
          <p:spPr>
            <a:xfrm>
              <a:off x="1143000" y="71280"/>
              <a:ext cx="77868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0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000" spc="-1" strike="noStrike">
                  <a:solidFill>
                    <a:srgbClr val="ffffff"/>
                  </a:solidFill>
                  <a:latin typeface="HY강B"/>
                </a:rPr>
                <a:t>2.</a:t>
              </a:r>
              <a:r>
                <a:rPr b="1" lang="ko-KR" sz="30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000" spc="-1" strike="noStrike">
                  <a:solidFill>
                    <a:srgbClr val="ffffff"/>
                  </a:solidFill>
                  <a:latin typeface="HY강B"/>
                </a:rPr>
                <a:t>노년기의 일의 의미와 경제활동 실태</a:t>
              </a:r>
              <a:endParaRPr b="0" lang="en-US" sz="3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88" name="그룹 30"/>
            <p:cNvGrpSpPr/>
            <p:nvPr/>
          </p:nvGrpSpPr>
          <p:grpSpPr>
            <a:xfrm>
              <a:off x="71280" y="785880"/>
              <a:ext cx="9001440" cy="5500800"/>
              <a:chOff x="71280" y="785880"/>
              <a:chExt cx="9001440" cy="5500800"/>
            </a:xfrm>
          </p:grpSpPr>
          <p:sp>
            <p:nvSpPr>
              <p:cNvPr id="489" name="AutoShape 2"/>
              <p:cNvSpPr/>
              <p:nvPr/>
            </p:nvSpPr>
            <p:spPr>
              <a:xfrm>
                <a:off x="71280" y="1143000"/>
                <a:ext cx="9001440" cy="51436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0" name="AutoShape 7"/>
              <p:cNvSpPr/>
              <p:nvPr/>
            </p:nvSpPr>
            <p:spPr>
              <a:xfrm>
                <a:off x="285480" y="785880"/>
                <a:ext cx="3500640" cy="5713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600" spc="-1" strike="noStrike">
                    <a:solidFill>
                      <a:srgbClr val="ffffff"/>
                    </a:solidFill>
                    <a:latin typeface="HY강B"/>
                  </a:rPr>
                  <a:t>1) </a:t>
                </a:r>
                <a:r>
                  <a:rPr b="0" lang="ko-KR" sz="2600" spc="-1" strike="noStrike">
                    <a:solidFill>
                      <a:srgbClr val="ffffff"/>
                    </a:solidFill>
                    <a:latin typeface="HY강B"/>
                  </a:rPr>
                  <a:t>일</a:t>
                </a:r>
                <a:r>
                  <a:rPr b="0" lang="en-US" sz="2600" spc="-1" strike="noStrike">
                    <a:solidFill>
                      <a:srgbClr val="ffffff"/>
                    </a:solidFill>
                    <a:latin typeface="HY강B"/>
                  </a:rPr>
                  <a:t>(work)</a:t>
                </a:r>
                <a:r>
                  <a:rPr b="0" lang="ko-KR" sz="2600" spc="-1" strike="noStrike">
                    <a:solidFill>
                      <a:srgbClr val="ffffff"/>
                    </a:solidFill>
                    <a:latin typeface="HY강B"/>
                  </a:rPr>
                  <a:t>의 개념</a:t>
                </a:r>
                <a:endParaRPr b="0" lang="en-US" sz="2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1" name="Text Box 25"/>
              <p:cNvSpPr/>
              <p:nvPr/>
            </p:nvSpPr>
            <p:spPr>
              <a:xfrm>
                <a:off x="223560" y="1341360"/>
                <a:ext cx="8849160" cy="486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개념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신적이고 육체적인 경제 활동 뿐 아니라 비공식적 도움이나 무급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의 자원봉사형태로 사회에 기여하는 제반 생산적 활동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11345a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광의의 개념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생산적 활동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(productive activity)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와 동일한 의미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11345a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협의의 개념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육체적인 유급의 산업노동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(labor)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으로 국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경제활동 인구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=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주부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학생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연로자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장애인 등을 제외한 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15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세 이상의 자 중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취업자와 실업자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통계청 기준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11345a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취업자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주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1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시간 이상의 임금소득자＋주 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18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시간 이상 가족종사자＋일시휴직자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7030a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실업자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지난 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4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주간 구직활동을 한 자로 일자리가 주어지면 즉시 취업가능한 자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부통계나 노년학계의 관점을 볼 때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일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work)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을 ‘경제활동에 참여하여 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개인과 사회에 필요한 재화와 서비스를 생산하는 활동’으로 규정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생산적 활동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=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유급의 경제활동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+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무급 봉사활동의 사회기여 활동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2" name="그룹 12"/>
          <p:cNvGrpSpPr/>
          <p:nvPr/>
        </p:nvGrpSpPr>
        <p:grpSpPr>
          <a:xfrm>
            <a:off x="142920" y="71280"/>
            <a:ext cx="8858160" cy="6000840"/>
            <a:chOff x="142920" y="71280"/>
            <a:chExt cx="8858160" cy="6000840"/>
          </a:xfrm>
        </p:grpSpPr>
        <p:sp>
          <p:nvSpPr>
            <p:cNvPr id="493" name="AutoShape 2"/>
            <p:cNvSpPr/>
            <p:nvPr/>
          </p:nvSpPr>
          <p:spPr>
            <a:xfrm>
              <a:off x="142920" y="3571920"/>
              <a:ext cx="8858160" cy="25002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94" name="그룹 9"/>
            <p:cNvGrpSpPr/>
            <p:nvPr/>
          </p:nvGrpSpPr>
          <p:grpSpPr>
            <a:xfrm>
              <a:off x="142920" y="785520"/>
              <a:ext cx="8858160" cy="5238000"/>
              <a:chOff x="142920" y="785520"/>
              <a:chExt cx="8858160" cy="5238000"/>
            </a:xfrm>
          </p:grpSpPr>
          <p:sp>
            <p:nvSpPr>
              <p:cNvPr id="495" name="AutoShape 2"/>
              <p:cNvSpPr/>
              <p:nvPr/>
            </p:nvSpPr>
            <p:spPr>
              <a:xfrm>
                <a:off x="142920" y="1285560"/>
                <a:ext cx="8858160" cy="17146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496" name="그룹 10"/>
              <p:cNvGrpSpPr/>
              <p:nvPr/>
            </p:nvGrpSpPr>
            <p:grpSpPr>
              <a:xfrm>
                <a:off x="142920" y="785520"/>
                <a:ext cx="8715600" cy="2228400"/>
                <a:chOff x="142920" y="785520"/>
                <a:chExt cx="8715600" cy="2228400"/>
              </a:xfrm>
            </p:grpSpPr>
            <p:sp>
              <p:nvSpPr>
                <p:cNvPr id="497" name="AutoShape 29"/>
                <p:cNvSpPr/>
                <p:nvPr/>
              </p:nvSpPr>
              <p:spPr>
                <a:xfrm>
                  <a:off x="142920" y="785520"/>
                  <a:ext cx="8573040" cy="428400"/>
                </a:xfrm>
                <a:prstGeom prst="roundRect">
                  <a:avLst>
                    <a:gd name="adj" fmla="val 13745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buSzPct val="102884"/>
                    <a:buBlip>
                      <a:blip r:embed="rId1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400" spc="-1" strike="noStrike">
                      <a:solidFill>
                        <a:srgbClr val="af334e"/>
                      </a:solidFill>
                      <a:latin typeface="HY강B"/>
                    </a:rPr>
                    <a:t>  </a:t>
                  </a:r>
                  <a:r>
                    <a:rPr b="0" lang="ko-KR" sz="2400" spc="-1" strike="noStrike">
                      <a:solidFill>
                        <a:srgbClr val="af334e"/>
                      </a:solidFill>
                      <a:latin typeface="HY강B"/>
                    </a:rPr>
                    <a:t>일의 기능</a:t>
                  </a:r>
                  <a:endParaRPr b="0" lang="en-US" sz="24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98" name="Text Box 25"/>
                <p:cNvSpPr/>
                <p:nvPr/>
              </p:nvSpPr>
              <p:spPr>
                <a:xfrm>
                  <a:off x="285480" y="1356840"/>
                  <a:ext cx="8573040" cy="165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792"/>
                    <a:buBlip>
                      <a:blip r:embed="rId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경제적 기능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생계 유지에 필요한 재화나 서비스의 생산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901"/>
                    </a:spcBef>
                    <a:buSzPct val="102792"/>
                    <a:buBlip>
                      <a:blip r:embed="rId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사회적 기능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사회적 관계망 유지 및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지위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역할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권력의 획득과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유지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901"/>
                    </a:spcBef>
                    <a:buSzPct val="102792"/>
                    <a:buBlip>
                      <a:blip r:embed="rId4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도덕적 기능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사회성원으로서의 도덕적 책임 이행 기회 제공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901"/>
                    </a:spcBef>
                    <a:buSzPct val="102792"/>
                    <a:buBlip>
                      <a:blip r:embed="rId5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정서적 기능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자아정체감 및 유용감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자존감 유지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정서적 만족감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99" name="그룹 10"/>
              <p:cNvGrpSpPr/>
              <p:nvPr/>
            </p:nvGrpSpPr>
            <p:grpSpPr>
              <a:xfrm>
                <a:off x="142920" y="3071520"/>
                <a:ext cx="8858160" cy="2952000"/>
                <a:chOff x="142920" y="3071520"/>
                <a:chExt cx="8858160" cy="2952000"/>
              </a:xfrm>
            </p:grpSpPr>
            <p:sp>
              <p:nvSpPr>
                <p:cNvPr id="500" name="AutoShape 29"/>
                <p:cNvSpPr/>
                <p:nvPr/>
              </p:nvSpPr>
              <p:spPr>
                <a:xfrm>
                  <a:off x="142920" y="3071520"/>
                  <a:ext cx="8572680" cy="500040"/>
                </a:xfrm>
                <a:prstGeom prst="roundRect">
                  <a:avLst>
                    <a:gd name="adj" fmla="val 13745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buSzPct val="102884"/>
                    <a:buBlip>
                      <a:blip r:embed="rId6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400" spc="-1" strike="noStrike">
                      <a:solidFill>
                        <a:srgbClr val="af334e"/>
                      </a:solidFill>
                      <a:latin typeface="HY강B"/>
                    </a:rPr>
                    <a:t>  </a:t>
                  </a:r>
                  <a:r>
                    <a:rPr b="0" lang="ko-KR" sz="2400" spc="-1" strike="noStrike">
                      <a:solidFill>
                        <a:srgbClr val="af334e"/>
                      </a:solidFill>
                      <a:latin typeface="HY강B"/>
                    </a:rPr>
                    <a:t>일의 효과</a:t>
                  </a:r>
                  <a:endParaRPr b="0" lang="en-US" sz="24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501" name="Text Box 25"/>
                <p:cNvSpPr/>
                <p:nvPr/>
              </p:nvSpPr>
              <p:spPr>
                <a:xfrm>
                  <a:off x="285480" y="3642840"/>
                  <a:ext cx="8715600" cy="238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792"/>
                    <a:buBlip>
                      <a:blip r:embed="rId7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미시적 차원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소득원 확보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자기 유용감과 정체감 부여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사회적 관계망 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유지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신체 및 정신건강 유지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소일 또는 여가기회 부여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792"/>
                    <a:buBlip>
                      <a:blip r:embed="rId8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거시적 차원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노인에 대한 인식개선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국가생산성 제고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사회보장비용 절감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792"/>
                    <a:buBlip>
                      <a:blip r:embed="rId9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하지만  노년기에는 건강 약화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생산지식과 기술의 낙후 등으로 노동시장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에서 탈락하게 되어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소득상실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지위와 역할상실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사회관계 축소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여가와 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문화활동 기회 축소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삶의 만족도 저하 등의 심리사회적 문제 경험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2" name="AutoShape 7"/>
            <p:cNvSpPr/>
            <p:nvPr/>
          </p:nvSpPr>
          <p:spPr>
            <a:xfrm>
              <a:off x="214200" y="71280"/>
              <a:ext cx="392904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ff"/>
                  </a:solidFill>
                  <a:latin typeface="HY강B"/>
                </a:rPr>
                <a:t>2) </a:t>
              </a:r>
              <a:r>
                <a:rPr b="0" lang="ko-KR" sz="2600" spc="-1" strike="noStrike">
                  <a:solidFill>
                    <a:srgbClr val="ffffff"/>
                  </a:solidFill>
                  <a:latin typeface="HY강B"/>
                </a:rPr>
                <a:t>노년기 일의 기능</a:t>
              </a:r>
              <a:endParaRPr b="0" lang="en-US" sz="26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2T12:34:59Z</dcterms:created>
  <dc:creator>OWNER</dc:creator>
  <dc:description/>
  <dc:language>en-US</dc:language>
  <cp:lastModifiedBy>권중돈</cp:lastModifiedBy>
  <dcterms:modified xsi:type="dcterms:W3CDTF">2022-08-26T00:54:10Z</dcterms:modified>
  <cp:revision>300</cp:revision>
  <dc:subject/>
  <dc:title>Click to add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367961042</vt:lpwstr>
  </property>
</Properties>
</file>