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dt" idx="1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ftr" idx="1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 type="sldNum" idx="1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5D0E9-A221-45E0-8539-1E214AE7DC2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90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A4C6A-6F6F-4F49-B71B-DB0965C5E843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90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A4E27-88C3-4BEB-A247-177501B42F95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90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CC168-B52D-43B3-A8A4-CC65EA84DA35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91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1B607-4C26-4152-80B0-E93B61CC65CD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91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0888E-21ED-4050-8AA0-36BA88094FF5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89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49D38-5A03-43F8-9164-D5E1A9C6A94E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8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6359E-625A-4638-A119-56F1FBF30054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90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0928F-E82E-4861-B12F-4C6469FEBFB2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BFD67-E318-4B82-BFB0-4A9D23BDD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CE0D5-3089-45AD-BC28-D9BEEC0BC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24D7E-4851-4CED-ACC7-1C40241AF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5C2E5-2A15-49A6-9A96-75E910235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3E088-E3E6-493C-AD48-80ECF3691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98E03-6489-4412-B8B2-6DA07D3D9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96378-160A-40BE-89EE-6D226686C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037AB-7D4A-4035-88F4-42D87E198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32A99-94F6-4300-A35F-98F908B00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A0295-0ACA-438F-9546-D3934FD64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42289-98A7-49D7-995A-F0BE2E944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ACD14-1E9D-4A37-884A-E25EF5FBE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8B3B4D-FA93-4D24-91D5-3FB09CFAE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9AA556-343B-4E19-B656-5411C6D0E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255DFA-499A-4CBC-864F-F3B9E4CF2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064FFE-BDA5-45B0-AF83-DBDB1E029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54B369-D917-4E49-BC64-2DA1CF6B1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D3817E-918B-4C55-B9ED-727802A19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048FD6-29E6-42D3-9C1B-434C168E2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C234D5-40E3-4840-9179-B60C88D84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8E91FB-0A63-4A48-8AD6-20F5070D9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B0DE54-96F5-4BE0-8D63-1BB5118DE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BB387F-3193-4D34-88F5-2C857023A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BF5858-5281-4F77-9A45-D1D706D67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50E649-F9EC-4069-8D47-9E8652B0D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DA9619-5E85-4E6A-82EB-7FA998C68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0D876B-87C8-4A49-8A47-552BDAE75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9A8061-A740-47D2-AA50-5FD680A3F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C52EB5-A486-42FE-8972-084FD268D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0925D3-0F9F-4F73-89CB-4B61DC72E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4D477A-1473-4A92-B61B-86AA327FC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1F5D24-214F-4BDF-840A-8F1B97CA7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EBFD25-7EEA-4EF9-A7F7-468FE42E5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A7B34B-E6D9-4965-91E6-37BFFB5FC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8F02A0-4C34-4330-B5E1-74168CC9A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D29DA2-A97A-4BBA-9DF6-7AE22E341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85.xml"/><Relationship Id="rId10" Type="http://schemas.openxmlformats.org/officeDocument/2006/relationships/slideLayout" Target="../slideLayouts/slideLayout86.xml"/><Relationship Id="rId11" Type="http://schemas.openxmlformats.org/officeDocument/2006/relationships/slideLayout" Target="../slideLayouts/slideLayout87.xml"/><Relationship Id="rId12" Type="http://schemas.openxmlformats.org/officeDocument/2006/relationships/slideLayout" Target="../slideLayouts/slideLayout88.xml"/><Relationship Id="rId13" Type="http://schemas.openxmlformats.org/officeDocument/2006/relationships/slideLayout" Target="../slideLayouts/slideLayout89.xml"/><Relationship Id="rId14" Type="http://schemas.openxmlformats.org/officeDocument/2006/relationships/slideLayout" Target="../slideLayouts/slideLayout90.xml"/><Relationship Id="rId15" Type="http://schemas.openxmlformats.org/officeDocument/2006/relationships/slideLayout" Target="../slideLayouts/slideLayout91.xml"/><Relationship Id="rId16" Type="http://schemas.openxmlformats.org/officeDocument/2006/relationships/slideLayout" Target="../slideLayouts/slideLayout92.xml"/><Relationship Id="rId17" Type="http://schemas.openxmlformats.org/officeDocument/2006/relationships/slideLayout" Target="../slideLayouts/slideLayout93.xml"/><Relationship Id="rId18" Type="http://schemas.openxmlformats.org/officeDocument/2006/relationships/slideLayout" Target="../slideLayouts/slideLayout94.xml"/><Relationship Id="rId19" Type="http://schemas.openxmlformats.org/officeDocument/2006/relationships/slideLayout" Target="../slideLayouts/slideLayout95.xml"/><Relationship Id="rId20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6009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0D37E-2562-4CDC-9EB6-E08C55D419D9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3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594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5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6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97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8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99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60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60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0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60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3" name="AutoShape 25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1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11BB2-6B21-4132-9924-C3D5D311B003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6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17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 type="dt" idx="1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31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CB539-0774-4919-82A1-D9EE5FFF8A69}" type="slidenum">
              <a:rPr b="0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3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3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4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7" name="AutoShape 25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41F57-CCA1-4A3B-89B7-687567E6ACD8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87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8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9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90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92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94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95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6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7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98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99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0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1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2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3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4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5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AutoShape 25"/>
            <p:cNvSpPr/>
            <p:nvPr/>
          </p:nvSpPr>
          <p:spPr>
            <a:xfrm rot="16200000">
              <a:off x="7776000" y="66009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7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BAD96-E1B7-46FF-8ED2-54AD48F1937D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8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209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0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1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212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3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14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15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216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7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21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222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45109-916A-494B-953A-1368409FDC39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67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8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0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2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74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75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6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78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79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0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4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5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AutoShape 25"/>
            <p:cNvSpPr/>
            <p:nvPr/>
          </p:nvSpPr>
          <p:spPr>
            <a:xfrm rot="16200000">
              <a:off x="7776000" y="66009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7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7822C-B777-45D3-AE65-EF7F90A83288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8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330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1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2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3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4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35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337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338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9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0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1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342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3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4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5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6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7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8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9" name="AutoShape 25"/>
            <p:cNvSpPr/>
            <p:nvPr/>
          </p:nvSpPr>
          <p:spPr>
            <a:xfrm rot="16200000">
              <a:off x="7776000" y="66009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0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E595E-FA18-46EF-832E-66CC6A8CF4B2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1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2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53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8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3" name="Object 15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4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95" name="Group 16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396" name="Rectangle 17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7" name="Rectangle 18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98" name="Rectangle 19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99" name="Group 20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400" name="AutoShape 21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1" name="Freeform 22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2" name="Freeform 23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3" name="Freeform 24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4" name="Freeform 25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05" name="Group 26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406" name="Picture 27" descr="Untitled-1 copy"/>
            <p:cNvPicPr/>
            <p:nvPr/>
          </p:nvPicPr>
          <p:blipFill>
            <a:blip r:embed="rId4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7" name="Picture 28" descr="Untitled-1 copy"/>
            <p:cNvPicPr/>
            <p:nvPr/>
          </p:nvPicPr>
          <p:blipFill>
            <a:blip r:embed="rId5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29" descr="Untitled-1 copy"/>
            <p:cNvPicPr/>
            <p:nvPr/>
          </p:nvPicPr>
          <p:blipFill>
            <a:blip r:embed="rId6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C38C5-C410-4F97-A49D-475DFC189BE6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45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5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5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458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59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0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1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62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63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4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5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6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7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8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9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0" name="AutoShape 25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71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76963-55F4-414D-A570-96473D3F2401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2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473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4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75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476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7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78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79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480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1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2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3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85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486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7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F7843-FCDE-4D05-931C-28962BFD556B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9"/>
    <p:sldLayoutId id="2147483741" r:id="rId10"/>
    <p:sldLayoutId id="2147483742" r:id="rId11"/>
    <p:sldLayoutId id="2147483743" r:id="rId12"/>
    <p:sldLayoutId id="2147483744" r:id="rId13"/>
    <p:sldLayoutId id="2147483745" r:id="rId14"/>
    <p:sldLayoutId id="2147483746" r:id="rId15"/>
    <p:sldLayoutId id="2147483747" r:id="rId16"/>
    <p:sldLayoutId id="2147483748" r:id="rId17"/>
    <p:sldLayoutId id="2147483749" r:id="rId18"/>
    <p:sldLayoutId id="2147483750" r:id="rId19"/>
    <p:sldLayoutId id="2147483751" r:id="rId20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53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3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3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538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539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0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1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542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543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4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5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6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7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8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9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0" name="AutoShape 25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51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A9406-4CE9-4E40-9625-7A4D39670E10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2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3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15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49.xml"/><Relationship Id="rId1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49.xml"/><Relationship Id="rId1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49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49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49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49.xml"/><Relationship Id="rId1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49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49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79280" y="981000"/>
            <a:ext cx="889344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5000" spc="-1" strike="noStrike">
                <a:solidFill>
                  <a:srgbClr val="ffffff"/>
                </a:solidFill>
                <a:latin typeface="HY강B"/>
                <a:ea typeface="HY강B"/>
              </a:rPr>
              <a:t>1 </a:t>
            </a:r>
            <a:r>
              <a:rPr b="1" lang="ko-KR" sz="5000" spc="-1" strike="noStrike">
                <a:solidFill>
                  <a:srgbClr val="ffffff"/>
                </a:solidFill>
                <a:latin typeface="HY강B"/>
                <a:ea typeface="HY강B"/>
              </a:rPr>
              <a:t>부 노화와 노인의 이해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665" name="Picture 4" descr="그림1"/>
          <p:cNvPicPr/>
          <p:nvPr/>
        </p:nvPicPr>
        <p:blipFill>
          <a:blip r:embed="rId1"/>
          <a:stretch/>
        </p:blipFill>
        <p:spPr>
          <a:xfrm>
            <a:off x="0" y="2421000"/>
            <a:ext cx="9144000" cy="4437000"/>
          </a:xfrm>
          <a:prstGeom prst="rect">
            <a:avLst/>
          </a:prstGeom>
          <a:ln w="0">
            <a:noFill/>
          </a:ln>
        </p:spPr>
      </p:pic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395280" y="3213000"/>
            <a:ext cx="831528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HY강B"/>
                <a:ea typeface="HY강B"/>
              </a:rPr>
              <a:t>1</a:t>
            </a:r>
            <a:r>
              <a:rPr b="0" lang="ko-KR" sz="4100" spc="-1" strike="noStrike">
                <a:solidFill>
                  <a:srgbClr val="ffffff"/>
                </a:solidFill>
                <a:latin typeface="HY강B"/>
                <a:ea typeface="HY강B"/>
              </a:rPr>
              <a:t>장 노인과 노인문제</a:t>
            </a:r>
            <a:endParaRPr b="0" lang="en-US" sz="41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HY강B"/>
                <a:ea typeface="HY강B"/>
              </a:rPr>
              <a:t>2</a:t>
            </a:r>
            <a:r>
              <a:rPr b="1" lang="ko-KR" sz="4800" spc="-1" strike="noStrike">
                <a:solidFill>
                  <a:srgbClr val="ffff00"/>
                </a:solidFill>
                <a:latin typeface="HY강B"/>
                <a:ea typeface="HY강B"/>
              </a:rPr>
              <a:t>장 노화의 과정과 결과</a:t>
            </a:r>
            <a:endParaRPr b="0" lang="en-US" sz="48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8" name="그룹 1"/>
          <p:cNvGrpSpPr/>
          <p:nvPr/>
        </p:nvGrpSpPr>
        <p:grpSpPr>
          <a:xfrm>
            <a:off x="285840" y="142920"/>
            <a:ext cx="8678880" cy="5857920"/>
            <a:chOff x="285840" y="142920"/>
            <a:chExt cx="8678880" cy="5857920"/>
          </a:xfrm>
        </p:grpSpPr>
        <p:sp>
          <p:nvSpPr>
            <p:cNvPr id="789" name="AutoShape 2"/>
            <p:cNvSpPr/>
            <p:nvPr/>
          </p:nvSpPr>
          <p:spPr>
            <a:xfrm>
              <a:off x="285840" y="1008000"/>
              <a:ext cx="8644320" cy="49928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0" name="AutoShape 4"/>
            <p:cNvSpPr/>
            <p:nvPr/>
          </p:nvSpPr>
          <p:spPr>
            <a:xfrm>
              <a:off x="285840" y="142920"/>
              <a:ext cx="557208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생물적 노화의 신화와 사실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1" name="Text Box 6"/>
            <p:cNvSpPr/>
            <p:nvPr/>
          </p:nvSpPr>
          <p:spPr>
            <a:xfrm>
              <a:off x="500040" y="1106280"/>
              <a:ext cx="8464680" cy="48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1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는 신체질병으로 가득한 시기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 lvl="1" marL="358920">
                <a:lnSpc>
                  <a:spcPct val="100000"/>
                </a:lnSpc>
                <a:spcBef>
                  <a:spcPts val="1125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질병 가능성 높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유병률이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84.0%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에 이르지만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년기 이전에 발병한 경우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lvl="1" marL="3589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많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88%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도가 자립적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일상생활 동작능력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ADL)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유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1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2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매력 없고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보고 듣지도 못하고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냄새 나고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이빨도 없음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 lvl="1" marL="358920">
                <a:lnSpc>
                  <a:spcPct val="100000"/>
                </a:lnSpc>
                <a:spcBef>
                  <a:spcPts val="1125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화로 인한 외모변화가 사실이지만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화장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안경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보청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틀니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철저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lvl="1" marL="3589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위생관리 등으로 보완이 가능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1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3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심장발작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골절상의 위험이 있으므로 스스로 힘든 일 중단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 lvl="1" marL="358920">
                <a:lnSpc>
                  <a:spcPct val="100000"/>
                </a:lnSpc>
                <a:spcBef>
                  <a:spcPts val="1125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신체기능 저하는 성인 초기부터 진행되며 치료와 운동으로 극복가능하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lvl="1" marL="3589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들 질환은 노년기만의 특성은 아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1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4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성에 관심도 없고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성생활도 불가능함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성기능 저하는 사실이나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성적 노화보다는 성적 파트너 유무가 더 중요하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발기부전치료제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전 성적 유희 등으로 성생활 유지 가능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그룹 7"/>
          <p:cNvGrpSpPr/>
          <p:nvPr/>
        </p:nvGrpSpPr>
        <p:grpSpPr>
          <a:xfrm>
            <a:off x="0" y="0"/>
            <a:ext cx="9358200" cy="6357960"/>
            <a:chOff x="0" y="0"/>
            <a:chExt cx="9358200" cy="6357960"/>
          </a:xfrm>
        </p:grpSpPr>
        <p:pic>
          <p:nvPicPr>
            <p:cNvPr id="79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4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심리적 노화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95" name="그룹 11"/>
            <p:cNvGrpSpPr/>
            <p:nvPr/>
          </p:nvGrpSpPr>
          <p:grpSpPr>
            <a:xfrm>
              <a:off x="142560" y="928440"/>
              <a:ext cx="8929800" cy="5429520"/>
              <a:chOff x="142560" y="928440"/>
              <a:chExt cx="8929800" cy="5429520"/>
            </a:xfrm>
          </p:grpSpPr>
          <p:sp>
            <p:nvSpPr>
              <p:cNvPr id="796" name="AutoShape 2"/>
              <p:cNvSpPr/>
              <p:nvPr/>
            </p:nvSpPr>
            <p:spPr>
              <a:xfrm>
                <a:off x="142560" y="1643400"/>
                <a:ext cx="8929800" cy="4714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97" name="AutoShape 4"/>
              <p:cNvSpPr/>
              <p:nvPr/>
            </p:nvSpPr>
            <p:spPr>
              <a:xfrm>
                <a:off x="213840" y="928440"/>
                <a:ext cx="514368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600" spc="-1" strike="noStrike">
                    <a:solidFill>
                      <a:srgbClr val="ffffff"/>
                    </a:solidFill>
                    <a:latin typeface="HY강B"/>
                  </a:rPr>
                  <a:t>심리적 노화의 개념과 특성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98" name="Text Box 6"/>
              <p:cNvSpPr/>
              <p:nvPr/>
            </p:nvSpPr>
            <p:spPr>
              <a:xfrm>
                <a:off x="178920" y="1731600"/>
                <a:ext cx="8822160" cy="449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개념</a:t>
                </a:r>
                <a:r>
                  <a:rPr b="1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각기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지기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서 및 정신기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격 등의 심리내적 측면과 심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외적 측면과의 상호작용에 있어서의 퇴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지 및 성숙을 동시에 내포하는  심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적 조절과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영역</a:t>
                </a:r>
                <a:r>
                  <a:rPr b="1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적 기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운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신 및 정서기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+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달적 특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아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+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신건강 및 장애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특성</a:t>
                </a:r>
                <a:r>
                  <a:rPr b="1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물적 노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노화와의 연관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87280">
                  <a:lnSpc>
                    <a:spcPct val="100000"/>
                  </a:lnSpc>
                  <a:spcBef>
                    <a:spcPts val="1063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물적 노화와 관련된 심리기능은 연령증가와 함께 현저하게 퇴행적 발달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87280">
                  <a:lnSpc>
                    <a:spcPct val="100000"/>
                  </a:lnSpc>
                  <a:spcBef>
                    <a:spcPts val="9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험과 관련된 심리기능은 유지 혹은 증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87280">
                  <a:lnSpc>
                    <a:spcPct val="100000"/>
                  </a:lnSpc>
                  <a:spcBef>
                    <a:spcPts val="9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제 생활에서는 정신기능의 쇠퇴가 의미 있는 정도로 나타나지 않음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87280">
                  <a:lnSpc>
                    <a:spcPct val="100000"/>
                  </a:lnSpc>
                  <a:spcBef>
                    <a:spcPts val="9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적 노화가 사회적 기능을 약화 또는 촉진할 수 있으며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노화 역시 심리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87280"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적 노화에 긍정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정의 영향을 미침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9" name="그룹 7"/>
          <p:cNvGrpSpPr/>
          <p:nvPr/>
        </p:nvGrpSpPr>
        <p:grpSpPr>
          <a:xfrm>
            <a:off x="41400" y="285840"/>
            <a:ext cx="8959680" cy="6362640"/>
            <a:chOff x="41400" y="285840"/>
            <a:chExt cx="8959680" cy="6362640"/>
          </a:xfrm>
        </p:grpSpPr>
        <p:pic>
          <p:nvPicPr>
            <p:cNvPr id="800" name="Picture 2" descr="C:\DOCUME~1\USER\LOCALS~1\Temp\UNI00000dfc7a1c.gif"/>
            <p:cNvPicPr/>
            <p:nvPr/>
          </p:nvPicPr>
          <p:blipFill>
            <a:blip r:embed="rId1"/>
            <a:stretch/>
          </p:blipFill>
          <p:spPr>
            <a:xfrm>
              <a:off x="1785960" y="5214960"/>
              <a:ext cx="1793880" cy="100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1" name="Picture 2" descr="C:\DOCUME~1\USER\LOCALS~1\Temp\UNI00000dfc7a1c.gif"/>
            <p:cNvPicPr/>
            <p:nvPr/>
          </p:nvPicPr>
          <p:blipFill>
            <a:blip r:embed="rId2"/>
            <a:stretch/>
          </p:blipFill>
          <p:spPr>
            <a:xfrm>
              <a:off x="41400" y="5357880"/>
              <a:ext cx="2315880" cy="1290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02" name="그룹 1"/>
            <p:cNvGrpSpPr/>
            <p:nvPr/>
          </p:nvGrpSpPr>
          <p:grpSpPr>
            <a:xfrm>
              <a:off x="285840" y="285840"/>
              <a:ext cx="8715240" cy="5072040"/>
              <a:chOff x="285840" y="285840"/>
              <a:chExt cx="8715240" cy="5072040"/>
            </a:xfrm>
          </p:grpSpPr>
          <p:sp>
            <p:nvSpPr>
              <p:cNvPr id="803" name="AutoShape 4"/>
              <p:cNvSpPr/>
              <p:nvPr/>
            </p:nvSpPr>
            <p:spPr>
              <a:xfrm>
                <a:off x="285840" y="285840"/>
                <a:ext cx="5089320" cy="509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600" spc="-1" strike="noStrike">
                    <a:solidFill>
                      <a:srgbClr val="ffffff"/>
                    </a:solidFill>
                    <a:latin typeface="HY강B"/>
                  </a:rPr>
                  <a:t>심리적 노화의 주요이론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04" name="AutoShape 2"/>
              <p:cNvSpPr/>
              <p:nvPr/>
            </p:nvSpPr>
            <p:spPr>
              <a:xfrm>
                <a:off x="357120" y="983520"/>
                <a:ext cx="8501040" cy="43743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05" name="Text Box 6"/>
              <p:cNvSpPr/>
              <p:nvPr/>
            </p:nvSpPr>
            <p:spPr>
              <a:xfrm>
                <a:off x="496800" y="1171440"/>
                <a:ext cx="8504280" cy="404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01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발달과업이론</a:t>
                </a:r>
                <a:r>
                  <a:rPr b="1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성격발달이론</a:t>
                </a:r>
                <a:r>
                  <a:rPr b="1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인지이론  등 다양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2-2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01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달과업이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 Harvighurst, Peck, Clark &amp; Anderson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01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격발달이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 Erikson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심리사회적 이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01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지이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01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원감소이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01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행동유전이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01"/>
                  </a:spcBef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체감이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체감 위기이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Miller) vs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체감 유지이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Atchley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01"/>
                  </a:spcBef>
                  <a:buSzPct val="10279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초월이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6" name="그룹 1"/>
          <p:cNvGrpSpPr/>
          <p:nvPr/>
        </p:nvGrpSpPr>
        <p:grpSpPr>
          <a:xfrm>
            <a:off x="142920" y="214200"/>
            <a:ext cx="8858160" cy="6000840"/>
            <a:chOff x="142920" y="214200"/>
            <a:chExt cx="8858160" cy="6000840"/>
          </a:xfrm>
        </p:grpSpPr>
        <p:grpSp>
          <p:nvGrpSpPr>
            <p:cNvPr id="807" name="그룹 6"/>
            <p:cNvGrpSpPr/>
            <p:nvPr/>
          </p:nvGrpSpPr>
          <p:grpSpPr>
            <a:xfrm>
              <a:off x="142920" y="1785600"/>
              <a:ext cx="8858160" cy="4429440"/>
              <a:chOff x="142920" y="1785600"/>
              <a:chExt cx="8858160" cy="4429440"/>
            </a:xfrm>
          </p:grpSpPr>
          <p:sp>
            <p:nvSpPr>
              <p:cNvPr id="808" name="AutoShape 2"/>
              <p:cNvSpPr/>
              <p:nvPr/>
            </p:nvSpPr>
            <p:spPr>
              <a:xfrm>
                <a:off x="142920" y="1785600"/>
                <a:ext cx="8820360" cy="44294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09" name="Text Box 25"/>
              <p:cNvSpPr/>
              <p:nvPr/>
            </p:nvSpPr>
            <p:spPr>
              <a:xfrm>
                <a:off x="214200" y="1904400"/>
                <a:ext cx="8786880" cy="427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시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4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부터 약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7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후는 교정해도 정상시력 회복 어려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청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청각체계 및 중추신경계의 반응능력 감소로 청각 약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5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후 음의 고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변별력 약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후기에는 보청기 등 사용 필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미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2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최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5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에 저하 시작되며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7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까지 유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8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크게 약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후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6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후 감소 시작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8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에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/4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도가 후각 문제 경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촉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통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촉각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4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후 급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통각은 연령과 큰 관련 없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지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신경자극전달세포 감소 또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심성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심사숙고 성향의 증가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운동반응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반응시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문제해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억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보처리 등의 반응속도 저하→ 안전사고 위험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수면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2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7-8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5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후 급감하여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상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-6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으로 줄어들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면장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기각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야전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숙면장애를 경험하는 경우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많아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Wingdings"/>
                    <a:ea typeface="Wingdings"/>
                  </a:rPr>
                  <a:t>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숙면시간이 줄어들어 낮은 피로회복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낮동안의 일상생활 지장 초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810" name="그룹 30"/>
            <p:cNvGrpSpPr/>
            <p:nvPr/>
          </p:nvGrpSpPr>
          <p:grpSpPr>
            <a:xfrm>
              <a:off x="181080" y="214200"/>
              <a:ext cx="8748720" cy="1071360"/>
              <a:chOff x="181080" y="214200"/>
              <a:chExt cx="8748720" cy="1071360"/>
            </a:xfrm>
          </p:grpSpPr>
          <p:sp>
            <p:nvSpPr>
              <p:cNvPr id="811" name="AutoShape 2"/>
              <p:cNvSpPr/>
              <p:nvPr/>
            </p:nvSpPr>
            <p:spPr>
              <a:xfrm>
                <a:off x="181080" y="642600"/>
                <a:ext cx="8677440" cy="642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12" name="AutoShape 7"/>
              <p:cNvSpPr/>
              <p:nvPr/>
            </p:nvSpPr>
            <p:spPr>
              <a:xfrm>
                <a:off x="285480" y="214200"/>
                <a:ext cx="385776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심리적 노화의 양상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13" name="Text Box 25"/>
              <p:cNvSpPr/>
              <p:nvPr/>
            </p:nvSpPr>
            <p:spPr>
              <a:xfrm>
                <a:off x="366480" y="814320"/>
                <a:ext cx="8563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심리적 노화를 감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지 및 정신기능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서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격변화로 구분 설명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814" name="AutoShape 29"/>
            <p:cNvSpPr/>
            <p:nvPr/>
          </p:nvSpPr>
          <p:spPr>
            <a:xfrm>
              <a:off x="214200" y="128556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감각기능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5" name="그룹 1"/>
          <p:cNvGrpSpPr/>
          <p:nvPr/>
        </p:nvGrpSpPr>
        <p:grpSpPr>
          <a:xfrm>
            <a:off x="108000" y="142920"/>
            <a:ext cx="8928000" cy="6278400"/>
            <a:chOff x="108000" y="142920"/>
            <a:chExt cx="8928000" cy="6278400"/>
          </a:xfrm>
        </p:grpSpPr>
        <p:sp>
          <p:nvSpPr>
            <p:cNvPr id="816" name="AutoShape 2"/>
            <p:cNvSpPr/>
            <p:nvPr/>
          </p:nvSpPr>
          <p:spPr>
            <a:xfrm>
              <a:off x="108000" y="714240"/>
              <a:ext cx="8892720" cy="56433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7" name="Text Box 25"/>
            <p:cNvSpPr/>
            <p:nvPr/>
          </p:nvSpPr>
          <p:spPr>
            <a:xfrm>
              <a:off x="323640" y="765000"/>
              <a:ext cx="8712360" cy="56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뇌</a:t>
              </a:r>
              <a:r>
                <a:rPr b="1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무게와 부피 감소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20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대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1,394g</a:t>
              </a:r>
              <a:r>
                <a:rPr b="0" lang="en-US" sz="1800" spc="-1" strike="noStrike">
                  <a:solidFill>
                    <a:srgbClr val="1d528d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90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대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1,161g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뉴런 퇴화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인반과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신경섬유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농축제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등으로 뇌기능 저하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특별한 뇌병변 없으면 적정 인지기능 수준 유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인지기능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사망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5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년 전부터 지적 능력 감소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Riegel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등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사망 직전 종말적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terminal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drop)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현상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Kleemeier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지능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18-25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세 이후 점진적 쇠퇴가 일반적이나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유동성 지능은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70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세 이후 급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하지만 결정성 지능은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60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세까지 꾸준히 증가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따라서 지능과 연령이 부적 관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라고 단정하기 어려우며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교육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생활경험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동년배집단효과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cohort effect)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검사시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건강상태 등에 따라 차이가 있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창의성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30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대 정점 이후 감소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60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대 이후에도 창의성 발휘 가능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기억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단기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5-10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초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최근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1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시간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며칠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장기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최고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한번도 회상해보지 않은 과거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기억으로 구분되며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년기에 단기 및 최근 기억이 약화됨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학습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일반적으로 감소되나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충분한 학습시간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구체적인 과제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결과에 대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즉각적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feedback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으로 보완이 가능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사고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/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문제해결능력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일반적으로 감소되지만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연령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교육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경험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지능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직업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동년배효과 등이 복합적으로 작용함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치매는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5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장에서 상세 설명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지혜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반응속도 저하 등을 경험을 통해 얻은 지혜로 보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영성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년기에 영성이 더욱 깊어지나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종교활동 참여도 감소로 감소하기도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8" name="AutoShape 29"/>
            <p:cNvSpPr/>
            <p:nvPr/>
          </p:nvSpPr>
          <p:spPr>
            <a:xfrm>
              <a:off x="214200" y="142920"/>
              <a:ext cx="857412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20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6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600" spc="-1" strike="noStrike">
                  <a:solidFill>
                    <a:srgbClr val="c00000"/>
                  </a:solidFill>
                  <a:latin typeface="HY강B"/>
                </a:rPr>
                <a:t>인지 및 정신기능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9" name="그룹 1"/>
          <p:cNvGrpSpPr/>
          <p:nvPr/>
        </p:nvGrpSpPr>
        <p:grpSpPr>
          <a:xfrm>
            <a:off x="109440" y="249120"/>
            <a:ext cx="8820360" cy="6194520"/>
            <a:chOff x="109440" y="249120"/>
            <a:chExt cx="8820360" cy="6194520"/>
          </a:xfrm>
        </p:grpSpPr>
        <p:grpSp>
          <p:nvGrpSpPr>
            <p:cNvPr id="820" name="그룹 6"/>
            <p:cNvGrpSpPr/>
            <p:nvPr/>
          </p:nvGrpSpPr>
          <p:grpSpPr>
            <a:xfrm>
              <a:off x="109440" y="891720"/>
              <a:ext cx="8820360" cy="5551920"/>
              <a:chOff x="109440" y="891720"/>
              <a:chExt cx="8820360" cy="5551920"/>
            </a:xfrm>
          </p:grpSpPr>
          <p:sp>
            <p:nvSpPr>
              <p:cNvPr id="821" name="AutoShape 2"/>
              <p:cNvSpPr/>
              <p:nvPr/>
            </p:nvSpPr>
            <p:spPr>
              <a:xfrm>
                <a:off x="109440" y="891720"/>
                <a:ext cx="8820360" cy="5551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22" name="Text Box 25"/>
              <p:cNvSpPr/>
              <p:nvPr/>
            </p:nvSpPr>
            <p:spPr>
              <a:xfrm>
                <a:off x="356760" y="1034640"/>
                <a:ext cx="8501400" cy="538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정체감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위기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은퇴로 자아기반 와해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↔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유지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은퇴 후 다른 역할로 보완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감정표현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감정표현능력 저하되나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사회문화요인이 더 큰 영향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자아통합 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vs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절망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(Erikson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358920">
                  <a:lnSpc>
                    <a:spcPct val="100000"/>
                  </a:lnSpc>
                  <a:spcBef>
                    <a:spcPts val="1188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자아통합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인생에 대해 만족하고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죽음을 인정하고 기다림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358920">
                  <a:lnSpc>
                    <a:spcPct val="100000"/>
                  </a:lnSpc>
                  <a:spcBef>
                    <a:spcPts val="601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절망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삶을 후회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불만족하며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죽음 수용 못하고 우울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타인 원망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죽음에 대한 태도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자아통합 성취 정도에 따라 차이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권장도서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인생수업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성격변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유지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(Kogan)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↔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변화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(Ruth)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와 관련된 주장이 상반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358920">
                  <a:lnSpc>
                    <a:spcPct val="100000"/>
                  </a:lnSpc>
                  <a:spcBef>
                    <a:spcPts val="1188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노년기 성격변화의 특징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내향성 및 수동성 증가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조심성 증가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경직성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35892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증가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우울성향 증가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생에 대한 회상의 증가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친근한 사물에 대한 애착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35892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증가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성역할 지각의 변화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의존성 증가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시간 전망의 변화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유산을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35892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남기려는 경향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358920">
                  <a:lnSpc>
                    <a:spcPct val="100000"/>
                  </a:lnSpc>
                  <a:spcBef>
                    <a:spcPts val="1188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Richard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의 노년기 성격유형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성숙형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방어형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은둔형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분노형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자학형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35892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2-3 </a:t>
                </a:r>
                <a:r>
                  <a:rPr b="0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823" name="AutoShape 29"/>
            <p:cNvSpPr/>
            <p:nvPr/>
          </p:nvSpPr>
          <p:spPr>
            <a:xfrm>
              <a:off x="214200" y="249120"/>
              <a:ext cx="857304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20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6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600" spc="-1" strike="noStrike">
                  <a:solidFill>
                    <a:srgbClr val="c00000"/>
                  </a:solidFill>
                  <a:latin typeface="HY강B"/>
                </a:rPr>
                <a:t>정서 및 성격변화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4" name="Picture 2" descr="C:\DOCUME~1\USER\LOCALS~1\Temp\UNI0000080471b7.gif"/>
          <p:cNvPicPr/>
          <p:nvPr/>
        </p:nvPicPr>
        <p:blipFill>
          <a:blip r:embed="rId1"/>
          <a:stretch/>
        </p:blipFill>
        <p:spPr>
          <a:xfrm>
            <a:off x="7880400" y="0"/>
            <a:ext cx="1263600" cy="1143000"/>
          </a:xfrm>
          <a:prstGeom prst="rect">
            <a:avLst/>
          </a:prstGeom>
          <a:ln w="0">
            <a:noFill/>
          </a:ln>
        </p:spPr>
      </p:pic>
      <p:grpSp>
        <p:nvGrpSpPr>
          <p:cNvPr id="825" name="그룹 1"/>
          <p:cNvGrpSpPr/>
          <p:nvPr/>
        </p:nvGrpSpPr>
        <p:grpSpPr>
          <a:xfrm>
            <a:off x="285840" y="285840"/>
            <a:ext cx="8647200" cy="6000840"/>
            <a:chOff x="285840" y="285840"/>
            <a:chExt cx="8647200" cy="6000840"/>
          </a:xfrm>
        </p:grpSpPr>
        <p:sp>
          <p:nvSpPr>
            <p:cNvPr id="826" name="AutoShape 4"/>
            <p:cNvSpPr/>
            <p:nvPr/>
          </p:nvSpPr>
          <p:spPr>
            <a:xfrm>
              <a:off x="285840" y="285840"/>
              <a:ext cx="5087880" cy="509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0" lang="ko-KR" sz="2500" spc="-1" strike="noStrike">
                  <a:solidFill>
                    <a:srgbClr val="ffffff"/>
                  </a:solidFill>
                  <a:latin typeface="HY강B"/>
                </a:rPr>
                <a:t>심리적 노화의 신화와 사실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7" name="AutoShape 2"/>
            <p:cNvSpPr/>
            <p:nvPr/>
          </p:nvSpPr>
          <p:spPr>
            <a:xfrm>
              <a:off x="285840" y="983520"/>
              <a:ext cx="8643960" cy="5303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8" name="Text Box 6"/>
            <p:cNvSpPr/>
            <p:nvPr/>
          </p:nvSpPr>
          <p:spPr>
            <a:xfrm>
              <a:off x="428400" y="1146960"/>
              <a:ext cx="8504640" cy="50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하루 종일 잠만 잔다→ 수면부족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낮시간의 지루함 해소 목적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2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융통성 없고 고집스러움 → 더 넓게 보고 사고함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지혜의 표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3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평화롭고 평안한 시기 → 관계위축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지위상실 등의 스트레스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4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기억저하와 치매 → 단기기억상실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인의 치매 유병률 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10.33%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5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학습이 어렵고 지능저하 → 구체적이고 흥미로운 과제와 충분한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시간과 동기를 부여하면 학습능력 상승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결정성 지능은 높아짐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6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문제해결 능력저하 → 단순히 노화에 의한 능력 저하는 아님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7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젊은이보다 죽음을 두려워함 → 대부분 죽음을 편안히 수용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8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의존적임 → 대부분의 노인들은 자립적 생활 가능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9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종교에 몰입 → 종교참여빈도 높아지고 영성이 깊어지는 것이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일반적일지라도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종교에 몰입하지는 않음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그룹 13"/>
          <p:cNvGrpSpPr/>
          <p:nvPr/>
        </p:nvGrpSpPr>
        <p:grpSpPr>
          <a:xfrm>
            <a:off x="0" y="0"/>
            <a:ext cx="9144000" cy="6215040"/>
            <a:chOff x="0" y="0"/>
            <a:chExt cx="9144000" cy="6215040"/>
          </a:xfrm>
        </p:grpSpPr>
        <p:grpSp>
          <p:nvGrpSpPr>
            <p:cNvPr id="830" name="그룹 20"/>
            <p:cNvGrpSpPr/>
            <p:nvPr/>
          </p:nvGrpSpPr>
          <p:grpSpPr>
            <a:xfrm>
              <a:off x="0" y="0"/>
              <a:ext cx="9144000" cy="3857760"/>
              <a:chOff x="0" y="0"/>
              <a:chExt cx="9144000" cy="3857760"/>
            </a:xfrm>
          </p:grpSpPr>
          <p:sp>
            <p:nvSpPr>
              <p:cNvPr id="831" name="AutoShape 2"/>
              <p:cNvSpPr/>
              <p:nvPr/>
            </p:nvSpPr>
            <p:spPr>
              <a:xfrm>
                <a:off x="285480" y="1643040"/>
                <a:ext cx="8715600" cy="22147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832" name="그림 3" descr="title.jpg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0" cy="114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3" name="Rectangle 2"/>
              <p:cNvSpPr/>
              <p:nvPr/>
            </p:nvSpPr>
            <p:spPr>
              <a:xfrm>
                <a:off x="1428480" y="285480"/>
                <a:ext cx="7286760" cy="64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400" spc="-1" strike="noStrike">
                    <a:solidFill>
                      <a:srgbClr val="ffffff"/>
                    </a:solidFill>
                    <a:latin typeface="HY강B"/>
                  </a:rPr>
                  <a:t>4.</a:t>
                </a:r>
                <a:r>
                  <a:rPr b="0" lang="ko-KR" sz="3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0" lang="ko-KR" sz="3400" spc="-1" strike="noStrike">
                    <a:solidFill>
                      <a:srgbClr val="ffffff"/>
                    </a:solidFill>
                    <a:latin typeface="HY강B"/>
                  </a:rPr>
                  <a:t>사회적 노화</a:t>
                </a:r>
                <a:endParaRPr b="0" lang="en-US" sz="3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834" name="그룹 15"/>
            <p:cNvGrpSpPr/>
            <p:nvPr/>
          </p:nvGrpSpPr>
          <p:grpSpPr>
            <a:xfrm>
              <a:off x="285480" y="1145880"/>
              <a:ext cx="8715600" cy="5069160"/>
              <a:chOff x="285480" y="1145880"/>
              <a:chExt cx="8715600" cy="5069160"/>
            </a:xfrm>
          </p:grpSpPr>
          <p:sp>
            <p:nvSpPr>
              <p:cNvPr id="835" name="AutoShape 2"/>
              <p:cNvSpPr/>
              <p:nvPr/>
            </p:nvSpPr>
            <p:spPr>
              <a:xfrm>
                <a:off x="285480" y="4643280"/>
                <a:ext cx="8715600" cy="1571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836" name="그룹 10"/>
              <p:cNvGrpSpPr/>
              <p:nvPr/>
            </p:nvGrpSpPr>
            <p:grpSpPr>
              <a:xfrm>
                <a:off x="356760" y="1145880"/>
                <a:ext cx="8644320" cy="2676960"/>
                <a:chOff x="356760" y="1145880"/>
                <a:chExt cx="8644320" cy="2676960"/>
              </a:xfrm>
            </p:grpSpPr>
            <p:sp>
              <p:nvSpPr>
                <p:cNvPr id="837" name="AutoShape 4"/>
                <p:cNvSpPr/>
                <p:nvPr/>
              </p:nvSpPr>
              <p:spPr>
                <a:xfrm>
                  <a:off x="356760" y="1145880"/>
                  <a:ext cx="4643640" cy="500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1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사회적 노화의 개념과 특성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838" name="Text Box 6"/>
                <p:cNvSpPr/>
                <p:nvPr/>
              </p:nvSpPr>
              <p:spPr>
                <a:xfrm>
                  <a:off x="356760" y="1785600"/>
                  <a:ext cx="8644320" cy="203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년기로의 전환과 함께 나타나는 개인수준의 사회적 상황변화 즉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적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관계망과 상호작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규범과 사회화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지위와 역할의 변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영역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개인수준의 사회적 상황변화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+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가 노인에 미치는 영향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+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인구로 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인해 나타나는 사회적 변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일반적으로 개인 수준의 사회적 상황변화라는 협의의 개념을 중심으로 논의함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9" name="그룹 10"/>
              <p:cNvGrpSpPr/>
              <p:nvPr/>
            </p:nvGrpSpPr>
            <p:grpSpPr>
              <a:xfrm>
                <a:off x="356760" y="4143240"/>
                <a:ext cx="8644320" cy="2031120"/>
                <a:chOff x="356760" y="4143240"/>
                <a:chExt cx="8644320" cy="2031120"/>
              </a:xfrm>
            </p:grpSpPr>
            <p:sp>
              <p:nvSpPr>
                <p:cNvPr id="840" name="AutoShape 4"/>
                <p:cNvSpPr/>
                <p:nvPr/>
              </p:nvSpPr>
              <p:spPr>
                <a:xfrm>
                  <a:off x="356760" y="4143240"/>
                  <a:ext cx="4643640" cy="4996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2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사회적 노화의 주요 이론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841" name="Text Box 6"/>
                <p:cNvSpPr/>
                <p:nvPr/>
              </p:nvSpPr>
              <p:spPr>
                <a:xfrm>
                  <a:off x="356760" y="4754160"/>
                  <a:ext cx="8644320" cy="14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활동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분리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지속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역할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스트레스 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생활과정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현대화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구조지체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낙인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사회와해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하위문화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연령계층화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세계체제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정치경제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교환이론 등 매우 다양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2-4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2" name="그룹 1"/>
          <p:cNvGrpSpPr/>
          <p:nvPr/>
        </p:nvGrpSpPr>
        <p:grpSpPr>
          <a:xfrm>
            <a:off x="108000" y="142920"/>
            <a:ext cx="9288360" cy="6366960"/>
            <a:chOff x="108000" y="142920"/>
            <a:chExt cx="9288360" cy="6366960"/>
          </a:xfrm>
        </p:grpSpPr>
        <p:sp>
          <p:nvSpPr>
            <p:cNvPr id="843" name="AutoShape 4"/>
            <p:cNvSpPr/>
            <p:nvPr/>
          </p:nvSpPr>
          <p:spPr>
            <a:xfrm>
              <a:off x="285480" y="142920"/>
              <a:ext cx="442908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1" lang="ko-KR" sz="2600" spc="-1" strike="noStrike">
                  <a:solidFill>
                    <a:srgbClr val="ffffff"/>
                  </a:solidFill>
                  <a:latin typeface="HY강B"/>
                </a:rPr>
                <a:t>사회적 노화의 양상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4" name="AutoShape 2"/>
            <p:cNvSpPr/>
            <p:nvPr/>
          </p:nvSpPr>
          <p:spPr>
            <a:xfrm>
              <a:off x="214560" y="692640"/>
              <a:ext cx="8819640" cy="702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5" name="Text Box 6"/>
            <p:cNvSpPr/>
            <p:nvPr/>
          </p:nvSpPr>
          <p:spPr>
            <a:xfrm>
              <a:off x="250560" y="660240"/>
              <a:ext cx="9145800" cy="78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관계망과 상호작용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연령규범과 사회화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지위와 역할변화로 구분 설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제 </a:t>
              </a:r>
              <a:r>
                <a:rPr b="0" lang="en-US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2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부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에서 상세히 논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846" name="그룹 6"/>
            <p:cNvGrpSpPr/>
            <p:nvPr/>
          </p:nvGrpSpPr>
          <p:grpSpPr>
            <a:xfrm>
              <a:off x="108000" y="1412640"/>
              <a:ext cx="8893080" cy="5097240"/>
              <a:chOff x="108000" y="1412640"/>
              <a:chExt cx="8893080" cy="5097240"/>
            </a:xfrm>
          </p:grpSpPr>
          <p:grpSp>
            <p:nvGrpSpPr>
              <p:cNvPr id="847" name="그룹 6"/>
              <p:cNvGrpSpPr/>
              <p:nvPr/>
            </p:nvGrpSpPr>
            <p:grpSpPr>
              <a:xfrm>
                <a:off x="108000" y="1916640"/>
                <a:ext cx="8893080" cy="4593240"/>
                <a:chOff x="108000" y="1916640"/>
                <a:chExt cx="8893080" cy="4593240"/>
              </a:xfrm>
            </p:grpSpPr>
            <p:sp>
              <p:nvSpPr>
                <p:cNvPr id="848" name="AutoShape 2"/>
                <p:cNvSpPr/>
                <p:nvPr/>
              </p:nvSpPr>
              <p:spPr>
                <a:xfrm>
                  <a:off x="108000" y="1916640"/>
                  <a:ext cx="8819640" cy="4529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849" name="Text Box 25"/>
                <p:cNvSpPr/>
                <p:nvPr/>
              </p:nvSpPr>
              <p:spPr>
                <a:xfrm>
                  <a:off x="357120" y="1925280"/>
                  <a:ext cx="8643960" cy="45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퇴직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배우자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친구의 상실 등으로 관계망 축소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1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차 집단 그 중에서도 가족이나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녀가 사회적 관계의 중심이 됨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부부관계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lvl="1" marL="216000">
                    <a:lnSpc>
                      <a:spcPct val="100000"/>
                    </a:lnSpc>
                    <a:spcBef>
                      <a:spcPts val="601"/>
                    </a:spcBef>
                    <a:buClr>
                      <a:srgbClr val="174578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수명연장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녀 양육기간 감소로 노후 여가시간과 노부부시기 연장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lvl="1" marL="216000">
                    <a:lnSpc>
                      <a:spcPct val="100000"/>
                    </a:lnSpc>
                    <a:spcBef>
                      <a:spcPts val="601"/>
                    </a:spcBef>
                    <a:buClr>
                      <a:srgbClr val="174578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부부관계의 결정요인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건강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제 자립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활범위조정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양성적 역할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lvl="1" marL="216000">
                    <a:lnSpc>
                      <a:spcPct val="100000"/>
                    </a:lnSpc>
                    <a:spcBef>
                      <a:spcPts val="601"/>
                    </a:spcBef>
                    <a:buClr>
                      <a:srgbClr val="174578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배우자 상실의 영향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우울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비통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죄의식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활동 관심저하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lvl="1" marL="216000">
                    <a:lnSpc>
                      <a:spcPct val="100000"/>
                    </a:lnSpc>
                    <a:spcBef>
                      <a:spcPts val="601"/>
                    </a:spcBef>
                    <a:buClr>
                      <a:srgbClr val="174578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황혼이혼과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년기 재혼의 증가 추이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buSzPct val="10279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부모</a:t>
                  </a:r>
                  <a:r>
                    <a:rPr b="0" lang="en-US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-</a:t>
                  </a:r>
                  <a:r>
                    <a:rPr b="0" lang="ko-KR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자녀관계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lvl="1" marL="216000">
                    <a:lnSpc>
                      <a:spcPct val="100000"/>
                    </a:lnSpc>
                    <a:spcBef>
                      <a:spcPts val="1125"/>
                    </a:spcBef>
                    <a:buClr>
                      <a:srgbClr val="174578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별거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연락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/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접촉빈도 감소 등의 양적 변화와 아울러 정서적 유대관계도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lvl="1" marL="216000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약화되는 추세임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lvl="1" marL="216000">
                    <a:lnSpc>
                      <a:spcPct val="100000"/>
                    </a:lnSpc>
                    <a:spcBef>
                      <a:spcPts val="601"/>
                    </a:spcBef>
                    <a:buClr>
                      <a:srgbClr val="174578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empty nest period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를 잘 극복하기 위해서 건강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소득유지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녀와 상호지원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lvl="1" marL="216000"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관계 형성이 필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0" name="AutoShape 29"/>
              <p:cNvSpPr/>
              <p:nvPr/>
            </p:nvSpPr>
            <p:spPr>
              <a:xfrm>
                <a:off x="142920" y="141264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사회적 관계망과의 상호작용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1" name="그룹 9"/>
          <p:cNvGrpSpPr/>
          <p:nvPr/>
        </p:nvGrpSpPr>
        <p:grpSpPr>
          <a:xfrm>
            <a:off x="142920" y="77760"/>
            <a:ext cx="8891640" cy="6280200"/>
            <a:chOff x="142920" y="77760"/>
            <a:chExt cx="8891640" cy="6280200"/>
          </a:xfrm>
        </p:grpSpPr>
        <p:grpSp>
          <p:nvGrpSpPr>
            <p:cNvPr id="852" name="그룹 6"/>
            <p:cNvGrpSpPr/>
            <p:nvPr/>
          </p:nvGrpSpPr>
          <p:grpSpPr>
            <a:xfrm>
              <a:off x="214200" y="77760"/>
              <a:ext cx="8820360" cy="2637360"/>
              <a:chOff x="214200" y="77760"/>
              <a:chExt cx="8820360" cy="2637360"/>
            </a:xfrm>
          </p:grpSpPr>
          <p:sp>
            <p:nvSpPr>
              <p:cNvPr id="853" name="AutoShape 2"/>
              <p:cNvSpPr/>
              <p:nvPr/>
            </p:nvSpPr>
            <p:spPr>
              <a:xfrm>
                <a:off x="214200" y="142920"/>
                <a:ext cx="8820360" cy="25722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54" name="Text Box 25"/>
              <p:cNvSpPr/>
              <p:nvPr/>
            </p:nvSpPr>
            <p:spPr>
              <a:xfrm>
                <a:off x="356760" y="77760"/>
                <a:ext cx="8644320" cy="261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조손관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16000"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문화전수와 손자녀 교육 기능 축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16000"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온화하고 관대해지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원거리형과 재미추구형 조손관계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친구관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16000"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퇴직 등으로 기존 사회관계의 축소에 따라 친구관계가 주요 자아지지 기반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16000"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친구 수 줄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새로운 친구 사귀기 어렵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웃과 중복되는 경향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16000"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친구관계 유지 조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적 안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동일지역 장기 거주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855" name="그룹 11"/>
            <p:cNvGrpSpPr/>
            <p:nvPr/>
          </p:nvGrpSpPr>
          <p:grpSpPr>
            <a:xfrm>
              <a:off x="142920" y="2675160"/>
              <a:ext cx="8891640" cy="3682800"/>
              <a:chOff x="142920" y="2675160"/>
              <a:chExt cx="8891640" cy="3682800"/>
            </a:xfrm>
          </p:grpSpPr>
          <p:grpSp>
            <p:nvGrpSpPr>
              <p:cNvPr id="856" name="그룹 6"/>
              <p:cNvGrpSpPr/>
              <p:nvPr/>
            </p:nvGrpSpPr>
            <p:grpSpPr>
              <a:xfrm>
                <a:off x="214200" y="3206880"/>
                <a:ext cx="8820360" cy="3151080"/>
                <a:chOff x="214200" y="3206880"/>
                <a:chExt cx="8820360" cy="3151080"/>
              </a:xfrm>
            </p:grpSpPr>
            <p:sp>
              <p:nvSpPr>
                <p:cNvPr id="857" name="AutoShape 2"/>
                <p:cNvSpPr/>
                <p:nvPr/>
              </p:nvSpPr>
              <p:spPr>
                <a:xfrm>
                  <a:off x="214200" y="3206880"/>
                  <a:ext cx="8820360" cy="31510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858" name="Text Box 25"/>
                <p:cNvSpPr/>
                <p:nvPr/>
              </p:nvSpPr>
              <p:spPr>
                <a:xfrm>
                  <a:off x="356760" y="3246120"/>
                  <a:ext cx="8644320" cy="30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화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상호작용을 통해 규범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가치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역할기대 등을 학습하고 사회생활에 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필요한 기술을 발전시키는 사회적 학습과정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는 젊은 층의 사회화에 더욱 주력함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년기의 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age norm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에 대한 합의가 이루어지지 않고 있으며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에 대한 긍정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-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부정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시각이 혼재함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.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다만 사회에서의 분리보다는 활기찬 노화를 선호하는 방향으로 전환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예비적 사회화 없이 노년기에 진입하므로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후적응에 문제를 경험하고 사회적 소외 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험 가능성 높아짐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들은 ‘나이값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(acting his age)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도 못하는 사람’으로 취급되며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비난과 차별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을 받을 가능성이 높아짐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9" name="AutoShape 29"/>
              <p:cNvSpPr/>
              <p:nvPr/>
            </p:nvSpPr>
            <p:spPr>
              <a:xfrm>
                <a:off x="142920" y="267516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연령규범과 사회화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grpSp>
        <p:nvGrpSpPr>
          <p:cNvPr id="668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669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0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71" name="그룹 45"/>
          <p:cNvGrpSpPr/>
          <p:nvPr/>
        </p:nvGrpSpPr>
        <p:grpSpPr>
          <a:xfrm>
            <a:off x="0" y="1211400"/>
            <a:ext cx="8842320" cy="5360760"/>
            <a:chOff x="0" y="1211400"/>
            <a:chExt cx="8842320" cy="5360760"/>
          </a:xfrm>
        </p:grpSpPr>
        <p:sp>
          <p:nvSpPr>
            <p:cNvPr id="672" name="Rectangle 42"/>
            <p:cNvSpPr/>
            <p:nvPr/>
          </p:nvSpPr>
          <p:spPr>
            <a:xfrm>
              <a:off x="6037200" y="6259680"/>
              <a:ext cx="1657080" cy="31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3" name="Line 9"/>
            <p:cNvSpPr/>
            <p:nvPr/>
          </p:nvSpPr>
          <p:spPr>
            <a:xfrm flipV="1">
              <a:off x="0" y="2928960"/>
              <a:ext cx="1000080" cy="107136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4" name="Line 12"/>
            <p:cNvSpPr/>
            <p:nvPr/>
          </p:nvSpPr>
          <p:spPr>
            <a:xfrm flipV="1">
              <a:off x="0" y="3974760"/>
              <a:ext cx="1357200" cy="4572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5" name="Line 13"/>
            <p:cNvSpPr/>
            <p:nvPr/>
          </p:nvSpPr>
          <p:spPr>
            <a:xfrm>
              <a:off x="0" y="4000680"/>
              <a:ext cx="857160" cy="193500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6" name="Line 64"/>
            <p:cNvSpPr/>
            <p:nvPr/>
          </p:nvSpPr>
          <p:spPr>
            <a:xfrm>
              <a:off x="0" y="3994200"/>
              <a:ext cx="857160" cy="93492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7" name="Line 9"/>
            <p:cNvSpPr/>
            <p:nvPr/>
          </p:nvSpPr>
          <p:spPr>
            <a:xfrm flipV="1">
              <a:off x="0" y="2214720"/>
              <a:ext cx="928440" cy="163656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8" name="AutoShape 4"/>
            <p:cNvSpPr/>
            <p:nvPr/>
          </p:nvSpPr>
          <p:spPr>
            <a:xfrm>
              <a:off x="1622160" y="1824120"/>
              <a:ext cx="7199280" cy="6696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700" spc="-1" strike="noStrike">
                  <a:solidFill>
                    <a:srgbClr val="ffffff"/>
                  </a:solidFill>
                  <a:latin typeface="HY강B"/>
                </a:rPr>
                <a:t>노화의 개념과 영역 이해</a:t>
              </a:r>
              <a:endParaRPr b="0" lang="en-US" sz="2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79" name="Group 14"/>
            <p:cNvGrpSpPr/>
            <p:nvPr/>
          </p:nvGrpSpPr>
          <p:grpSpPr>
            <a:xfrm>
              <a:off x="642960" y="1843200"/>
              <a:ext cx="856800" cy="714600"/>
              <a:chOff x="642960" y="1843200"/>
              <a:chExt cx="856800" cy="714600"/>
            </a:xfrm>
          </p:grpSpPr>
          <p:sp>
            <p:nvSpPr>
              <p:cNvPr id="680" name="Oval 15"/>
              <p:cNvSpPr/>
              <p:nvPr/>
            </p:nvSpPr>
            <p:spPr>
              <a:xfrm>
                <a:off x="664200" y="184320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81" name="Oval 16"/>
              <p:cNvSpPr/>
              <p:nvPr/>
            </p:nvSpPr>
            <p:spPr>
              <a:xfrm>
                <a:off x="664200" y="184500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682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184716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3" name="Text Box 18"/>
              <p:cNvSpPr/>
              <p:nvPr/>
            </p:nvSpPr>
            <p:spPr>
              <a:xfrm>
                <a:off x="642960" y="184932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84" name="Group 14"/>
            <p:cNvGrpSpPr/>
            <p:nvPr/>
          </p:nvGrpSpPr>
          <p:grpSpPr>
            <a:xfrm>
              <a:off x="642960" y="2780280"/>
              <a:ext cx="856800" cy="714600"/>
              <a:chOff x="642960" y="2780280"/>
              <a:chExt cx="856800" cy="714600"/>
            </a:xfrm>
          </p:grpSpPr>
          <p:sp>
            <p:nvSpPr>
              <p:cNvPr id="685" name="Oval 15"/>
              <p:cNvSpPr/>
              <p:nvPr/>
            </p:nvSpPr>
            <p:spPr>
              <a:xfrm>
                <a:off x="664200" y="278028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86" name="Oval 16"/>
              <p:cNvSpPr/>
              <p:nvPr/>
            </p:nvSpPr>
            <p:spPr>
              <a:xfrm>
                <a:off x="664200" y="278208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687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278424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8" name="Text Box 18"/>
              <p:cNvSpPr/>
              <p:nvPr/>
            </p:nvSpPr>
            <p:spPr>
              <a:xfrm>
                <a:off x="642960" y="278424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89" name="Group 14"/>
            <p:cNvGrpSpPr/>
            <p:nvPr/>
          </p:nvGrpSpPr>
          <p:grpSpPr>
            <a:xfrm>
              <a:off x="642960" y="3718440"/>
              <a:ext cx="856800" cy="714600"/>
              <a:chOff x="642960" y="3718440"/>
              <a:chExt cx="856800" cy="714600"/>
            </a:xfrm>
          </p:grpSpPr>
          <p:sp>
            <p:nvSpPr>
              <p:cNvPr id="690" name="Oval 15"/>
              <p:cNvSpPr/>
              <p:nvPr/>
            </p:nvSpPr>
            <p:spPr>
              <a:xfrm>
                <a:off x="664200" y="37184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1" name="Oval 16"/>
              <p:cNvSpPr/>
              <p:nvPr/>
            </p:nvSpPr>
            <p:spPr>
              <a:xfrm>
                <a:off x="664200" y="372024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692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7224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3" name="Text Box 18"/>
              <p:cNvSpPr/>
              <p:nvPr/>
            </p:nvSpPr>
            <p:spPr>
              <a:xfrm>
                <a:off x="642960" y="372240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94" name="Group 14"/>
            <p:cNvGrpSpPr/>
            <p:nvPr/>
          </p:nvGrpSpPr>
          <p:grpSpPr>
            <a:xfrm>
              <a:off x="642960" y="4655160"/>
              <a:ext cx="856800" cy="714600"/>
              <a:chOff x="642960" y="4655160"/>
              <a:chExt cx="856800" cy="714600"/>
            </a:xfrm>
          </p:grpSpPr>
          <p:sp>
            <p:nvSpPr>
              <p:cNvPr id="695" name="Oval 15"/>
              <p:cNvSpPr/>
              <p:nvPr/>
            </p:nvSpPr>
            <p:spPr>
              <a:xfrm>
                <a:off x="664200" y="465516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6" name="Oval 16"/>
              <p:cNvSpPr/>
              <p:nvPr/>
            </p:nvSpPr>
            <p:spPr>
              <a:xfrm>
                <a:off x="664200" y="465696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697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6591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8" name="Text Box 18"/>
              <p:cNvSpPr/>
              <p:nvPr/>
            </p:nvSpPr>
            <p:spPr>
              <a:xfrm>
                <a:off x="642960" y="465912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99" name="Group 14"/>
            <p:cNvGrpSpPr/>
            <p:nvPr/>
          </p:nvGrpSpPr>
          <p:grpSpPr>
            <a:xfrm>
              <a:off x="642960" y="5571360"/>
              <a:ext cx="856800" cy="714600"/>
              <a:chOff x="642960" y="5571360"/>
              <a:chExt cx="856800" cy="714600"/>
            </a:xfrm>
          </p:grpSpPr>
          <p:sp>
            <p:nvSpPr>
              <p:cNvPr id="700" name="Oval 15"/>
              <p:cNvSpPr/>
              <p:nvPr/>
            </p:nvSpPr>
            <p:spPr>
              <a:xfrm>
                <a:off x="664200" y="557136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01" name="Oval 16"/>
              <p:cNvSpPr/>
              <p:nvPr/>
            </p:nvSpPr>
            <p:spPr>
              <a:xfrm>
                <a:off x="664200" y="557316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702" name="Picture 17" descr="알"/>
              <p:cNvPicPr/>
              <p:nvPr/>
            </p:nvPicPr>
            <p:blipFill>
              <a:blip r:embed="rId6"/>
              <a:stretch/>
            </p:blipFill>
            <p:spPr>
              <a:xfrm>
                <a:off x="713160" y="55753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3" name="Text Box 18"/>
              <p:cNvSpPr/>
              <p:nvPr/>
            </p:nvSpPr>
            <p:spPr>
              <a:xfrm>
                <a:off x="642960" y="557532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Ⅴ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704" name="AutoShape 4"/>
            <p:cNvSpPr/>
            <p:nvPr/>
          </p:nvSpPr>
          <p:spPr>
            <a:xfrm>
              <a:off x="1643040" y="2760480"/>
              <a:ext cx="7199280" cy="6714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700" spc="-1" strike="noStrike">
                  <a:solidFill>
                    <a:srgbClr val="ffffff"/>
                  </a:solidFill>
                  <a:latin typeface="HY강B"/>
                </a:rPr>
                <a:t>노화의 기초이론 학습</a:t>
              </a:r>
              <a:endParaRPr b="0" lang="en-US" sz="2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5" name="AutoShape 4"/>
            <p:cNvSpPr/>
            <p:nvPr/>
          </p:nvSpPr>
          <p:spPr>
            <a:xfrm>
              <a:off x="1622160" y="3697200"/>
              <a:ext cx="7220160" cy="67464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노화의 결과로 인한 노년기 삶의 변화 양상 이해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6" name="AutoShape 4"/>
            <p:cNvSpPr/>
            <p:nvPr/>
          </p:nvSpPr>
          <p:spPr>
            <a:xfrm>
              <a:off x="1643040" y="4633920"/>
              <a:ext cx="7199280" cy="6775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700" spc="-1" strike="noStrike">
                  <a:solidFill>
                    <a:srgbClr val="ffffff"/>
                  </a:solidFill>
                  <a:latin typeface="HY강B"/>
                </a:rPr>
                <a:t>노화 영역별 사실</a:t>
              </a:r>
              <a:r>
                <a:rPr b="0" lang="en-US" sz="2700" spc="-1" strike="noStrike">
                  <a:solidFill>
                    <a:srgbClr val="ffffff"/>
                  </a:solidFill>
                  <a:latin typeface="HY강B"/>
                </a:rPr>
                <a:t>(fact)</a:t>
              </a:r>
              <a:r>
                <a:rPr b="0" lang="ko-KR" sz="2700" spc="-1" strike="noStrike">
                  <a:solidFill>
                    <a:srgbClr val="ffffff"/>
                  </a:solidFill>
                  <a:latin typeface="HY강B"/>
                </a:rPr>
                <a:t>과 신화</a:t>
              </a:r>
              <a:r>
                <a:rPr b="0" lang="en-US" sz="2700" spc="-1" strike="noStrike">
                  <a:solidFill>
                    <a:srgbClr val="ffffff"/>
                  </a:solidFill>
                  <a:latin typeface="HY강B"/>
                </a:rPr>
                <a:t>(myth) </a:t>
              </a:r>
              <a:r>
                <a:rPr b="0" lang="ko-KR" sz="2700" spc="-1" strike="noStrike">
                  <a:solidFill>
                    <a:srgbClr val="ffffff"/>
                  </a:solidFill>
                  <a:latin typeface="HY강B"/>
                </a:rPr>
                <a:t>이해</a:t>
              </a:r>
              <a:endParaRPr b="0" lang="en-US" sz="2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7" name="AutoShape 4"/>
            <p:cNvSpPr/>
            <p:nvPr/>
          </p:nvSpPr>
          <p:spPr>
            <a:xfrm>
              <a:off x="1643040" y="5570640"/>
              <a:ext cx="7199280" cy="68076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b007f"/>
                </a:gs>
                <a:gs pos="100000">
                  <a:srgbClr val="a100db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700" spc="-1" strike="noStrike">
                  <a:solidFill>
                    <a:srgbClr val="ffffff"/>
                  </a:solidFill>
                  <a:latin typeface="HY강B"/>
                </a:rPr>
                <a:t>성공적 노화의 구성요인과 촉진방안 이해</a:t>
              </a:r>
              <a:endParaRPr b="0" lang="en-US" sz="2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8" name="AutoShape 7"/>
            <p:cNvSpPr/>
            <p:nvPr/>
          </p:nvSpPr>
          <p:spPr>
            <a:xfrm>
              <a:off x="250560" y="1211400"/>
              <a:ext cx="1606320" cy="43164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9e3483"/>
                </a:gs>
                <a:gs pos="50000">
                  <a:srgbClr val="ef4fc5"/>
                </a:gs>
                <a:gs pos="100000">
                  <a:srgbClr val="9e3483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200" spc="-1" strike="noStrike">
                  <a:solidFill>
                    <a:srgbClr val="ffffff"/>
                  </a:solidFill>
                  <a:latin typeface="HY강B"/>
                </a:rPr>
                <a:t>학습목표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800" spc="-1" strike="noStrike">
                <a:solidFill>
                  <a:srgbClr val="ffffff"/>
                </a:solidFill>
                <a:latin typeface="HY강B"/>
                <a:ea typeface="HY강B"/>
              </a:rPr>
              <a:t>2 </a:t>
            </a: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장 노화의 과정과 결과</a:t>
            </a:r>
            <a:endParaRPr b="0" lang="en-US" sz="38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0" name="Group 7"/>
          <p:cNvGrpSpPr/>
          <p:nvPr/>
        </p:nvGrpSpPr>
        <p:grpSpPr>
          <a:xfrm>
            <a:off x="71280" y="214200"/>
            <a:ext cx="9001440" cy="6000840"/>
            <a:chOff x="71280" y="214200"/>
            <a:chExt cx="9001440" cy="6000840"/>
          </a:xfrm>
        </p:grpSpPr>
        <p:sp>
          <p:nvSpPr>
            <p:cNvPr id="861" name="AutoShape 2"/>
            <p:cNvSpPr/>
            <p:nvPr/>
          </p:nvSpPr>
          <p:spPr>
            <a:xfrm>
              <a:off x="71280" y="714240"/>
              <a:ext cx="9001440" cy="5500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62" name="Text Box 25"/>
            <p:cNvSpPr/>
            <p:nvPr/>
          </p:nvSpPr>
          <p:spPr>
            <a:xfrm>
              <a:off x="214200" y="857160"/>
              <a:ext cx="8786880" cy="52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SzPct val="102985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성인기까지는 사회적 역할과 지위의 획득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년기에는 상실이 많으므로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상실의 시기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roleless  role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 시기라고도 함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985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그러나 단순한 상실보다는 획득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유지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상실이 복합되므로 역할전환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role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transition)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 시기라고 보는 것이 더욱 타당함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985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Rosow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 노년기 역할변화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제도적 지위 약화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희박한 지위 강화</a:t>
              </a:r>
              <a:r>
                <a:rPr b="0" lang="en-US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그림 </a:t>
              </a:r>
              <a:r>
                <a:rPr b="0" lang="en-US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2-2</a:t>
              </a:r>
              <a:r>
                <a:rPr b="0" lang="ko-KR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985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요 역할의 변화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직업인→ 퇴직자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생계유지자→ 피부양자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부부 → 독신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부모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 2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차 집단 역할 줄지만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1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차 집단 역할은 큰 변화 없음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985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Neugarten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등의 사회적 역할수행 유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구성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집중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유리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계속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제한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구원요청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무감각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와해형</a:t>
              </a:r>
              <a:r>
                <a:rPr b="0" lang="en-US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2-5 </a:t>
              </a:r>
              <a:r>
                <a:rPr b="0" lang="ko-KR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985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위와 역할 전환의 영향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기가치 절하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존감 및 삶의 만족도 저하 등의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부정적 영향도 있지만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대부분의 노인들은 역할전환에 성공적으로 적응하고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새로운 지위와 역할에 만족하는 편임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63" name="직사각형 15"/>
            <p:cNvSpPr/>
            <p:nvPr/>
          </p:nvSpPr>
          <p:spPr>
            <a:xfrm>
              <a:off x="142920" y="214200"/>
              <a:ext cx="615780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51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5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500" spc="-1" strike="noStrike">
                  <a:solidFill>
                    <a:srgbClr val="c00000"/>
                  </a:solidFill>
                  <a:latin typeface="Arial"/>
                </a:rPr>
                <a:t>지위와 역할의 변화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4" name="그룹 6"/>
          <p:cNvGrpSpPr/>
          <p:nvPr/>
        </p:nvGrpSpPr>
        <p:grpSpPr>
          <a:xfrm>
            <a:off x="285840" y="0"/>
            <a:ext cx="8858160" cy="6367320"/>
            <a:chOff x="285840" y="0"/>
            <a:chExt cx="8858160" cy="6367320"/>
          </a:xfrm>
        </p:grpSpPr>
        <p:pic>
          <p:nvPicPr>
            <p:cNvPr id="865" name="Picture 2" descr="C:\DOCUME~1\USER\LOCALS~1\Temp\UNI0000080471b7.gif"/>
            <p:cNvPicPr/>
            <p:nvPr/>
          </p:nvPicPr>
          <p:blipFill>
            <a:blip r:embed="rId1"/>
            <a:stretch/>
          </p:blipFill>
          <p:spPr>
            <a:xfrm>
              <a:off x="7880400" y="0"/>
              <a:ext cx="1263600" cy="114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66" name="그룹 1"/>
            <p:cNvGrpSpPr/>
            <p:nvPr/>
          </p:nvGrpSpPr>
          <p:grpSpPr>
            <a:xfrm>
              <a:off x="285840" y="285480"/>
              <a:ext cx="8643960" cy="6081840"/>
              <a:chOff x="285840" y="285480"/>
              <a:chExt cx="8643960" cy="6081840"/>
            </a:xfrm>
          </p:grpSpPr>
          <p:sp>
            <p:nvSpPr>
              <p:cNvPr id="867" name="AutoShape 4"/>
              <p:cNvSpPr/>
              <p:nvPr/>
            </p:nvSpPr>
            <p:spPr>
              <a:xfrm>
                <a:off x="285840" y="285480"/>
                <a:ext cx="5429160" cy="502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0" lang="ko-KR" sz="2800" spc="-1" strike="noStrike">
                    <a:solidFill>
                      <a:srgbClr val="ffffff"/>
                    </a:solidFill>
                    <a:latin typeface="HY강B"/>
                  </a:rPr>
                  <a:t>사회적 노화의 신화와 사실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68" name="AutoShape 2"/>
              <p:cNvSpPr/>
              <p:nvPr/>
            </p:nvSpPr>
            <p:spPr>
              <a:xfrm>
                <a:off x="285840" y="1045440"/>
                <a:ext cx="8643960" cy="5321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69" name="Text Box 6"/>
              <p:cNvSpPr/>
              <p:nvPr/>
            </p:nvSpPr>
            <p:spPr>
              <a:xfrm>
                <a:off x="357120" y="1196280"/>
                <a:ext cx="8504640" cy="512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: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주류사회에서 퇴출 → 봉사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일을 통해 주류사회 참여 증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2: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고독하고 소외됨 → 자녀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친구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이웃과 유기적 관계 형성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가난 → 빈곤 가능성 높지만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일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자녀 지원으로 경제생활 유지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혼자 있고 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TV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시청 → 소극적이고 시간소모적 여가활동 많지만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이는 여가환경 미비에 기인하며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여가의식이 개선되고 있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학대와 방임 → 학대와 차별이 증가하나 자녀 존경 받고 있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6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복지확대로 인한 가족기능 약화 → 가족기능 보완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강화 기능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7: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일할 수 없음 → 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65-79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세의 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44%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정도가 일하며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bridge job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을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가진 후 은퇴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8: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정치관심과 투표율 낮음 → 관심과 투표율 높으며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인터넷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정치홍보 등으로 인한 정치환경 변화로 보수적 성향 강화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그룹 16"/>
          <p:cNvGrpSpPr/>
          <p:nvPr/>
        </p:nvGrpSpPr>
        <p:grpSpPr>
          <a:xfrm>
            <a:off x="0" y="0"/>
            <a:ext cx="9144000" cy="6357960"/>
            <a:chOff x="0" y="0"/>
            <a:chExt cx="9144000" cy="6357960"/>
          </a:xfrm>
        </p:grpSpPr>
        <p:sp>
          <p:nvSpPr>
            <p:cNvPr id="871" name="AutoShape 2"/>
            <p:cNvSpPr/>
            <p:nvPr/>
          </p:nvSpPr>
          <p:spPr>
            <a:xfrm>
              <a:off x="285480" y="3786120"/>
              <a:ext cx="8572680" cy="12859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872" name="그룹 20"/>
            <p:cNvGrpSpPr/>
            <p:nvPr/>
          </p:nvGrpSpPr>
          <p:grpSpPr>
            <a:xfrm>
              <a:off x="0" y="0"/>
              <a:ext cx="9144000" cy="3286080"/>
              <a:chOff x="0" y="0"/>
              <a:chExt cx="9144000" cy="3286080"/>
            </a:xfrm>
          </p:grpSpPr>
          <p:sp>
            <p:nvSpPr>
              <p:cNvPr id="873" name="AutoShape 2"/>
              <p:cNvSpPr/>
              <p:nvPr/>
            </p:nvSpPr>
            <p:spPr>
              <a:xfrm>
                <a:off x="285480" y="2000160"/>
                <a:ext cx="8572680" cy="1285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874" name="그림 3" descr="title.jpg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0" cy="114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5" name="Rectangle 2"/>
              <p:cNvSpPr/>
              <p:nvPr/>
            </p:nvSpPr>
            <p:spPr>
              <a:xfrm>
                <a:off x="1428480" y="285480"/>
                <a:ext cx="7286760" cy="64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400" spc="-1" strike="noStrike">
                    <a:solidFill>
                      <a:srgbClr val="ffffff"/>
                    </a:solidFill>
                    <a:latin typeface="HY강B"/>
                  </a:rPr>
                  <a:t>5.</a:t>
                </a:r>
                <a:r>
                  <a:rPr b="0" lang="ko-KR" sz="3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0" lang="ko-KR" sz="3400" spc="-1" strike="noStrike">
                    <a:solidFill>
                      <a:srgbClr val="ffffff"/>
                    </a:solidFill>
                    <a:latin typeface="HY강B"/>
                  </a:rPr>
                  <a:t>성공적 노화</a:t>
                </a:r>
                <a:endParaRPr b="0" lang="en-US" sz="3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876" name="그룹 10"/>
            <p:cNvGrpSpPr/>
            <p:nvPr/>
          </p:nvGrpSpPr>
          <p:grpSpPr>
            <a:xfrm>
              <a:off x="285480" y="928440"/>
              <a:ext cx="7643880" cy="2288520"/>
              <a:chOff x="285480" y="928440"/>
              <a:chExt cx="7643880" cy="2288520"/>
            </a:xfrm>
          </p:grpSpPr>
          <p:sp>
            <p:nvSpPr>
              <p:cNvPr id="877" name="AutoShape 4"/>
              <p:cNvSpPr/>
              <p:nvPr/>
            </p:nvSpPr>
            <p:spPr>
              <a:xfrm>
                <a:off x="285480" y="928440"/>
                <a:ext cx="535788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5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500" spc="-1" strike="noStrike">
                    <a:solidFill>
                      <a:srgbClr val="ffffff"/>
                    </a:solidFill>
                    <a:latin typeface="HY강B"/>
                  </a:rPr>
                  <a:t>성공적 노화의 개념과 구성요인</a:t>
                </a:r>
                <a:endParaRPr b="0" lang="en-US" sz="25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78" name="Text Box 6"/>
              <p:cNvSpPr/>
              <p:nvPr/>
            </p:nvSpPr>
            <p:spPr>
              <a:xfrm>
                <a:off x="356760" y="2014200"/>
                <a:ext cx="7572600" cy="12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86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미국노년사회학회에서 처음 제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9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대부터 생물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과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학 등에서 연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Rowe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와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Kahn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good aging, active aging, healthy aging, productive aging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념 등장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879" name="직사각형 15"/>
            <p:cNvSpPr/>
            <p:nvPr/>
          </p:nvSpPr>
          <p:spPr>
            <a:xfrm>
              <a:off x="285480" y="1603440"/>
              <a:ext cx="40719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성공적 노화에 대한 관심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0" name="Text Box 6"/>
            <p:cNvSpPr/>
            <p:nvPr/>
          </p:nvSpPr>
          <p:spPr>
            <a:xfrm>
              <a:off x="357120" y="3871800"/>
              <a:ext cx="8643960" cy="113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생물적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심리적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적 기능 수준이 높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삶의 만족과 환경에 대한 적응 수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 높은 상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Rowe &amp; Kahn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의 최적의 노화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optimal aging)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과 유사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1" name="직사각형 19"/>
            <p:cNvSpPr/>
            <p:nvPr/>
          </p:nvSpPr>
          <p:spPr>
            <a:xfrm>
              <a:off x="285480" y="3389400"/>
              <a:ext cx="40719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개념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2" name="직사각형 20"/>
            <p:cNvSpPr/>
            <p:nvPr/>
          </p:nvSpPr>
          <p:spPr>
            <a:xfrm>
              <a:off x="285480" y="5214960"/>
              <a:ext cx="40719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구성요인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3" name="AutoShape 2"/>
            <p:cNvSpPr/>
            <p:nvPr/>
          </p:nvSpPr>
          <p:spPr>
            <a:xfrm>
              <a:off x="285480" y="5572440"/>
              <a:ext cx="8572680" cy="7855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4" name="Text Box 6"/>
            <p:cNvSpPr/>
            <p:nvPr/>
          </p:nvSpPr>
          <p:spPr>
            <a:xfrm>
              <a:off x="357120" y="5572440"/>
              <a:ext cx="86439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2-6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&amp;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그림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2-3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SzPct val="10281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성공적 노화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= healthy aging + adaptive aging + active or productive aging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5" name="그룹 7"/>
          <p:cNvGrpSpPr/>
          <p:nvPr/>
        </p:nvGrpSpPr>
        <p:grpSpPr>
          <a:xfrm>
            <a:off x="285840" y="357120"/>
            <a:ext cx="8647200" cy="5786640"/>
            <a:chOff x="285840" y="357120"/>
            <a:chExt cx="8647200" cy="5786640"/>
          </a:xfrm>
        </p:grpSpPr>
        <p:pic>
          <p:nvPicPr>
            <p:cNvPr id="886" name="Picture 4" descr="C:\DOCUME~1\USER\LOCALS~1\Temp\UNI000006c8818c.gif"/>
            <p:cNvPicPr/>
            <p:nvPr/>
          </p:nvPicPr>
          <p:blipFill>
            <a:blip r:embed="rId1"/>
            <a:stretch/>
          </p:blipFill>
          <p:spPr>
            <a:xfrm>
              <a:off x="785880" y="4988160"/>
              <a:ext cx="12859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7" name="Rectangle 4"/>
            <p:cNvSpPr/>
            <p:nvPr/>
          </p:nvSpPr>
          <p:spPr>
            <a:xfrm>
              <a:off x="2071800" y="5500800"/>
              <a:ext cx="628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다음 주 강의주제</a:t>
              </a:r>
              <a:r>
                <a:rPr b="0" lang="en-US" sz="28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: </a:t>
              </a:r>
              <a:r>
                <a:rPr b="1" lang="ko-KR" sz="28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노년기의 경제생활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888" name="그룹 7"/>
            <p:cNvGrpSpPr/>
            <p:nvPr/>
          </p:nvGrpSpPr>
          <p:grpSpPr>
            <a:xfrm>
              <a:off x="285840" y="357120"/>
              <a:ext cx="8647200" cy="4000680"/>
              <a:chOff x="285840" y="357120"/>
              <a:chExt cx="8647200" cy="4000680"/>
            </a:xfrm>
          </p:grpSpPr>
          <p:sp>
            <p:nvSpPr>
              <p:cNvPr id="889" name="AutoShape 4"/>
              <p:cNvSpPr/>
              <p:nvPr/>
            </p:nvSpPr>
            <p:spPr>
              <a:xfrm>
                <a:off x="285840" y="357120"/>
                <a:ext cx="5087880" cy="514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600" spc="-1" strike="noStrike">
                    <a:solidFill>
                      <a:srgbClr val="ffffff"/>
                    </a:solidFill>
                    <a:latin typeface="HY강B"/>
                  </a:rPr>
                  <a:t>성공적 노화의 촉진방안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90" name="AutoShape 2"/>
              <p:cNvSpPr/>
              <p:nvPr/>
            </p:nvSpPr>
            <p:spPr>
              <a:xfrm>
                <a:off x="285840" y="1097280"/>
                <a:ext cx="8643960" cy="32605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91" name="Text Box 6"/>
              <p:cNvSpPr/>
              <p:nvPr/>
            </p:nvSpPr>
            <p:spPr>
              <a:xfrm>
                <a:off x="428400" y="1260360"/>
                <a:ext cx="8504640" cy="299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건강증진 위한 생활습관 관리와 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2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차적 예방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심리적 만족과 정신적 건강생활 위한 지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인생회고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평생교육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인지기능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영성훈련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죽음준비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스트레스 관리 등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경제안정 지원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경제교육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노후자금 준비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주택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농지연금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유산배분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경제활동 참여 및 사회발전 기여활동 기회 부여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사회적 관계 유지 및 적극적 여가참여 지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0" name="그룹 16"/>
          <p:cNvGrpSpPr/>
          <p:nvPr/>
        </p:nvGrpSpPr>
        <p:grpSpPr>
          <a:xfrm>
            <a:off x="0" y="0"/>
            <a:ext cx="9144000" cy="6357960"/>
            <a:chOff x="0" y="0"/>
            <a:chExt cx="9144000" cy="6357960"/>
          </a:xfrm>
        </p:grpSpPr>
        <p:sp>
          <p:nvSpPr>
            <p:cNvPr id="711" name="AutoShape 2"/>
            <p:cNvSpPr/>
            <p:nvPr/>
          </p:nvSpPr>
          <p:spPr>
            <a:xfrm>
              <a:off x="180720" y="5857920"/>
              <a:ext cx="8820360" cy="500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2" name="AutoShape 2"/>
            <p:cNvSpPr/>
            <p:nvPr/>
          </p:nvSpPr>
          <p:spPr>
            <a:xfrm>
              <a:off x="180720" y="1500120"/>
              <a:ext cx="8820360" cy="1857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3" name="AutoShape 2"/>
            <p:cNvSpPr/>
            <p:nvPr/>
          </p:nvSpPr>
          <p:spPr>
            <a:xfrm>
              <a:off x="180720" y="3929040"/>
              <a:ext cx="8820360" cy="1357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714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5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노화의 개념과 영역</a:t>
              </a:r>
              <a:endParaRPr b="0" lang="en-US" sz="3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16" name="그룹 22"/>
            <p:cNvGrpSpPr/>
            <p:nvPr/>
          </p:nvGrpSpPr>
          <p:grpSpPr>
            <a:xfrm>
              <a:off x="142560" y="928440"/>
              <a:ext cx="8786880" cy="5399640"/>
              <a:chOff x="142560" y="928440"/>
              <a:chExt cx="8786880" cy="5399640"/>
            </a:xfrm>
          </p:grpSpPr>
          <p:grpSp>
            <p:nvGrpSpPr>
              <p:cNvPr id="717" name="그룹 10"/>
              <p:cNvGrpSpPr/>
              <p:nvPr/>
            </p:nvGrpSpPr>
            <p:grpSpPr>
              <a:xfrm>
                <a:off x="142560" y="928440"/>
                <a:ext cx="8786880" cy="2269080"/>
                <a:chOff x="142560" y="928440"/>
                <a:chExt cx="8786880" cy="2269080"/>
              </a:xfrm>
            </p:grpSpPr>
            <p:sp>
              <p:nvSpPr>
                <p:cNvPr id="718" name="AutoShape 29"/>
                <p:cNvSpPr/>
                <p:nvPr/>
              </p:nvSpPr>
              <p:spPr>
                <a:xfrm>
                  <a:off x="142560" y="928440"/>
                  <a:ext cx="8572680" cy="57132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51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500" spc="-1" strike="noStrike">
                      <a:solidFill>
                        <a:srgbClr val="af334e"/>
                      </a:solidFill>
                      <a:latin typeface="HY강B"/>
                    </a:rPr>
                    <a:t>발달로서의 노화</a:t>
                  </a:r>
                  <a:r>
                    <a:rPr b="0" lang="en-US" sz="2500" spc="-1" strike="noStrike">
                      <a:solidFill>
                        <a:srgbClr val="af334e"/>
                      </a:solidFill>
                      <a:latin typeface="HY강B"/>
                    </a:rPr>
                    <a:t>(aging)</a:t>
                  </a:r>
                  <a:endParaRPr b="0" lang="en-US" sz="25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19" name="Text Box 25"/>
                <p:cNvSpPr/>
                <p:nvPr/>
              </p:nvSpPr>
              <p:spPr>
                <a:xfrm>
                  <a:off x="285120" y="1572480"/>
                  <a:ext cx="8644320" cy="162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1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발달</a:t>
                  </a:r>
                  <a:r>
                    <a:rPr b="1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유기체의 생물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심리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측면에서의 연속적이고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질서정연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하며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상승적 발달과 퇴행적 발달을 포괄하는 역동적인 안정과 변화의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과정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1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화</a:t>
                  </a:r>
                  <a:r>
                    <a:rPr b="1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발달 중 퇴행적 발달로서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성장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성숙과 대비되는 개념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0" name="그룹 10"/>
              <p:cNvGrpSpPr/>
              <p:nvPr/>
            </p:nvGrpSpPr>
            <p:grpSpPr>
              <a:xfrm>
                <a:off x="142560" y="3390480"/>
                <a:ext cx="8786880" cy="1783440"/>
                <a:chOff x="142560" y="3390480"/>
                <a:chExt cx="8786880" cy="1783440"/>
              </a:xfrm>
            </p:grpSpPr>
            <p:sp>
              <p:nvSpPr>
                <p:cNvPr id="721" name="AutoShape 29"/>
                <p:cNvSpPr/>
                <p:nvPr/>
              </p:nvSpPr>
              <p:spPr>
                <a:xfrm>
                  <a:off x="142560" y="3390480"/>
                  <a:ext cx="8572680" cy="57132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51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500" spc="-1" strike="noStrike">
                      <a:solidFill>
                        <a:srgbClr val="af334e"/>
                      </a:solidFill>
                      <a:latin typeface="HY강B"/>
                    </a:rPr>
                    <a:t>노화의 개념</a:t>
                  </a:r>
                  <a:endParaRPr b="0" lang="en-US" sz="25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22" name="Text Box 25"/>
                <p:cNvSpPr/>
                <p:nvPr/>
              </p:nvSpPr>
              <p:spPr>
                <a:xfrm>
                  <a:off x="285120" y="4012560"/>
                  <a:ext cx="8644320" cy="11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buSzPct val="10279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1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화</a:t>
                  </a:r>
                  <a:r>
                    <a:rPr b="1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시간의 흐름에 따라 유기체의 생물적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심리적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측면에서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나타나는 점진적이고 정상적인 발달과정상의 변화로서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주로 퇴행적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발달을 의미함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3" name="그룹 10"/>
              <p:cNvGrpSpPr/>
              <p:nvPr/>
            </p:nvGrpSpPr>
            <p:grpSpPr>
              <a:xfrm>
                <a:off x="142560" y="5286240"/>
                <a:ext cx="8572680" cy="1041840"/>
                <a:chOff x="142560" y="5286240"/>
                <a:chExt cx="8572680" cy="1041840"/>
              </a:xfrm>
            </p:grpSpPr>
            <p:sp>
              <p:nvSpPr>
                <p:cNvPr id="724" name="AutoShape 29"/>
                <p:cNvSpPr/>
                <p:nvPr/>
              </p:nvSpPr>
              <p:spPr>
                <a:xfrm>
                  <a:off x="142560" y="5286240"/>
                  <a:ext cx="8572680" cy="57132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51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5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500" spc="-1" strike="noStrike">
                      <a:solidFill>
                        <a:srgbClr val="af334e"/>
                      </a:solidFill>
                      <a:latin typeface="HY강B"/>
                    </a:rPr>
                    <a:t>노화의 영역</a:t>
                  </a:r>
                  <a:endParaRPr b="0" lang="en-US" sz="25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25" name="Text Box 25"/>
                <p:cNvSpPr/>
                <p:nvPr/>
              </p:nvSpPr>
              <p:spPr>
                <a:xfrm>
                  <a:off x="285120" y="5929200"/>
                  <a:ext cx="6215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buSzPct val="10279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1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화</a:t>
                  </a:r>
                  <a:r>
                    <a:rPr b="1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=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물적 노화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+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심리적 노화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+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노화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6" name="그룹 9"/>
          <p:cNvGrpSpPr/>
          <p:nvPr/>
        </p:nvGrpSpPr>
        <p:grpSpPr>
          <a:xfrm>
            <a:off x="142920" y="71280"/>
            <a:ext cx="8858160" cy="6215400"/>
            <a:chOff x="142920" y="71280"/>
            <a:chExt cx="8858160" cy="6215400"/>
          </a:xfrm>
        </p:grpSpPr>
        <p:sp>
          <p:nvSpPr>
            <p:cNvPr id="727" name="AutoShape 2"/>
            <p:cNvSpPr/>
            <p:nvPr/>
          </p:nvSpPr>
          <p:spPr>
            <a:xfrm>
              <a:off x="180720" y="642600"/>
              <a:ext cx="8820360" cy="28576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28" name="그룹 10"/>
            <p:cNvGrpSpPr/>
            <p:nvPr/>
          </p:nvGrpSpPr>
          <p:grpSpPr>
            <a:xfrm>
              <a:off x="142920" y="71280"/>
              <a:ext cx="8786880" cy="3424320"/>
              <a:chOff x="142920" y="71280"/>
              <a:chExt cx="8786880" cy="3424320"/>
            </a:xfrm>
          </p:grpSpPr>
          <p:sp>
            <p:nvSpPr>
              <p:cNvPr id="729" name="AutoShape 29"/>
              <p:cNvSpPr/>
              <p:nvPr/>
            </p:nvSpPr>
            <p:spPr>
              <a:xfrm>
                <a:off x="142920" y="7128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51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5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500" spc="-1" strike="noStrike">
                    <a:solidFill>
                      <a:srgbClr val="af334e"/>
                    </a:solidFill>
                    <a:latin typeface="HY강B"/>
                  </a:rPr>
                  <a:t>노화의 특성</a:t>
                </a:r>
                <a:endParaRPr b="0" lang="en-US" sz="25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30" name="Text Box 25"/>
              <p:cNvSpPr/>
              <p:nvPr/>
            </p:nvSpPr>
            <p:spPr>
              <a:xfrm>
                <a:off x="285480" y="690480"/>
                <a:ext cx="8644320" cy="280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를 변화로만 보는 경향이 있으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안정성도 동시에 고려해야 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는 상실과 획득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쇠퇴와 성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긍정과 부정의 두 측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예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의 쇠퇴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vs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험과 지혜의 확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을 모두 포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는 보편성과 개별성을 포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는 유전과 환경에 의한 외적 변화와 내적 변화를 모두 포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물적 노화는 원상태로의 복귀가 어렵지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비가역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노화는 원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태로의 회복이 가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예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퇴직 후 재취업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31" name="그룹 10"/>
            <p:cNvGrpSpPr/>
            <p:nvPr/>
          </p:nvGrpSpPr>
          <p:grpSpPr>
            <a:xfrm>
              <a:off x="142920" y="3611520"/>
              <a:ext cx="8786880" cy="2610360"/>
              <a:chOff x="142920" y="3611520"/>
              <a:chExt cx="8786880" cy="2610360"/>
            </a:xfrm>
          </p:grpSpPr>
          <p:sp>
            <p:nvSpPr>
              <p:cNvPr id="732" name="AutoShape 29"/>
              <p:cNvSpPr/>
              <p:nvPr/>
            </p:nvSpPr>
            <p:spPr>
              <a:xfrm>
                <a:off x="142920" y="361152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51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5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500" spc="-1" strike="noStrike">
                    <a:solidFill>
                      <a:srgbClr val="af334e"/>
                    </a:solidFill>
                    <a:latin typeface="HY강B"/>
                  </a:rPr>
                  <a:t>노화와 질병의 관계</a:t>
                </a:r>
                <a:endParaRPr b="0" lang="en-US" sz="25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33" name="Text Box 25"/>
              <p:cNvSpPr/>
              <p:nvPr/>
            </p:nvSpPr>
            <p:spPr>
              <a:xfrm>
                <a:off x="285480" y="4184640"/>
                <a:ext cx="8644320" cy="203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의 결과를 질병으로 간주하는 경향이 있지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상적 노화 자체만으로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이 유발되지 않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의 진행과 함께 발병 가능성이 높아지는 것은 병리적 노화 때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기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유전과 환경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→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상적 노화 → 신체기능의 저하 → 위험인자 개입 →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병리적 노화로 전환 → 질병에의 이환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2-1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734" name="AutoShape 2"/>
            <p:cNvSpPr/>
            <p:nvPr/>
          </p:nvSpPr>
          <p:spPr>
            <a:xfrm>
              <a:off x="180720" y="4143600"/>
              <a:ext cx="8820360" cy="2143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5" name="그룹 17"/>
          <p:cNvGrpSpPr/>
          <p:nvPr/>
        </p:nvGrpSpPr>
        <p:grpSpPr>
          <a:xfrm>
            <a:off x="0" y="0"/>
            <a:ext cx="9144000" cy="6424920"/>
            <a:chOff x="0" y="0"/>
            <a:chExt cx="9144000" cy="6424920"/>
          </a:xfrm>
        </p:grpSpPr>
        <p:pic>
          <p:nvPicPr>
            <p:cNvPr id="736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7" name="Rectangle 2"/>
            <p:cNvSpPr/>
            <p:nvPr/>
          </p:nvSpPr>
          <p:spPr>
            <a:xfrm>
              <a:off x="1428480" y="71280"/>
              <a:ext cx="7286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생물적 노화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38" name="그룹 34"/>
            <p:cNvGrpSpPr/>
            <p:nvPr/>
          </p:nvGrpSpPr>
          <p:grpSpPr>
            <a:xfrm>
              <a:off x="142560" y="785520"/>
              <a:ext cx="8858520" cy="3286080"/>
              <a:chOff x="142560" y="785520"/>
              <a:chExt cx="8858520" cy="3286080"/>
            </a:xfrm>
          </p:grpSpPr>
          <p:grpSp>
            <p:nvGrpSpPr>
              <p:cNvPr id="739" name="그룹 6"/>
              <p:cNvGrpSpPr/>
              <p:nvPr/>
            </p:nvGrpSpPr>
            <p:grpSpPr>
              <a:xfrm>
                <a:off x="180360" y="2531880"/>
                <a:ext cx="8820720" cy="1539720"/>
                <a:chOff x="180360" y="2531880"/>
                <a:chExt cx="8820720" cy="1539720"/>
              </a:xfrm>
            </p:grpSpPr>
            <p:sp>
              <p:nvSpPr>
                <p:cNvPr id="740" name="AutoShape 2"/>
                <p:cNvSpPr/>
                <p:nvPr/>
              </p:nvSpPr>
              <p:spPr>
                <a:xfrm>
                  <a:off x="180360" y="2531880"/>
                  <a:ext cx="8820720" cy="15397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41" name="Text Box 25"/>
                <p:cNvSpPr/>
                <p:nvPr/>
              </p:nvSpPr>
              <p:spPr>
                <a:xfrm>
                  <a:off x="213480" y="2571480"/>
                  <a:ext cx="8787600" cy="148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물적 퇴화과정이 생물적 재생산과정을 능가하여 유기체내에 퇴행적 변화가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나타나는 발달 현상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즉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나이가 들어감에 따라 신체 구조 및 신체 내부의 세포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조직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장기 등 유기체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전반에 일어나는 쇠퇴적 발달 현상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2" name="그룹 30"/>
              <p:cNvGrpSpPr/>
              <p:nvPr/>
            </p:nvGrpSpPr>
            <p:grpSpPr>
              <a:xfrm>
                <a:off x="180720" y="785520"/>
                <a:ext cx="8820360" cy="1285920"/>
                <a:chOff x="180720" y="785520"/>
                <a:chExt cx="8820360" cy="1285920"/>
              </a:xfrm>
            </p:grpSpPr>
            <p:sp>
              <p:nvSpPr>
                <p:cNvPr id="743" name="AutoShape 2"/>
                <p:cNvSpPr/>
                <p:nvPr/>
              </p:nvSpPr>
              <p:spPr>
                <a:xfrm>
                  <a:off x="180720" y="1213920"/>
                  <a:ext cx="8820360" cy="857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44" name="AutoShape 7"/>
                <p:cNvSpPr/>
                <p:nvPr/>
              </p:nvSpPr>
              <p:spPr>
                <a:xfrm>
                  <a:off x="285120" y="785520"/>
                  <a:ext cx="4786560" cy="4287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300" spc="-1" strike="noStrike">
                      <a:solidFill>
                        <a:srgbClr val="ffffff"/>
                      </a:solidFill>
                      <a:latin typeface="HY강B"/>
                    </a:rPr>
                    <a:t>1) </a:t>
                  </a:r>
                  <a:r>
                    <a:rPr b="0" lang="ko-KR" sz="2300" spc="-1" strike="noStrike">
                      <a:solidFill>
                        <a:srgbClr val="ffffff"/>
                      </a:solidFill>
                      <a:latin typeface="HY강B"/>
                    </a:rPr>
                    <a:t>생물적 노화의 개념과 특성</a:t>
                  </a:r>
                  <a:endParaRPr b="0" lang="en-US" sz="23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45" name="Text Box 25"/>
                <p:cNvSpPr/>
                <p:nvPr/>
              </p:nvSpPr>
              <p:spPr>
                <a:xfrm>
                  <a:off x="294480" y="1285560"/>
                  <a:ext cx="8563680" cy="71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일반적으로 노화를 신체구조의 외적 변화를 의미할 정도로 신체적 노화가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익숙한 개념이나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물적 노화가 더욱 정확한 개념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6" name="AutoShape 29"/>
              <p:cNvSpPr/>
              <p:nvPr/>
            </p:nvSpPr>
            <p:spPr>
              <a:xfrm>
                <a:off x="142560" y="2071440"/>
                <a:ext cx="857304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B"/>
                  </a:rPr>
                  <a:t>개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47" name="그룹 33"/>
            <p:cNvGrpSpPr/>
            <p:nvPr/>
          </p:nvGrpSpPr>
          <p:grpSpPr>
            <a:xfrm>
              <a:off x="142560" y="4021200"/>
              <a:ext cx="8858520" cy="2403720"/>
              <a:chOff x="142560" y="4021200"/>
              <a:chExt cx="8858520" cy="2403720"/>
            </a:xfrm>
          </p:grpSpPr>
          <p:grpSp>
            <p:nvGrpSpPr>
              <p:cNvPr id="748" name="그룹 6"/>
              <p:cNvGrpSpPr/>
              <p:nvPr/>
            </p:nvGrpSpPr>
            <p:grpSpPr>
              <a:xfrm>
                <a:off x="180720" y="4481280"/>
                <a:ext cx="8820360" cy="1943640"/>
                <a:chOff x="180720" y="4481280"/>
                <a:chExt cx="8820360" cy="1943640"/>
              </a:xfrm>
            </p:grpSpPr>
            <p:sp>
              <p:nvSpPr>
                <p:cNvPr id="749" name="AutoShape 2"/>
                <p:cNvSpPr/>
                <p:nvPr/>
              </p:nvSpPr>
              <p:spPr>
                <a:xfrm>
                  <a:off x="180720" y="4481280"/>
                  <a:ext cx="8820360" cy="18972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25"/>
                <p:cNvSpPr/>
                <p:nvPr/>
              </p:nvSpPr>
              <p:spPr>
                <a:xfrm>
                  <a:off x="213840" y="4520880"/>
                  <a:ext cx="8644320" cy="190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물적 노화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=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신체적 노화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+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리적 노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신체적 노화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신체구조와 기능의 쇠퇴로 인하여 활력을 상실하고 질병에 대한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저항력이 약화되는 노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리적 노화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유기체의 기관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조직체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세포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체 통제기제 등의 쇠퇴와 기능이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약화되는 노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29"/>
              <p:cNvSpPr/>
              <p:nvPr/>
            </p:nvSpPr>
            <p:spPr>
              <a:xfrm>
                <a:off x="142560" y="4021200"/>
                <a:ext cx="857304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영역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2" name="그룹 17"/>
          <p:cNvGrpSpPr/>
          <p:nvPr/>
        </p:nvGrpSpPr>
        <p:grpSpPr>
          <a:xfrm>
            <a:off x="142920" y="0"/>
            <a:ext cx="8858160" cy="6286680"/>
            <a:chOff x="142920" y="0"/>
            <a:chExt cx="8858160" cy="6286680"/>
          </a:xfrm>
        </p:grpSpPr>
        <p:grpSp>
          <p:nvGrpSpPr>
            <p:cNvPr id="753" name="그룹 9"/>
            <p:cNvGrpSpPr/>
            <p:nvPr/>
          </p:nvGrpSpPr>
          <p:grpSpPr>
            <a:xfrm>
              <a:off x="142920" y="0"/>
              <a:ext cx="8858160" cy="2143080"/>
              <a:chOff x="142920" y="0"/>
              <a:chExt cx="8858160" cy="2143080"/>
            </a:xfrm>
          </p:grpSpPr>
          <p:grpSp>
            <p:nvGrpSpPr>
              <p:cNvPr id="754" name="그룹 6"/>
              <p:cNvGrpSpPr/>
              <p:nvPr/>
            </p:nvGrpSpPr>
            <p:grpSpPr>
              <a:xfrm>
                <a:off x="181080" y="531720"/>
                <a:ext cx="8820000" cy="1611360"/>
                <a:chOff x="181080" y="531720"/>
                <a:chExt cx="8820000" cy="1611360"/>
              </a:xfrm>
            </p:grpSpPr>
            <p:sp>
              <p:nvSpPr>
                <p:cNvPr id="755" name="AutoShape 2"/>
                <p:cNvSpPr/>
                <p:nvPr/>
              </p:nvSpPr>
              <p:spPr>
                <a:xfrm>
                  <a:off x="181080" y="531720"/>
                  <a:ext cx="8820000" cy="16113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56" name="Text Box 25"/>
                <p:cNvSpPr/>
                <p:nvPr/>
              </p:nvSpPr>
              <p:spPr>
                <a:xfrm>
                  <a:off x="214200" y="633240"/>
                  <a:ext cx="8643960" cy="143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63"/>
                    </a:spcBef>
                    <a:buSzPct val="102857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외적 환경요인에 의해 촉진되지만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유전 등 내적 요인에 의해 주로 유발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063"/>
                    </a:spcBef>
                    <a:buSzPct val="102857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모든 사람에게 보편적으로 나타나지만 노화 속도나 정도는 개인차 있음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063"/>
                    </a:spcBef>
                    <a:buSzPct val="102857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신체구조와 기능 저하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일상생활 동작능력 저하로 인해 신체에 부정적 영향을 미치며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질병에 대한 저항력 상실을 초래하고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명의 종식에 이르게 함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7" name="AutoShape 29"/>
              <p:cNvSpPr/>
              <p:nvPr/>
            </p:nvSpPr>
            <p:spPr>
              <a:xfrm>
                <a:off x="142920" y="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생물적 노화의 원인과 특성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58" name="그룹 14"/>
            <p:cNvGrpSpPr/>
            <p:nvPr/>
          </p:nvGrpSpPr>
          <p:grpSpPr>
            <a:xfrm>
              <a:off x="142920" y="2112840"/>
              <a:ext cx="8858160" cy="2673360"/>
              <a:chOff x="142920" y="2112840"/>
              <a:chExt cx="8858160" cy="2673360"/>
            </a:xfrm>
          </p:grpSpPr>
          <p:grpSp>
            <p:nvGrpSpPr>
              <p:cNvPr id="759" name="그룹 6"/>
              <p:cNvGrpSpPr/>
              <p:nvPr/>
            </p:nvGrpSpPr>
            <p:grpSpPr>
              <a:xfrm>
                <a:off x="181080" y="2644560"/>
                <a:ext cx="8820000" cy="2141640"/>
                <a:chOff x="181080" y="2644560"/>
                <a:chExt cx="8820000" cy="2141640"/>
              </a:xfrm>
            </p:grpSpPr>
            <p:sp>
              <p:nvSpPr>
                <p:cNvPr id="760" name="AutoShape 2"/>
                <p:cNvSpPr/>
                <p:nvPr/>
              </p:nvSpPr>
              <p:spPr>
                <a:xfrm>
                  <a:off x="181080" y="2644560"/>
                  <a:ext cx="8820000" cy="2141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61" name="Text Box 25"/>
                <p:cNvSpPr/>
                <p:nvPr/>
              </p:nvSpPr>
              <p:spPr>
                <a:xfrm>
                  <a:off x="214200" y="2706480"/>
                  <a:ext cx="8643960" cy="199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63"/>
                    </a:spcBef>
                    <a:buSzPct val="102857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최적의 노화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긍정적 유전요인과 긍정적 환경의 작용으로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신체기능의 저하가 최소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한도인 노화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.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즉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성공적 노화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01"/>
                    </a:spcBef>
                    <a:buSzPct val="102857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통상적 노화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긍정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/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중성적 유전요인에 부정적 환경요인이 작용하여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질병과 기능제한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을 초래하지만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그 정도가 심하지 않은 상태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01"/>
                    </a:spcBef>
                    <a:buSzPct val="102857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병리적 노화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부정적 유전요인에 부정적 환경요인이 작용하여 심각한 만성질환과 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장애를 초래하는 노화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2" name="AutoShape 29"/>
              <p:cNvSpPr/>
              <p:nvPr/>
            </p:nvSpPr>
            <p:spPr>
              <a:xfrm>
                <a:off x="142920" y="211284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생물적 노화의 수준</a:t>
                </a:r>
                <a:r>
                  <a:rPr b="0" lang="en-US" sz="1600" spc="-1" strike="noStrike">
                    <a:solidFill>
                      <a:srgbClr val="1d528d"/>
                    </a:solidFill>
                    <a:latin typeface="HY강B"/>
                  </a:rPr>
                  <a:t>(Rowe &amp; Kahn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63" name="그룹 19"/>
            <p:cNvGrpSpPr/>
            <p:nvPr/>
          </p:nvGrpSpPr>
          <p:grpSpPr>
            <a:xfrm>
              <a:off x="142920" y="4870800"/>
              <a:ext cx="8858160" cy="1415880"/>
              <a:chOff x="142920" y="4870800"/>
              <a:chExt cx="8858160" cy="1415880"/>
            </a:xfrm>
          </p:grpSpPr>
          <p:grpSp>
            <p:nvGrpSpPr>
              <p:cNvPr id="764" name="그룹 6"/>
              <p:cNvGrpSpPr/>
              <p:nvPr/>
            </p:nvGrpSpPr>
            <p:grpSpPr>
              <a:xfrm>
                <a:off x="181080" y="5382720"/>
                <a:ext cx="8820000" cy="903960"/>
                <a:chOff x="181080" y="5382720"/>
                <a:chExt cx="8820000" cy="903960"/>
              </a:xfrm>
            </p:grpSpPr>
            <p:sp>
              <p:nvSpPr>
                <p:cNvPr id="765" name="AutoShape 2"/>
                <p:cNvSpPr/>
                <p:nvPr/>
              </p:nvSpPr>
              <p:spPr>
                <a:xfrm>
                  <a:off x="181080" y="5382720"/>
                  <a:ext cx="8820000" cy="9039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66" name="Text Box 25"/>
                <p:cNvSpPr/>
                <p:nvPr/>
              </p:nvSpPr>
              <p:spPr>
                <a:xfrm>
                  <a:off x="214200" y="5435640"/>
                  <a:ext cx="8643960" cy="74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63"/>
                    </a:spcBef>
                    <a:buSzPct val="102857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물적 노화의 수용→ 심리사회적 기능의 유지와 발전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063"/>
                    </a:spcBef>
                    <a:buSzPct val="102857"/>
                    <a:buBlip>
                      <a:blip r:embed="rId10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물적 노화에 집착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/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몰두→ 심리사회적 기능의 손상과 삶의 만족도 저하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7" name="AutoShape 29"/>
              <p:cNvSpPr/>
              <p:nvPr/>
            </p:nvSpPr>
            <p:spPr>
              <a:xfrm>
                <a:off x="142920" y="4870800"/>
                <a:ext cx="8572680" cy="48708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생물적 노화의 영향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그룹 6"/>
          <p:cNvGrpSpPr/>
          <p:nvPr/>
        </p:nvGrpSpPr>
        <p:grpSpPr>
          <a:xfrm>
            <a:off x="285840" y="0"/>
            <a:ext cx="8643960" cy="6286680"/>
            <a:chOff x="285840" y="0"/>
            <a:chExt cx="8643960" cy="6286680"/>
          </a:xfrm>
        </p:grpSpPr>
        <p:pic>
          <p:nvPicPr>
            <p:cNvPr id="769" name="Picture 2" descr="C:\DOCUME~1\USER\LOCALS~1\Temp\UNI00000c2870a4.gif"/>
            <p:cNvPicPr/>
            <p:nvPr/>
          </p:nvPicPr>
          <p:blipFill>
            <a:blip r:embed="rId1"/>
            <a:stretch/>
          </p:blipFill>
          <p:spPr>
            <a:xfrm>
              <a:off x="4786560" y="0"/>
              <a:ext cx="40719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AutoShape 4"/>
            <p:cNvSpPr/>
            <p:nvPr/>
          </p:nvSpPr>
          <p:spPr>
            <a:xfrm>
              <a:off x="285840" y="714240"/>
              <a:ext cx="564372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생물적 노화의 주요이론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71" name="그룹 6"/>
            <p:cNvGrpSpPr/>
            <p:nvPr/>
          </p:nvGrpSpPr>
          <p:grpSpPr>
            <a:xfrm>
              <a:off x="357120" y="1579680"/>
              <a:ext cx="8572680" cy="4707000"/>
              <a:chOff x="357120" y="1579680"/>
              <a:chExt cx="8572680" cy="4707000"/>
            </a:xfrm>
          </p:grpSpPr>
          <p:sp>
            <p:nvSpPr>
              <p:cNvPr id="772" name="AutoShape 2"/>
              <p:cNvSpPr/>
              <p:nvPr/>
            </p:nvSpPr>
            <p:spPr>
              <a:xfrm>
                <a:off x="357120" y="1579680"/>
                <a:ext cx="8572680" cy="47070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73" name="Text Box 6"/>
              <p:cNvSpPr/>
              <p:nvPr/>
            </p:nvSpPr>
            <p:spPr>
              <a:xfrm>
                <a:off x="717480" y="1960560"/>
                <a:ext cx="8069760" cy="403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2-1 </a:t>
                </a:r>
                <a:r>
                  <a:rPr b="0" lang="ko-KR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포이론</a:t>
                </a:r>
                <a:r>
                  <a:rPr b="1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용마모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폐물축적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차연결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전자변이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포분열제한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해산소이론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전이론</a:t>
                </a:r>
                <a:r>
                  <a:rPr b="1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전자조절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오류재해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DNA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과다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질서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질서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텔로메라제이론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리학적 이론</a:t>
                </a:r>
                <a:r>
                  <a:rPr b="1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진대사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열량제한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망호르몬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경호르몬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흉선자극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명속도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리적 통제이론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면역이론</a:t>
                </a:r>
                <a:r>
                  <a:rPr b="1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면역반응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동면역이론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스트레스 이론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4" name="그룹 1"/>
          <p:cNvGrpSpPr/>
          <p:nvPr/>
        </p:nvGrpSpPr>
        <p:grpSpPr>
          <a:xfrm>
            <a:off x="142920" y="428760"/>
            <a:ext cx="8858160" cy="5830200"/>
            <a:chOff x="142920" y="428760"/>
            <a:chExt cx="8858160" cy="5830200"/>
          </a:xfrm>
        </p:grpSpPr>
        <p:grpSp>
          <p:nvGrpSpPr>
            <p:cNvPr id="775" name="그룹 6"/>
            <p:cNvGrpSpPr/>
            <p:nvPr/>
          </p:nvGrpSpPr>
          <p:grpSpPr>
            <a:xfrm>
              <a:off x="180720" y="1871640"/>
              <a:ext cx="8820360" cy="4387320"/>
              <a:chOff x="180720" y="1871640"/>
              <a:chExt cx="8820360" cy="4387320"/>
            </a:xfrm>
          </p:grpSpPr>
          <p:sp>
            <p:nvSpPr>
              <p:cNvPr id="776" name="AutoShape 2"/>
              <p:cNvSpPr/>
              <p:nvPr/>
            </p:nvSpPr>
            <p:spPr>
              <a:xfrm>
                <a:off x="180720" y="1871640"/>
                <a:ext cx="8820360" cy="43434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77" name="Text Box 25"/>
              <p:cNvSpPr/>
              <p:nvPr/>
            </p:nvSpPr>
            <p:spPr>
              <a:xfrm>
                <a:off x="356760" y="2081160"/>
                <a:ext cx="8644320" cy="417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세포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색소인 지방갈색소가 많아지고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백질 합성에 필수적인 분자가 생산되지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않아 세포가 노화되어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신체 기관과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직이 노화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섬유질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섬유질 교체 부진으로 신체조직 쉽게 손상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파편화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칼슘화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체중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6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부터 감소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신장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키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: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에 비해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9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%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감소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치아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6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4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7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1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8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로 줄어듦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인 치아 개수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28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+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랑니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4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머리카락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silver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색으로 변화 → 노인의 고유색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실버세대로 부름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피부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창백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얼룩반점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성화되고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피하지방과 신경세포 감소로 피부탄력과 체온유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능력 감소 → 온도적응 문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호흡기질환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stroke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조직구성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방분 증가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형분과 수분 감소 → 골절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골다공증 위험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골조직 얇아지고 탄력약화 → 관절염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의근</a:t>
                </a:r>
                <a:r>
                  <a:rPr b="0" lang="en-US" sz="13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3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신의 의지대로 움직일 수 있는 근육</a:t>
                </a:r>
                <a:r>
                  <a:rPr b="0" lang="en-US" sz="13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3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약화 → 운동기능 저하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78" name="그룹 30"/>
            <p:cNvGrpSpPr/>
            <p:nvPr/>
          </p:nvGrpSpPr>
          <p:grpSpPr>
            <a:xfrm>
              <a:off x="181080" y="428760"/>
              <a:ext cx="8748720" cy="970920"/>
              <a:chOff x="181080" y="428760"/>
              <a:chExt cx="8748720" cy="970920"/>
            </a:xfrm>
          </p:grpSpPr>
          <p:sp>
            <p:nvSpPr>
              <p:cNvPr id="779" name="AutoShape 2"/>
              <p:cNvSpPr/>
              <p:nvPr/>
            </p:nvSpPr>
            <p:spPr>
              <a:xfrm>
                <a:off x="181080" y="928800"/>
                <a:ext cx="8748720" cy="470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80" name="AutoShape 7"/>
              <p:cNvSpPr/>
              <p:nvPr/>
            </p:nvSpPr>
            <p:spPr>
              <a:xfrm>
                <a:off x="214200" y="428760"/>
                <a:ext cx="4786560" cy="471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600" spc="-1" strike="noStrike">
                    <a:solidFill>
                      <a:srgbClr val="ffffff"/>
                    </a:solidFill>
                    <a:latin typeface="HY강B"/>
                  </a:rPr>
                  <a:t>생물적 노화의 양상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81" name="Text Box 25"/>
              <p:cNvSpPr/>
              <p:nvPr/>
            </p:nvSpPr>
            <p:spPr>
              <a:xfrm>
                <a:off x="366480" y="1000080"/>
                <a:ext cx="8563320" cy="38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물적 노화를 신체구조 변화와 신체기능 변화로 구분 설명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782" name="AutoShape 29"/>
            <p:cNvSpPr/>
            <p:nvPr/>
          </p:nvSpPr>
          <p:spPr>
            <a:xfrm>
              <a:off x="142920" y="1369800"/>
              <a:ext cx="8572680" cy="53784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신체구조의 변화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3" name="그룹 5"/>
          <p:cNvGrpSpPr/>
          <p:nvPr/>
        </p:nvGrpSpPr>
        <p:grpSpPr>
          <a:xfrm>
            <a:off x="181080" y="142920"/>
            <a:ext cx="8820000" cy="6381720"/>
            <a:chOff x="181080" y="142920"/>
            <a:chExt cx="8820000" cy="6381720"/>
          </a:xfrm>
        </p:grpSpPr>
        <p:grpSp>
          <p:nvGrpSpPr>
            <p:cNvPr id="784" name="그룹 1"/>
            <p:cNvGrpSpPr/>
            <p:nvPr/>
          </p:nvGrpSpPr>
          <p:grpSpPr>
            <a:xfrm>
              <a:off x="181080" y="620640"/>
              <a:ext cx="8820000" cy="5904000"/>
              <a:chOff x="181080" y="620640"/>
              <a:chExt cx="8820000" cy="5904000"/>
            </a:xfrm>
          </p:grpSpPr>
          <p:sp>
            <p:nvSpPr>
              <p:cNvPr id="785" name="AutoShape 2"/>
              <p:cNvSpPr/>
              <p:nvPr/>
            </p:nvSpPr>
            <p:spPr>
              <a:xfrm>
                <a:off x="181080" y="620640"/>
                <a:ext cx="8820000" cy="59040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86" name="Text Box 6"/>
              <p:cNvSpPr/>
              <p:nvPr/>
            </p:nvSpPr>
            <p:spPr>
              <a:xfrm>
                <a:off x="285840" y="785160"/>
                <a:ext cx="8643960" cy="543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장기 중량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부터 감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25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 때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5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 노인 신장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1%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간장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7%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비장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5%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반면 심장은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40%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도로 증가하며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기기능 역시 변화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심장기능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장혈관 경화로 심장비대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량 증가로 심박출량과 박동능력은 감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장판막 석회화로 각종 심장질환 위험 증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혈관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맥벽 비대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화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탄력감소로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혈압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맥경화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뇌졸중 위험 증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폐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직탄성 및 용적 감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관지 확장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잔기량 증가로 호흡기질환 위험 증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소화기능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아결손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화효소 분비 감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위 근육 약화로 소화기능 저하되고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장 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융모 축소와 운동저하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장변형과 운동저하로 변비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숙변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각종 장 질환 위험 증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장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콩팥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크기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피질의 양 감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장혈관 경화로 기능저하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폐물 여과비율 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소로 신장질환 위험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방광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요도 기능 저하로 야뇨 증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대사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초대사율</a:t>
                </a:r>
                <a:r>
                  <a:rPr b="0" lang="en-US" sz="13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3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휴식시 산소소모량</a:t>
                </a:r>
                <a:r>
                  <a:rPr b="0" lang="en-US" sz="13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탄수화물 대사 증가로 당뇨병 위험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내분비계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호르몬 종류에 따라 감소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유지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또는 증가하는 경우가 있으나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화와 함께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호르몬 수용체 감수성 저하로 내분비 기능 저하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Clr>
                    <a:srgbClr val="1a2f96"/>
                  </a:buClr>
                  <a:buFont typeface="HY강M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성 및 생식기능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폐경으로 생식능력 상실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성은 음경 크기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강직도 저하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기부전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등으로 성교능력 저하되지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7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 이상에서도 성적 관계 유지 가능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787" name="AutoShape 29"/>
            <p:cNvSpPr/>
            <p:nvPr/>
          </p:nvSpPr>
          <p:spPr>
            <a:xfrm>
              <a:off x="214200" y="14292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51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5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500" spc="-1" strike="noStrike">
                  <a:solidFill>
                    <a:srgbClr val="c00000"/>
                  </a:solidFill>
                  <a:latin typeface="HY강B"/>
                </a:rPr>
                <a:t>신체기능의 변화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권중돈</cp:lastModifiedBy>
  <dcterms:modified xsi:type="dcterms:W3CDTF">2022-08-26T00:41:11Z</dcterms:modified>
  <cp:revision>242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