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E59E-11B2-4727-8CEE-E92DE45F98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8D9E-9B5C-4E06-8A29-538AE39B6BE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FF38-5422-40E0-9EDB-C3C43AF33F9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302D-8B34-486A-B140-38B4CFC3A0F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A81D-A986-41F8-B1F1-14065ECD789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698D-C54D-4821-BF26-CACCDEDFDE3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14E2E-F4B5-41BA-9245-EF8F13BE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893C1-4FE2-44D5-AA21-F00C965A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10DC9B-B0BB-4215-9313-2F64326B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2455F8-BA96-4C81-8F78-042EF9CF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C4B53-239A-47D6-B5BF-28968941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DE54C-AF6E-4747-B375-1B1DEDBA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41BCF-E114-404D-BC35-7F4F2519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DFFFA-0EB4-43B6-8F32-C5359FB3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FBD52-AF9A-479D-99E9-3A31A925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A2FB2-848F-4B57-A261-C85E8B6B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6E458-1719-4C01-9B9A-791ABADC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712BC-395A-4F46-845F-4C526FF9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002F7-DEB4-46CD-88E8-D2E3D620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66A13C-CA89-4F0F-AC41-17C3A5D8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8EA7ED-685D-4546-950D-8F3A7024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4940F5-5218-4FB6-B6C9-F20D6E45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965AA7-D56C-4E81-AACC-58B849FF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CE052D-085B-424C-8038-A95D5C11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15ADD-A362-4A1A-B6FF-0C949C15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C8089-BD71-4CA6-AB5A-98AFE81B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7031BF-4186-46D8-99A2-69F5D465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8CBA2B-12B9-4DE5-AC37-DCE776F9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9F6655-424C-47EB-BB67-33C6A7D3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5414A7-F23B-4194-958C-627412B0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6D5310-F1EE-430D-A219-7D4319C7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63C276-E607-47BF-9C96-D6524D51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BEF69D-357C-4043-82E3-926081DF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C79637-2BB0-4480-94D7-960C2576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228755-EEC4-48F6-A5C5-21E0C1BE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C7754-767C-407E-BEBD-55972838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F584E2-EADD-4E7B-B258-E262850F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D31C50-E965-434C-AF4C-681862E1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880E3-46DD-477D-8ADC-72FD3067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656AA8-ACCF-49D4-9932-5704DF1D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7DAAFA-8F4A-44A2-A762-0C8B067F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D5485D-A347-4A57-AA94-BD506449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BE8E6-EBE9-48AA-9C20-3D2A8C0F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49C3E-3655-4A88-BCE0-7768748F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E0A59-59B6-46B0-9098-4FF4F61A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4081A-A013-4E13-97FF-CA1D8D9F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8B2F5-C96A-4958-A601-92DAFA83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E6C05-05E5-4BBF-99AC-BA2D9EBD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9A77E-A9F9-4AA3-B2F1-421869A2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7E623-AF57-4A9B-AD26-5218280A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A36F5-34B5-4F97-962C-BF12E878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F75E6-DEE3-4845-B2E9-D6449C49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01FF4-7833-4EF0-A196-01055E8C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7C48E-C297-4A24-98E5-BFDD9D93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545E-135B-4633-B480-5758024BBCF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46E8-9125-4B83-83F3-DF39AF83DB9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C06B-E6AB-4683-B9F0-B6F36C5D888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2EFE-FF18-4DA6-BBDB-557FB426840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C050-0F3C-44D3-98FA-081F18CA604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EAFD-643E-45E2-8911-98207701568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D07A-1984-4E0E-8DB8-B6CBCBE0B91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37D8-C903-4BBA-B2A7-496BAF1A7F0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C131-547B-4865-A0C3-2ED831461726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4875-66B8-4401-BB60-8E66A863495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FDF0-DAFE-499A-921C-418BD9745D6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1945-104A-44B2-AB37-50BB03A3490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AB20-ACB5-414E-BC03-52C21594268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AA65-842A-4051-A43E-F8FEC5499A2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7980-8CAE-4869-9387-9690B85A837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2AEC-48CC-4FD5-BDC2-B7F9083FE3F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4809-5096-4B1D-B226-46C4FD8C502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그룹 13"/>
          <p:cNvGrpSpPr/>
          <p:nvPr/>
        </p:nvGrpSpPr>
        <p:grpSpPr>
          <a:xfrm>
            <a:off x="71280" y="0"/>
            <a:ext cx="9001440" cy="6428880"/>
            <a:chOff x="71280" y="0"/>
            <a:chExt cx="9001440" cy="6428880"/>
          </a:xfrm>
        </p:grpSpPr>
        <p:sp>
          <p:nvSpPr>
            <p:cNvPr id="1038" name="AutoShape 2"/>
            <p:cNvSpPr/>
            <p:nvPr/>
          </p:nvSpPr>
          <p:spPr>
            <a:xfrm>
              <a:off x="71280" y="500040"/>
              <a:ext cx="9001440" cy="114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02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214272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1714320"/>
              <a:ext cx="8787240" cy="2190960"/>
              <a:chOff x="213840" y="1714320"/>
              <a:chExt cx="8787240" cy="219096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228708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의 주요 서비스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서비스와 간접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6" name="AutoShape 2"/>
            <p:cNvSpPr/>
            <p:nvPr/>
          </p:nvSpPr>
          <p:spPr>
            <a:xfrm>
              <a:off x="71280" y="442872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7" name="그룹 10"/>
            <p:cNvGrpSpPr/>
            <p:nvPr/>
          </p:nvGrpSpPr>
          <p:grpSpPr>
            <a:xfrm>
              <a:off x="213840" y="3928680"/>
              <a:ext cx="8787240" cy="2494800"/>
              <a:chOff x="213840" y="3928680"/>
              <a:chExt cx="8787240" cy="2494800"/>
            </a:xfrm>
          </p:grpSpPr>
          <p:sp>
            <p:nvSpPr>
              <p:cNvPr id="1048" name="AutoShape 4"/>
              <p:cNvSpPr/>
              <p:nvPr/>
            </p:nvSpPr>
            <p:spPr>
              <a:xfrm>
                <a:off x="285120" y="392868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9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그룹 7"/>
          <p:cNvGrpSpPr/>
          <p:nvPr/>
        </p:nvGrpSpPr>
        <p:grpSpPr>
          <a:xfrm>
            <a:off x="0" y="0"/>
            <a:ext cx="9325080" cy="6215040"/>
            <a:chOff x="0" y="0"/>
            <a:chExt cx="9325080" cy="6215040"/>
          </a:xfrm>
        </p:grpSpPr>
        <p:pic>
          <p:nvPicPr>
            <p:cNvPr id="10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3" name="그룹 20"/>
            <p:cNvGrpSpPr/>
            <p:nvPr/>
          </p:nvGrpSpPr>
          <p:grpSpPr>
            <a:xfrm>
              <a:off x="285480" y="1785960"/>
              <a:ext cx="9039600" cy="4429080"/>
              <a:chOff x="285480" y="1785960"/>
              <a:chExt cx="9039600" cy="4429080"/>
            </a:xfrm>
          </p:grpSpPr>
          <p:sp>
            <p:nvSpPr>
              <p:cNvPr id="1054" name="AutoShape 2"/>
              <p:cNvSpPr/>
              <p:nvPr/>
            </p:nvSpPr>
            <p:spPr>
              <a:xfrm>
                <a:off x="285480" y="1785960"/>
                <a:ext cx="875124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5" name="Text Box 25"/>
              <p:cNvSpPr/>
              <p:nvPr/>
            </p:nvSpPr>
            <p:spPr>
              <a:xfrm>
                <a:off x="428040" y="1896840"/>
                <a:ext cx="889704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성담론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뿐만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성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8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9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0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2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63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4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5" name="Text Box 6"/>
              <p:cNvSpPr/>
              <p:nvPr/>
            </p:nvSpPr>
            <p:spPr>
              <a:xfrm>
                <a:off x="357120" y="3136680"/>
                <a:ext cx="850140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8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9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0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 각각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71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그룹 10"/>
          <p:cNvGrpSpPr/>
          <p:nvPr/>
        </p:nvGrpSpPr>
        <p:grpSpPr>
          <a:xfrm>
            <a:off x="0" y="0"/>
            <a:ext cx="9501120" cy="6357240"/>
            <a:chOff x="0" y="0"/>
            <a:chExt cx="9501120" cy="6357240"/>
          </a:xfrm>
        </p:grpSpPr>
        <p:pic>
          <p:nvPicPr>
            <p:cNvPr id="10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5" name="그룹 34"/>
            <p:cNvGrpSpPr/>
            <p:nvPr/>
          </p:nvGrpSpPr>
          <p:grpSpPr>
            <a:xfrm>
              <a:off x="251280" y="1785600"/>
              <a:ext cx="8678160" cy="4571640"/>
              <a:chOff x="251280" y="1785600"/>
              <a:chExt cx="8678160" cy="457164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2384280"/>
                <a:ext cx="8643960" cy="397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8" name="Text Box 6"/>
              <p:cNvSpPr/>
              <p:nvPr/>
            </p:nvSpPr>
            <p:spPr>
              <a:xfrm>
                <a:off x="251280" y="2594520"/>
                <a:ext cx="86439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할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엄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 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00b0f0"/>
                    </a:solidFill>
                    <a:latin typeface="HY강M"/>
                    <a:ea typeface="HY강M"/>
                  </a:rPr>
                  <a:t>청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적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00b050"/>
                    </a:solidFill>
                    <a:latin typeface="HY강M"/>
                    <a:ea typeface="HY강M"/>
                  </a:rPr>
                  <a:t>녹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생활노인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증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9" name="그룹 15"/>
            <p:cNvGrpSpPr/>
            <p:nvPr/>
          </p:nvGrpSpPr>
          <p:grpSpPr>
            <a:xfrm>
              <a:off x="285480" y="785520"/>
              <a:ext cx="8643960" cy="856800"/>
              <a:chOff x="285480" y="785520"/>
              <a:chExt cx="8643960" cy="856800"/>
            </a:xfrm>
          </p:grpSpPr>
          <p:sp>
            <p:nvSpPr>
              <p:cNvPr id="1080" name="AutoShape 2"/>
              <p:cNvSpPr/>
              <p:nvPr/>
            </p:nvSpPr>
            <p:spPr>
              <a:xfrm>
                <a:off x="285480" y="785520"/>
                <a:ext cx="8643960" cy="856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1" name="Text Box 6"/>
              <p:cNvSpPr/>
              <p:nvPr/>
            </p:nvSpPr>
            <p:spPr>
              <a:xfrm>
                <a:off x="428040" y="799920"/>
                <a:ext cx="828684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제도 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83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4" name="그룹 10"/>
            <p:cNvGrpSpPr/>
            <p:nvPr/>
          </p:nvGrpSpPr>
          <p:grpSpPr>
            <a:xfrm>
              <a:off x="285480" y="142920"/>
              <a:ext cx="8715600" cy="6105960"/>
              <a:chOff x="285480" y="142920"/>
              <a:chExt cx="8715600" cy="6105960"/>
            </a:xfrm>
          </p:grpSpPr>
          <p:sp>
            <p:nvSpPr>
              <p:cNvPr id="1085" name="AutoShape 4"/>
              <p:cNvSpPr/>
              <p:nvPr/>
            </p:nvSpPr>
            <p:spPr>
              <a:xfrm>
                <a:off x="285480" y="142920"/>
                <a:ext cx="41436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6"/>
              <p:cNvSpPr/>
              <p:nvPr/>
            </p:nvSpPr>
            <p:spPr>
              <a:xfrm>
                <a:off x="285480" y="1095480"/>
                <a:ext cx="8715600" cy="515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차별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geism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정관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tereotype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rejudice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iscrimination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차별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지식과 기술의 낙후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그룹 29"/>
          <p:cNvGrpSpPr/>
          <p:nvPr/>
        </p:nvGrpSpPr>
        <p:grpSpPr>
          <a:xfrm>
            <a:off x="179280" y="27000"/>
            <a:ext cx="8964720" cy="6402240"/>
            <a:chOff x="179280" y="27000"/>
            <a:chExt cx="8964720" cy="6402240"/>
          </a:xfrm>
        </p:grpSpPr>
        <p:grpSp>
          <p:nvGrpSpPr>
            <p:cNvPr id="1088" name="그룹 18"/>
            <p:cNvGrpSpPr/>
            <p:nvPr/>
          </p:nvGrpSpPr>
          <p:grpSpPr>
            <a:xfrm>
              <a:off x="179280" y="27000"/>
              <a:ext cx="8964720" cy="984240"/>
              <a:chOff x="179280" y="27000"/>
              <a:chExt cx="8964720" cy="98424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8160" y="571320"/>
                <a:ext cx="881784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25"/>
              <p:cNvSpPr/>
              <p:nvPr/>
            </p:nvSpPr>
            <p:spPr>
              <a:xfrm>
                <a:off x="291960" y="642960"/>
                <a:ext cx="885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AutoShape 4"/>
              <p:cNvSpPr/>
              <p:nvPr/>
            </p:nvSpPr>
            <p:spPr>
              <a:xfrm>
                <a:off x="179280" y="27000"/>
                <a:ext cx="373212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92" name="그룹 11"/>
            <p:cNvGrpSpPr/>
            <p:nvPr/>
          </p:nvGrpSpPr>
          <p:grpSpPr>
            <a:xfrm>
              <a:off x="214920" y="1000080"/>
              <a:ext cx="8856000" cy="1055520"/>
              <a:chOff x="214920" y="1000080"/>
              <a:chExt cx="8856000" cy="1055520"/>
            </a:xfrm>
          </p:grpSpPr>
          <p:sp>
            <p:nvSpPr>
              <p:cNvPr id="1093" name="AutoShape 2"/>
              <p:cNvSpPr/>
              <p:nvPr/>
            </p:nvSpPr>
            <p:spPr>
              <a:xfrm>
                <a:off x="215640" y="1356480"/>
                <a:ext cx="885528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4" name="Text Box 6"/>
              <p:cNvSpPr/>
              <p:nvPr/>
            </p:nvSpPr>
            <p:spPr>
              <a:xfrm>
                <a:off x="214920" y="1356840"/>
                <a:ext cx="87832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노인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5" name="직사각형 17"/>
              <p:cNvSpPr/>
              <p:nvPr/>
            </p:nvSpPr>
            <p:spPr>
              <a:xfrm>
                <a:off x="214920" y="1000080"/>
                <a:ext cx="5783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6" name="AutoShape 2"/>
            <p:cNvSpPr/>
            <p:nvPr/>
          </p:nvSpPr>
          <p:spPr>
            <a:xfrm>
              <a:off x="288000" y="2428920"/>
              <a:ext cx="885600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7" name="Text Box 6"/>
            <p:cNvSpPr/>
            <p:nvPr/>
          </p:nvSpPr>
          <p:spPr>
            <a:xfrm>
              <a:off x="288720" y="2428920"/>
              <a:ext cx="878220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에서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8" name="직사각형 24"/>
            <p:cNvSpPr/>
            <p:nvPr/>
          </p:nvSpPr>
          <p:spPr>
            <a:xfrm>
              <a:off x="215640" y="2071440"/>
              <a:ext cx="5781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9" name="그룹 15"/>
            <p:cNvGrpSpPr/>
            <p:nvPr/>
          </p:nvGrpSpPr>
          <p:grpSpPr>
            <a:xfrm>
              <a:off x="288000" y="4929120"/>
              <a:ext cx="8856000" cy="1500120"/>
              <a:chOff x="288000" y="4929120"/>
              <a:chExt cx="8856000" cy="150012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288000" y="5288040"/>
                <a:ext cx="885600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1" name="Text Box 6"/>
              <p:cNvSpPr/>
              <p:nvPr/>
            </p:nvSpPr>
            <p:spPr>
              <a:xfrm>
                <a:off x="288360" y="5295600"/>
                <a:ext cx="885564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9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베이비붐 세대가 노인이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면 노인권익운동이 활성화될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2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직사각형 28"/>
              <p:cNvSpPr/>
              <p:nvPr/>
            </p:nvSpPr>
            <p:spPr>
              <a:xfrm>
                <a:off x="288360" y="4929120"/>
                <a:ext cx="578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4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옴부즈맨제도가 대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8" name="그룹 11"/>
            <p:cNvGrpSpPr/>
            <p:nvPr/>
          </p:nvGrpSpPr>
          <p:grpSpPr>
            <a:xfrm>
              <a:off x="214200" y="1217520"/>
              <a:ext cx="8715600" cy="5091120"/>
              <a:chOff x="214200" y="1217520"/>
              <a:chExt cx="8715600" cy="5091120"/>
            </a:xfrm>
          </p:grpSpPr>
          <p:sp>
            <p:nvSpPr>
              <p:cNvPr id="1109" name="AutoShape 2"/>
              <p:cNvSpPr/>
              <p:nvPr/>
            </p:nvSpPr>
            <p:spPr>
              <a:xfrm>
                <a:off x="214200" y="1556280"/>
                <a:ext cx="871560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0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1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13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4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6-327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5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그룹 10"/>
          <p:cNvGrpSpPr/>
          <p:nvPr/>
        </p:nvGrpSpPr>
        <p:grpSpPr>
          <a:xfrm>
            <a:off x="285840" y="79200"/>
            <a:ext cx="9686880" cy="6350040"/>
            <a:chOff x="285840" y="79200"/>
            <a:chExt cx="9686880" cy="6350040"/>
          </a:xfrm>
        </p:grpSpPr>
        <p:grpSp>
          <p:nvGrpSpPr>
            <p:cNvPr id="1117" name="그룹 11"/>
            <p:cNvGrpSpPr/>
            <p:nvPr/>
          </p:nvGrpSpPr>
          <p:grpSpPr>
            <a:xfrm>
              <a:off x="285840" y="713880"/>
              <a:ext cx="9686880" cy="2481120"/>
              <a:chOff x="285840" y="713880"/>
              <a:chExt cx="9686880" cy="2481120"/>
            </a:xfrm>
          </p:grpSpPr>
          <p:sp>
            <p:nvSpPr>
              <p:cNvPr id="1118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9" name="Text Box 6"/>
              <p:cNvSpPr/>
              <p:nvPr/>
            </p:nvSpPr>
            <p:spPr>
              <a:xfrm>
                <a:off x="357120" y="1071000"/>
                <a:ext cx="9615600" cy="20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buse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bandonment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eglect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착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exploitation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적절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altreatment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적절한 처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21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22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23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4" name="Text Box 6"/>
              <p:cNvSpPr/>
              <p:nvPr/>
            </p:nvSpPr>
            <p:spPr>
              <a:xfrm>
                <a:off x="357120" y="3714480"/>
                <a:ext cx="850104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5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8"/>
          <p:cNvGrpSpPr/>
          <p:nvPr/>
        </p:nvGrpSpPr>
        <p:grpSpPr>
          <a:xfrm>
            <a:off x="285840" y="500040"/>
            <a:ext cx="8694720" cy="5857920"/>
            <a:chOff x="285840" y="500040"/>
            <a:chExt cx="8694720" cy="5857920"/>
          </a:xfrm>
        </p:grpSpPr>
        <p:sp>
          <p:nvSpPr>
            <p:cNvPr id="1127" name="AutoShape 2"/>
            <p:cNvSpPr/>
            <p:nvPr/>
          </p:nvSpPr>
          <p:spPr>
            <a:xfrm>
              <a:off x="285840" y="928440"/>
              <a:ext cx="869472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46836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적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부양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31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2" name="Text Box 6"/>
            <p:cNvSpPr/>
            <p:nvPr/>
          </p:nvSpPr>
          <p:spPr>
            <a:xfrm>
              <a:off x="356760" y="907920"/>
              <a:ext cx="8573040" cy="49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2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적 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학대 등의 순으로 학대 경험 많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,259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학대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14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.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차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4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2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9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구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3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3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5" name="직사각형 19"/>
            <p:cNvSpPr/>
            <p:nvPr/>
          </p:nvSpPr>
          <p:spPr>
            <a:xfrm>
              <a:off x="285480" y="71280"/>
              <a:ext cx="56437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6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7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8" name="Text Box 6"/>
              <p:cNvSpPr/>
              <p:nvPr/>
            </p:nvSpPr>
            <p:spPr>
              <a:xfrm>
                <a:off x="464760" y="983880"/>
                <a:ext cx="878724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옴부즈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ombudsma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9" name="직사각형 14"/>
              <p:cNvSpPr/>
              <p:nvPr/>
            </p:nvSpPr>
            <p:spPr>
              <a:xfrm>
                <a:off x="285480" y="35676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4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43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4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5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6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7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92%, 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0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스마트폰 보유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6%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2020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그룹 14"/>
          <p:cNvGrpSpPr/>
          <p:nvPr/>
        </p:nvGrpSpPr>
        <p:grpSpPr>
          <a:xfrm>
            <a:off x="250920" y="0"/>
            <a:ext cx="8750160" cy="6930360"/>
            <a:chOff x="250920" y="0"/>
            <a:chExt cx="8750160" cy="6930360"/>
          </a:xfrm>
        </p:grpSpPr>
        <p:grpSp>
          <p:nvGrpSpPr>
            <p:cNvPr id="1149" name="그룹 11"/>
            <p:cNvGrpSpPr/>
            <p:nvPr/>
          </p:nvGrpSpPr>
          <p:grpSpPr>
            <a:xfrm>
              <a:off x="285120" y="500040"/>
              <a:ext cx="8715960" cy="3458880"/>
              <a:chOff x="285120" y="500040"/>
              <a:chExt cx="871596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120" y="857160"/>
                <a:ext cx="8644680" cy="3072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48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완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48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50920" y="4000680"/>
              <a:ext cx="8678880" cy="2929680"/>
              <a:chOff x="250920" y="4000680"/>
              <a:chExt cx="8678880" cy="292968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120" y="4358160"/>
                <a:ext cx="864468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50920" y="4365720"/>
                <a:ext cx="8572680" cy="25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장애인 응급안전안심서비스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인공지능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AI)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물인터넷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IoT)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로봇 등을 이용한 노인돌봄 장비 개발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e2947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6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와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9276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안전사고와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5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2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2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응속도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45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52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천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면허 반환 보상강화 등이 요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범죄와 범죄피해에 대한 사회적 관심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3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.7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1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58800"/>
              <a:chOff x="285480" y="2298600"/>
              <a:chExt cx="8712360" cy="155880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0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36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중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재산범죄와 보이스피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해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423120"/>
            <a:chOff x="0" y="0"/>
            <a:chExt cx="9215280" cy="642312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856080"/>
              <a:chOff x="252360" y="857160"/>
              <a:chExt cx="8962920" cy="85608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85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 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205000"/>
              <a:ext cx="8820000" cy="4218120"/>
              <a:chOff x="252360" y="2205000"/>
              <a:chExt cx="8820000" cy="42181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205000"/>
                <a:ext cx="8820000" cy="4218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323640" y="2276280"/>
                <a:ext cx="8643960" cy="41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명치료 중단으로 자연스러운 죽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와 생명유지가 무의미하다고 판단되는 사람을 직간접적 방법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통 없이 죽음에 이르게 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 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177336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220920"/>
              <a:ext cx="8501400" cy="19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들은 장례준비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전연명의료 의향서 작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준비교육 등 좋은 죽음을 위한 준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좋은 죽음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91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삶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”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1%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9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전체인구 자살사망률의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.62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배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8.4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 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 침체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9"/>
          <p:cNvGrpSpPr/>
          <p:nvPr/>
        </p:nvGrpSpPr>
        <p:grpSpPr>
          <a:xfrm>
            <a:off x="252360" y="428760"/>
            <a:ext cx="8891640" cy="6000480"/>
            <a:chOff x="252360" y="428760"/>
            <a:chExt cx="8891640" cy="6000480"/>
          </a:xfrm>
        </p:grpSpPr>
        <p:sp>
          <p:nvSpPr>
            <p:cNvPr id="1021" name="AutoShape 2"/>
            <p:cNvSpPr/>
            <p:nvPr/>
          </p:nvSpPr>
          <p:spPr>
            <a:xfrm>
              <a:off x="252360" y="928440"/>
              <a:ext cx="882036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2" name="Text Box 25"/>
            <p:cNvSpPr/>
            <p:nvPr/>
          </p:nvSpPr>
          <p:spPr>
            <a:xfrm>
              <a:off x="428400" y="993600"/>
              <a:ext cx="8715600" cy="52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홀로 사회로의 전환 과정에서 홀로 죽어서 시신이 방치되는 죽음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개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척 등 주변사람들과 단절된 채 홀로 사는 사람이 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병사 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혼자 임종을 맞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신이 일정한 시간이 흐른 뒤 발견되는 죽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유형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297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독사 통계자료 생산되지 않아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연고 사망자 수로 추정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2020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무연고 사망자는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2,880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명으로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17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부터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4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간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천명 이상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연고 사망자의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2%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정도가 노인이나 중장년층 무연고 사망자도 다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미혼 독신가구 증가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혼 증가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주말부부와 기러기 가족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가족과의 별거와 해체 등의 요인이 작용하므로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에 관계없이 증가 예측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과 해결방안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동체사회 와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홀로 사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지연을 위한 대책 수립 집행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제도 강화 및 복지사각지대의 중장년층 대책 강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행 고독사 대응방안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맞춤돌봄서비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연고자 장례지원서비스 등 실시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민간기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연고 사망자의 유류품 정리 회사 운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 기본계획 수립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위험자 지원대책 등 규정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3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고독사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5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6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7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망치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훔치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    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하여 사랑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 단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00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8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30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3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4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2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현재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5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6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43:40Z</dcterms:modified>
  <cp:revision>45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