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8A2C-7E3B-4618-9837-3845EF4CBE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A7FE-708F-448E-B3F4-BB6C55D6812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5BA5-EC26-49A0-BA8A-20ACEC4D821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6BC0B-5422-43FF-870E-CABE9EB7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49860-193C-4E94-BD62-DCB3538B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EEA41-7CD7-4A7E-A5DB-F4EBCC85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8A812-919F-4759-8E8B-EFA9EE13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DD7EF-2975-4B8A-B1B4-ED9CCE22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9438F-F499-4B0C-A0DF-D057C622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266F1-E476-490A-8234-C8FE2645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1C40D-9FE6-4362-86CE-892E0943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884A4-4680-494E-A5A2-57C71911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8E640-C1C7-424A-8BDB-F6C4B138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B306D-1171-4036-AA3E-7BDBD9D9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8050F-D72C-40BD-A448-4FFBCFD6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6979-B010-4E80-AA59-B1587EC38D8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BA09-B6C1-454D-BBD5-3F226D47B35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D182-FF3C-4F4A-A320-991B6E7FFCA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8D4A-9D6E-4356-964B-4AF3AF2DDF6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853D-FC41-4A93-9648-C2B5B2ADADB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HY강B"/>
                <a:ea typeface="HY강B"/>
              </a:rPr>
              <a:t>8</a:t>
            </a:r>
            <a:r>
              <a:rPr b="1" lang="ko-KR" sz="3600" spc="-1" strike="noStrike">
                <a:solidFill>
                  <a:srgbClr val="ff00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11"/>
          <p:cNvGrpSpPr/>
          <p:nvPr/>
        </p:nvGrpSpPr>
        <p:grpSpPr>
          <a:xfrm>
            <a:off x="108000" y="71280"/>
            <a:ext cx="8856720" cy="6286680"/>
            <a:chOff x="108000" y="71280"/>
            <a:chExt cx="8856720" cy="6286680"/>
          </a:xfrm>
        </p:grpSpPr>
        <p:sp>
          <p:nvSpPr>
            <p:cNvPr id="371" name="AutoShape 2"/>
            <p:cNvSpPr/>
            <p:nvPr/>
          </p:nvSpPr>
          <p:spPr>
            <a:xfrm>
              <a:off x="108000" y="571320"/>
              <a:ext cx="885672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92040" y="725040"/>
              <a:ext cx="8428320" cy="56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업화 이후의 사회변화와 함께 고부관계 급격한 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통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는 예속적 지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계계승과 집안일 담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에게의 복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고부갈등 내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대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가계관리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높은 학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구가치관 추종으로 고부갈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성 상승과 외현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원인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권력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역할기대와 수행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애정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대차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척간 우애 소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의견무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일 간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이기적  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태도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며느리와 비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의 이기적 태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와의 대화부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습 차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손자녀 양육 갈등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예방과 해결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자기통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사소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갈등해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능력 향상과 투사보다는 자기 탓으로 지각하는 태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상대방 입장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지지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아들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교량적 역할이 중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부갈등 예방과 해결 위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구체적 행동지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7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직사각형 14"/>
            <p:cNvSpPr/>
            <p:nvPr/>
          </p:nvSpPr>
          <p:spPr>
            <a:xfrm>
              <a:off x="285480" y="712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고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5"/>
          <p:cNvGrpSpPr/>
          <p:nvPr/>
        </p:nvGrpSpPr>
        <p:grpSpPr>
          <a:xfrm>
            <a:off x="285840" y="71280"/>
            <a:ext cx="8572320" cy="6143760"/>
            <a:chOff x="285840" y="71280"/>
            <a:chExt cx="8572320" cy="6143760"/>
          </a:xfrm>
        </p:grpSpPr>
        <p:grpSp>
          <p:nvGrpSpPr>
            <p:cNvPr id="375" name="그룹 20"/>
            <p:cNvGrpSpPr/>
            <p:nvPr/>
          </p:nvGrpSpPr>
          <p:grpSpPr>
            <a:xfrm>
              <a:off x="357120" y="428400"/>
              <a:ext cx="8501040" cy="5786640"/>
              <a:chOff x="357120" y="428400"/>
              <a:chExt cx="8501040" cy="5786640"/>
            </a:xfrm>
          </p:grpSpPr>
          <p:sp>
            <p:nvSpPr>
              <p:cNvPr id="376" name="AutoShape 2"/>
              <p:cNvSpPr/>
              <p:nvPr/>
            </p:nvSpPr>
            <p:spPr>
              <a:xfrm>
                <a:off x="357120" y="428400"/>
                <a:ext cx="8501040" cy="578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Text Box 25"/>
              <p:cNvSpPr/>
              <p:nvPr/>
            </p:nvSpPr>
            <p:spPr>
              <a:xfrm>
                <a:off x="461880" y="642600"/>
                <a:ext cx="8286840" cy="550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연장으로 조부모 역할 기간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에 대한 가치 규범 부재로 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 혼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변적 가족관계로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의 이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음의 재경험과 생의 연속성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과 성취감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과 성취를 통한 대리만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연속성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긴장 사전경험을 통한 건전한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발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결속력 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역사 계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소속감과 정체감 강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양육과정에서 자녀와 갈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의 무용감과 소원한 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른 나이에 조부모가 되는 것에 대한 부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반적으로 원거리형 또는 소원한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미추구형 또는 동료적 유형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언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혜원천형은 줄어들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의 잦은 접촉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공동활동 확대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8" name="AutoShape 7"/>
            <p:cNvSpPr/>
            <p:nvPr/>
          </p:nvSpPr>
          <p:spPr>
            <a:xfrm>
              <a:off x="28584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조부모</a:t>
              </a: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손자녀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그룹 11"/>
          <p:cNvGrpSpPr/>
          <p:nvPr/>
        </p:nvGrpSpPr>
        <p:grpSpPr>
          <a:xfrm>
            <a:off x="285840" y="0"/>
            <a:ext cx="8858160" cy="6286680"/>
            <a:chOff x="285840" y="0"/>
            <a:chExt cx="8858160" cy="6286680"/>
          </a:xfrm>
        </p:grpSpPr>
        <p:grpSp>
          <p:nvGrpSpPr>
            <p:cNvPr id="380" name="그룹 11"/>
            <p:cNvGrpSpPr/>
            <p:nvPr/>
          </p:nvGrpSpPr>
          <p:grpSpPr>
            <a:xfrm>
              <a:off x="285840" y="747720"/>
              <a:ext cx="8643960" cy="3038400"/>
              <a:chOff x="285840" y="747720"/>
              <a:chExt cx="8643960" cy="3038400"/>
            </a:xfrm>
          </p:grpSpPr>
          <p:sp>
            <p:nvSpPr>
              <p:cNvPr id="381" name="AutoShape 2"/>
              <p:cNvSpPr/>
              <p:nvPr/>
            </p:nvSpPr>
            <p:spPr>
              <a:xfrm>
                <a:off x="285840" y="1104840"/>
                <a:ext cx="8643960" cy="2681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2" name="Text Box 6"/>
              <p:cNvSpPr/>
              <p:nvPr/>
            </p:nvSpPr>
            <p:spPr>
              <a:xfrm>
                <a:off x="357120" y="1143000"/>
                <a:ext cx="8501400" cy="257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관계 특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결속력과 감정이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적이고 지속적 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적 지원의 강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용한 사회화 모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구적 지원자로 기능하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계 중요성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 연락과 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6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7%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별거자녀에 비해 연락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가 매우 제한적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높을수록 형제관계 강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관계에 대한 연구가 부족하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치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관심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대형으로 구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이 가장 많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직사각형 7"/>
              <p:cNvSpPr/>
              <p:nvPr/>
            </p:nvSpPr>
            <p:spPr>
              <a:xfrm>
                <a:off x="285840" y="7477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형제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4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형제 및 친척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5" name="그룹 11"/>
            <p:cNvGrpSpPr/>
            <p:nvPr/>
          </p:nvGrpSpPr>
          <p:grpSpPr>
            <a:xfrm>
              <a:off x="285840" y="3903840"/>
              <a:ext cx="8643960" cy="2382840"/>
              <a:chOff x="285840" y="3903840"/>
              <a:chExt cx="8643960" cy="2382840"/>
            </a:xfrm>
          </p:grpSpPr>
          <p:sp>
            <p:nvSpPr>
              <p:cNvPr id="386" name="AutoShape 2"/>
              <p:cNvSpPr/>
              <p:nvPr/>
            </p:nvSpPr>
            <p:spPr>
              <a:xfrm>
                <a:off x="285840" y="4260600"/>
                <a:ext cx="8643960" cy="202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Text Box 6"/>
              <p:cNvSpPr/>
              <p:nvPr/>
            </p:nvSpPr>
            <p:spPr>
              <a:xfrm>
                <a:off x="357120" y="428616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법상 친척범위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혈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인척과 배우자이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생활에서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 범위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축소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별한 집안 행사가 있는 경우에 관계유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과의 연락과 접촉은 매우 제한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친척관계망은 가족행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위기시의 주요한 도구적 지원과 정서적 지지망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을 수행하므로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사회에서는 처가와의 교류와 지지가 많아지는 경향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은 친가 교류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직사각형 14"/>
              <p:cNvSpPr/>
              <p:nvPr/>
            </p:nvSpPr>
            <p:spPr>
              <a:xfrm>
                <a:off x="285840" y="390384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친척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389" name="Picture 2" descr="C:\DOCUME~1\USER\LOCALS~1\Temp\UNI000006ac76d4.gif"/>
            <p:cNvPicPr/>
            <p:nvPr/>
          </p:nvPicPr>
          <p:blipFill>
            <a:blip r:embed="rId11"/>
            <a:stretch/>
          </p:blipFill>
          <p:spPr>
            <a:xfrm>
              <a:off x="7535880" y="0"/>
              <a:ext cx="1608120" cy="92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4. 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친구 및 이웃 관계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2" name="그룹 9"/>
          <p:cNvGrpSpPr/>
          <p:nvPr/>
        </p:nvGrpSpPr>
        <p:grpSpPr>
          <a:xfrm>
            <a:off x="142920" y="1071720"/>
            <a:ext cx="8929800" cy="5306760"/>
            <a:chOff x="142920" y="1071720"/>
            <a:chExt cx="8929800" cy="5306760"/>
          </a:xfrm>
        </p:grpSpPr>
        <p:sp>
          <p:nvSpPr>
            <p:cNvPr id="393" name="AutoShape 2"/>
            <p:cNvSpPr/>
            <p:nvPr/>
          </p:nvSpPr>
          <p:spPr>
            <a:xfrm>
              <a:off x="142920" y="1857240"/>
              <a:ext cx="8928360" cy="45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323640" y="1857240"/>
              <a:ext cx="867744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의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은퇴와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축소를 보완해줄 수 있는 심리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지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화의 유용한 모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아유용감과 자아지지 기반 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하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 대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사기의 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의 유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nfidant, friend, acquaintance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장애요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 접근성 저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비 부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의 가능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선택 기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혼상태 같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여건과 일이 비슷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슷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험을 갖고 있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흥미나 취미가 비슷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관계 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 친구 사귈 기회 제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와 이웃 중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년기 이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가 대부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도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하고 경제적 여유 있을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체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에 적극 참여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에 노인이 많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일지역에 오래 거주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젊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절에 친구가 많은 사람이 노년기에도 친구가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절친한 친구가 있는 노인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93.6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.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AutoShape 29"/>
            <p:cNvSpPr/>
            <p:nvPr/>
          </p:nvSpPr>
          <p:spPr>
            <a:xfrm>
              <a:off x="357120" y="14288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친구관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Text Box 25"/>
            <p:cNvSpPr/>
            <p:nvPr/>
          </p:nvSpPr>
          <p:spPr>
            <a:xfrm>
              <a:off x="285480" y="1071720"/>
              <a:ext cx="878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과의 분리현상이 가속화됨에 따라 친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관계 중요성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그룹 8"/>
          <p:cNvGrpSpPr/>
          <p:nvPr/>
        </p:nvGrpSpPr>
        <p:grpSpPr>
          <a:xfrm>
            <a:off x="285840" y="142920"/>
            <a:ext cx="8715240" cy="6327720"/>
            <a:chOff x="285840" y="142920"/>
            <a:chExt cx="8715240" cy="6327720"/>
          </a:xfrm>
        </p:grpSpPr>
        <p:grpSp>
          <p:nvGrpSpPr>
            <p:cNvPr id="398" name="그룹 12"/>
            <p:cNvGrpSpPr/>
            <p:nvPr/>
          </p:nvGrpSpPr>
          <p:grpSpPr>
            <a:xfrm>
              <a:off x="2071800" y="5572080"/>
              <a:ext cx="6929280" cy="898560"/>
              <a:chOff x="2071800" y="5572080"/>
              <a:chExt cx="6929280" cy="898560"/>
            </a:xfrm>
          </p:grpSpPr>
          <p:pic>
            <p:nvPicPr>
              <p:cNvPr id="39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071800" y="557208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Rectangle 4"/>
              <p:cNvSpPr/>
              <p:nvPr/>
            </p:nvSpPr>
            <p:spPr>
              <a:xfrm>
                <a:off x="3022560" y="5911920"/>
                <a:ext cx="5978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삶의 이면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(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裏面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1" name="그룹 8"/>
            <p:cNvGrpSpPr/>
            <p:nvPr/>
          </p:nvGrpSpPr>
          <p:grpSpPr>
            <a:xfrm>
              <a:off x="285840" y="142920"/>
              <a:ext cx="8640720" cy="5214960"/>
              <a:chOff x="285840" y="142920"/>
              <a:chExt cx="8640720" cy="5214960"/>
            </a:xfrm>
          </p:grpSpPr>
          <p:sp>
            <p:nvSpPr>
              <p:cNvPr id="402" name="AutoShape 2"/>
              <p:cNvSpPr/>
              <p:nvPr/>
            </p:nvSpPr>
            <p:spPr>
              <a:xfrm>
                <a:off x="285840" y="642960"/>
                <a:ext cx="8640720" cy="4714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Text Box 6"/>
              <p:cNvSpPr/>
              <p:nvPr/>
            </p:nvSpPr>
            <p:spPr>
              <a:xfrm>
                <a:off x="500040" y="704880"/>
                <a:ext cx="8143920" cy="463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친구관계와 이웃관계는 대부분 중복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년기에 비해 노년기에 전반적으로 이웃 접촉이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매일이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8-10 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이 남성보다 이웃 교류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장생활 등으로 친구나 이웃관계 소홀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나서 교류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향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관계의 유지를 더욱 중시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남과 전화나 서신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통해서도 교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농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보다 농촌 지역 노인의 이웃교류가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노인이 동일지역 거주기간이 길고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은 개방적 공동체 사회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직사각형 14"/>
              <p:cNvSpPr/>
              <p:nvPr/>
            </p:nvSpPr>
            <p:spPr>
              <a:xfrm>
                <a:off x="318960" y="14292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이웃관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388960" y="1999800"/>
            <a:ext cx="4032000" cy="3776760"/>
            <a:chOff x="-2388960" y="1999800"/>
            <a:chExt cx="4032000" cy="377676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61160" y="1872000"/>
              <a:ext cx="3776760" cy="4032000"/>
            </a:xfrm>
            <a:custGeom>
              <a:avLst/>
              <a:gdLst>
                <a:gd name="textAreaLeft" fmla="*/ 69840 w 3776760"/>
                <a:gd name="textAreaRight" fmla="*/ 3706920 w 377676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60280" y="3043080"/>
              <a:ext cx="2453400" cy="1717560"/>
            </a:xfrm>
            <a:custGeom>
              <a:avLst/>
              <a:gdLst>
                <a:gd name="textAreaLeft" fmla="*/ 0 w 2453400"/>
                <a:gd name="textAreaRight" fmla="*/ 2453400 w 245340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85776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3929040"/>
            <a:ext cx="857160" cy="1285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V="1">
            <a:off x="-71280" y="2714400"/>
            <a:ext cx="857160" cy="1207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7" name="그룹 37"/>
          <p:cNvGrpSpPr/>
          <p:nvPr/>
        </p:nvGrpSpPr>
        <p:grpSpPr>
          <a:xfrm>
            <a:off x="642960" y="2071800"/>
            <a:ext cx="8199360" cy="3614760"/>
            <a:chOff x="642960" y="2071800"/>
            <a:chExt cx="8199360" cy="3614760"/>
          </a:xfrm>
        </p:grpSpPr>
        <p:sp>
          <p:nvSpPr>
            <p:cNvPr id="288" name="AutoShape 4"/>
            <p:cNvSpPr/>
            <p:nvPr/>
          </p:nvSpPr>
          <p:spPr>
            <a:xfrm>
              <a:off x="1622160" y="2071800"/>
              <a:ext cx="722016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 사회관계망과 사회적 지지의 변화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9" name="Group 14"/>
            <p:cNvGrpSpPr/>
            <p:nvPr/>
          </p:nvGrpSpPr>
          <p:grpSpPr>
            <a:xfrm>
              <a:off x="642960" y="2214360"/>
              <a:ext cx="856800" cy="714600"/>
              <a:chOff x="642960" y="2214360"/>
              <a:chExt cx="856800" cy="714600"/>
            </a:xfrm>
          </p:grpSpPr>
          <p:sp>
            <p:nvSpPr>
              <p:cNvPr id="290" name="Oval 15"/>
              <p:cNvSpPr/>
              <p:nvPr/>
            </p:nvSpPr>
            <p:spPr>
              <a:xfrm>
                <a:off x="664200" y="2214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16"/>
              <p:cNvSpPr/>
              <p:nvPr/>
            </p:nvSpPr>
            <p:spPr>
              <a:xfrm>
                <a:off x="664200" y="2216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218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8"/>
              <p:cNvSpPr/>
              <p:nvPr/>
            </p:nvSpPr>
            <p:spPr>
              <a:xfrm>
                <a:off x="642960" y="2220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295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18"/>
              <p:cNvSpPr/>
              <p:nvPr/>
            </p:nvSpPr>
            <p:spPr>
              <a:xfrm>
                <a:off x="642960" y="35758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4"/>
            <p:cNvGrpSpPr/>
            <p:nvPr/>
          </p:nvGrpSpPr>
          <p:grpSpPr>
            <a:xfrm>
              <a:off x="642960" y="4929480"/>
              <a:ext cx="856800" cy="719280"/>
              <a:chOff x="642960" y="4929480"/>
              <a:chExt cx="856800" cy="719280"/>
            </a:xfrm>
          </p:grpSpPr>
          <p:sp>
            <p:nvSpPr>
              <p:cNvPr id="300" name="Oval 15"/>
              <p:cNvSpPr/>
              <p:nvPr/>
            </p:nvSpPr>
            <p:spPr>
              <a:xfrm>
                <a:off x="664200" y="4931640"/>
                <a:ext cx="777600" cy="71712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Oval 16"/>
              <p:cNvSpPr/>
              <p:nvPr/>
            </p:nvSpPr>
            <p:spPr>
              <a:xfrm>
                <a:off x="664200" y="493344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929480"/>
                <a:ext cx="694440" cy="6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18"/>
              <p:cNvSpPr/>
              <p:nvPr/>
            </p:nvSpPr>
            <p:spPr>
              <a:xfrm>
                <a:off x="642960" y="4929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4" name="AutoShape 4"/>
            <p:cNvSpPr/>
            <p:nvPr/>
          </p:nvSpPr>
          <p:spPr>
            <a:xfrm>
              <a:off x="1643040" y="34290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가족의 구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기능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생활주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관계상의 변화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AutoShape 4"/>
            <p:cNvSpPr/>
            <p:nvPr/>
          </p:nvSpPr>
          <p:spPr>
            <a:xfrm>
              <a:off x="1643040" y="478656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의 친구 및 이웃관계의 변화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6" name="AutoShape 7"/>
          <p:cNvSpPr/>
          <p:nvPr/>
        </p:nvSpPr>
        <p:spPr>
          <a:xfrm>
            <a:off x="357120" y="1357200"/>
            <a:ext cx="160668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8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그룹 11"/>
          <p:cNvGrpSpPr/>
          <p:nvPr/>
        </p:nvGrpSpPr>
        <p:grpSpPr>
          <a:xfrm>
            <a:off x="0" y="0"/>
            <a:ext cx="9144000" cy="6344640"/>
            <a:chOff x="0" y="0"/>
            <a:chExt cx="9144000" cy="6344640"/>
          </a:xfrm>
        </p:grpSpPr>
        <p:pic>
          <p:nvPicPr>
            <p:cNvPr id="30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사회관계망과 사회적 지지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1" name="그룹 22"/>
            <p:cNvGrpSpPr/>
            <p:nvPr/>
          </p:nvGrpSpPr>
          <p:grpSpPr>
            <a:xfrm>
              <a:off x="180720" y="1068120"/>
              <a:ext cx="8963280" cy="5276520"/>
              <a:chOff x="180720" y="1068120"/>
              <a:chExt cx="8963280" cy="5276520"/>
            </a:xfrm>
          </p:grpSpPr>
          <p:sp>
            <p:nvSpPr>
              <p:cNvPr id="312" name="AutoShape 2"/>
              <p:cNvSpPr/>
              <p:nvPr/>
            </p:nvSpPr>
            <p:spPr>
              <a:xfrm>
                <a:off x="180720" y="1571400"/>
                <a:ext cx="8820720" cy="2500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Text Box 25"/>
              <p:cNvSpPr/>
              <p:nvPr/>
            </p:nvSpPr>
            <p:spPr>
              <a:xfrm>
                <a:off x="213840" y="1571400"/>
                <a:ext cx="8930160" cy="25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이 사회적 정체성을 유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자원과 서비스를 주고 받을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 있는 사회적 관계의 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의 그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網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망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조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성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작용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환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빈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의 성원과 상호작용하는 과정에서 자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물질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정서적 지지를 주고 받는 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 요청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계적 보상속성을 따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14" name="그룹 18"/>
              <p:cNvGrpSpPr/>
              <p:nvPr/>
            </p:nvGrpSpPr>
            <p:grpSpPr>
              <a:xfrm>
                <a:off x="180720" y="4695840"/>
                <a:ext cx="8963280" cy="1648800"/>
                <a:chOff x="180720" y="4695840"/>
                <a:chExt cx="8963280" cy="1648800"/>
              </a:xfrm>
            </p:grpSpPr>
            <p:sp>
              <p:nvSpPr>
                <p:cNvPr id="315" name="AutoShape 2"/>
                <p:cNvSpPr/>
                <p:nvPr/>
              </p:nvSpPr>
              <p:spPr>
                <a:xfrm>
                  <a:off x="180720" y="4737240"/>
                  <a:ext cx="8820720" cy="157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25"/>
                <p:cNvSpPr/>
                <p:nvPr/>
              </p:nvSpPr>
              <p:spPr>
                <a:xfrm>
                  <a:off x="213840" y="4695840"/>
                  <a:ext cx="8930160" cy="164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실 등으로 인해 사회적 지지의 필요성은 증가하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지지는 오히려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공동체사회의 와해 등으로 노인에 대한 지지 더욱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과 지지의 축소로 미충족 욕구나 문제가 심화될 가능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따라서 공식 및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관계망의 지지에 대한 평가와 개입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AutoShape 4"/>
              <p:cNvSpPr/>
              <p:nvPr/>
            </p:nvSpPr>
            <p:spPr>
              <a:xfrm>
                <a:off x="213840" y="106812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AutoShape 4"/>
              <p:cNvSpPr/>
              <p:nvPr/>
            </p:nvSpPr>
            <p:spPr>
              <a:xfrm>
                <a:off x="213840" y="421164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그룹 11"/>
          <p:cNvGrpSpPr/>
          <p:nvPr/>
        </p:nvGrpSpPr>
        <p:grpSpPr>
          <a:xfrm>
            <a:off x="0" y="0"/>
            <a:ext cx="9144000" cy="6359040"/>
            <a:chOff x="0" y="0"/>
            <a:chExt cx="9144000" cy="6359040"/>
          </a:xfrm>
        </p:grpSpPr>
        <p:pic>
          <p:nvPicPr>
            <p:cNvPr id="32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가족의 구조와 기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2" name="그룹 34"/>
            <p:cNvGrpSpPr/>
            <p:nvPr/>
          </p:nvGrpSpPr>
          <p:grpSpPr>
            <a:xfrm>
              <a:off x="285480" y="784080"/>
              <a:ext cx="8643960" cy="2767320"/>
              <a:chOff x="285480" y="784080"/>
              <a:chExt cx="8643960" cy="2767320"/>
            </a:xfrm>
          </p:grpSpPr>
          <p:sp>
            <p:nvSpPr>
              <p:cNvPr id="323" name="AutoShape 2"/>
              <p:cNvSpPr/>
              <p:nvPr/>
            </p:nvSpPr>
            <p:spPr>
              <a:xfrm>
                <a:off x="285480" y="1193760"/>
                <a:ext cx="8643960" cy="2303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AutoShape 4"/>
              <p:cNvSpPr/>
              <p:nvPr/>
            </p:nvSpPr>
            <p:spPr>
              <a:xfrm>
                <a:off x="356760" y="784080"/>
                <a:ext cx="442908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가족의 개념과 유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Text Box 6"/>
              <p:cNvSpPr/>
              <p:nvPr/>
            </p:nvSpPr>
            <p:spPr>
              <a:xfrm>
                <a:off x="499680" y="1283760"/>
                <a:ext cx="8429760" cy="22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년기에 가족은 사회적 관계의 중심축이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장 중요한 지지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혈연공동체인 가족과 주거공동체인 가구의 일치성이 높고 가족에 대한 객관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료가 부족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구를 기준으로 노인가족의 구조를 설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유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직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변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비정형가족 증가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남형 직계가족 증가에도 직계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은 줄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 소폭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empty nest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적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隣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프가 식지 않는 거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거주 등의 수정확대가족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6" name="그룹 34"/>
            <p:cNvGrpSpPr/>
            <p:nvPr/>
          </p:nvGrpSpPr>
          <p:grpSpPr>
            <a:xfrm>
              <a:off x="285480" y="3571560"/>
              <a:ext cx="8643960" cy="2787480"/>
              <a:chOff x="285480" y="3571560"/>
              <a:chExt cx="8643960" cy="2787480"/>
            </a:xfrm>
          </p:grpSpPr>
          <p:sp>
            <p:nvSpPr>
              <p:cNvPr id="327" name="AutoShape 2"/>
              <p:cNvSpPr/>
              <p:nvPr/>
            </p:nvSpPr>
            <p:spPr>
              <a:xfrm>
                <a:off x="285480" y="4021920"/>
                <a:ext cx="8643960" cy="2334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8" name="AutoShape 4"/>
              <p:cNvSpPr/>
              <p:nvPr/>
            </p:nvSpPr>
            <p:spPr>
              <a:xfrm>
                <a:off x="356760" y="3571560"/>
                <a:ext cx="435780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가족의 구조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9" name="Text Box 6"/>
              <p:cNvSpPr/>
              <p:nvPr/>
            </p:nvSpPr>
            <p:spPr>
              <a:xfrm>
                <a:off x="499680" y="4105440"/>
                <a:ext cx="8358480" cy="22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구조적 변화 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비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7% poin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감소하였으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자녀동거가구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1%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로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가구 비율은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가구는 감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줄고 독거 및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가구는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규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점진적 축소되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.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인수가구의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71280" y="714240"/>
            <a:ext cx="9001440" cy="55724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1" name="그룹 10"/>
          <p:cNvGrpSpPr/>
          <p:nvPr/>
        </p:nvGrpSpPr>
        <p:grpSpPr>
          <a:xfrm>
            <a:off x="214200" y="285840"/>
            <a:ext cx="8858520" cy="5816160"/>
            <a:chOff x="214200" y="285840"/>
            <a:chExt cx="8858520" cy="5816160"/>
          </a:xfrm>
        </p:grpSpPr>
        <p:sp>
          <p:nvSpPr>
            <p:cNvPr id="332" name="AutoShape 4"/>
            <p:cNvSpPr/>
            <p:nvPr/>
          </p:nvSpPr>
          <p:spPr>
            <a:xfrm>
              <a:off x="285480" y="285840"/>
              <a:ext cx="4286520" cy="46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기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214200" y="911160"/>
              <a:ext cx="8858520" cy="51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가족의 기능은 ‘부양’으로 대치하여 사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 기능으로 구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은 동거 및 별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은 배우자와 동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은 배우자로부터 받는 비율이 상대적으로 높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8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정기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6-56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정기 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9-86%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가사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3-74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병과 수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1-50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받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0-78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 받으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의 부양이 더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가 노년기의 가장 중요한 사회적 지지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녀의 부양기능은 약화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기능 저하 시 부양가족은 자원부족과 부양능력 약화로 스트레스와 부양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험 가능성이 높아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>
            <a:off x="71280" y="571680"/>
            <a:ext cx="9001440" cy="55720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5" name="그룹 10"/>
          <p:cNvGrpSpPr/>
          <p:nvPr/>
        </p:nvGrpSpPr>
        <p:grpSpPr>
          <a:xfrm>
            <a:off x="142920" y="142920"/>
            <a:ext cx="8929800" cy="5952240"/>
            <a:chOff x="142920" y="142920"/>
            <a:chExt cx="8929800" cy="5952240"/>
          </a:xfrm>
        </p:grpSpPr>
        <p:sp>
          <p:nvSpPr>
            <p:cNvPr id="336" name="AutoShape 4"/>
            <p:cNvSpPr/>
            <p:nvPr/>
          </p:nvSpPr>
          <p:spPr>
            <a:xfrm>
              <a:off x="285480" y="142920"/>
              <a:ext cx="5072040" cy="542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생활주기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 Box 6"/>
            <p:cNvSpPr/>
            <p:nvPr/>
          </p:nvSpPr>
          <p:spPr>
            <a:xfrm>
              <a:off x="142920" y="912600"/>
              <a:ext cx="8929800" cy="51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은 수직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전통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수평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결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출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쟁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인하여 변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생활주기는 ‘가족형성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해체기’로 구분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는 가족축소기 혹은 가족축소완료기부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작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가족생활 연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8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이전 결혼한 노년기 부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6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9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결혼한 장년층은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4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정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부부 혹은 독신생활 기간이 연장됨에 따라 소득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의 유지는 더욱 중요해지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히 사별한 여성 고령 독거노인의 경우 빈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독과 소외 등의 문제가 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될 것으로 예측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그룹 14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33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5"/>
            <p:cNvSpPr/>
            <p:nvPr/>
          </p:nvSpPr>
          <p:spPr>
            <a:xfrm>
              <a:off x="285480" y="1071360"/>
              <a:ext cx="878688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는 중요한 사회적 지지의 제공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대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속감을 제공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는 사회관계망으로 노년기에 그 중요성이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85480" y="1928880"/>
              <a:ext cx="23572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부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그룹 14"/>
            <p:cNvGrpSpPr/>
            <p:nvPr/>
          </p:nvGrpSpPr>
          <p:grpSpPr>
            <a:xfrm>
              <a:off x="285480" y="2500200"/>
              <a:ext cx="8643960" cy="1928880"/>
              <a:chOff x="285480" y="2500200"/>
              <a:chExt cx="8643960" cy="1928880"/>
            </a:xfrm>
          </p:grpSpPr>
          <p:sp>
            <p:nvSpPr>
              <p:cNvPr id="343" name="AutoShape 2"/>
              <p:cNvSpPr/>
              <p:nvPr/>
            </p:nvSpPr>
            <p:spPr>
              <a:xfrm>
                <a:off x="642600" y="2928600"/>
                <a:ext cx="8215560" cy="150048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AutoShape 29"/>
              <p:cNvSpPr/>
              <p:nvPr/>
            </p:nvSpPr>
            <p:spPr>
              <a:xfrm>
                <a:off x="285480" y="25002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부부의 결혼만족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Text Box 25"/>
              <p:cNvSpPr/>
              <p:nvPr/>
            </p:nvSpPr>
            <p:spPr>
              <a:xfrm>
                <a:off x="713880" y="2928600"/>
                <a:ext cx="821556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관계는 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협력 등의 상호의존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기간과 반비례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U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형 변화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결정요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양육 책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까지 결혼만족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분담 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사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재 상호작용의 양과 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6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가족관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7" name="그룹 18"/>
            <p:cNvGrpSpPr/>
            <p:nvPr/>
          </p:nvGrpSpPr>
          <p:grpSpPr>
            <a:xfrm>
              <a:off x="285480" y="4572000"/>
              <a:ext cx="8643960" cy="1785960"/>
              <a:chOff x="285480" y="4572000"/>
              <a:chExt cx="8643960" cy="1785960"/>
            </a:xfrm>
          </p:grpSpPr>
          <p:sp>
            <p:nvSpPr>
              <p:cNvPr id="348" name="AutoShape 2"/>
              <p:cNvSpPr/>
              <p:nvPr/>
            </p:nvSpPr>
            <p:spPr>
              <a:xfrm>
                <a:off x="642600" y="5000400"/>
                <a:ext cx="8215560" cy="135756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AutoShape 29"/>
              <p:cNvSpPr/>
              <p:nvPr/>
            </p:nvSpPr>
            <p:spPr>
              <a:xfrm>
                <a:off x="285480" y="4572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년기의 역할전환과 부부관계의 적응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13880" y="5000400"/>
                <a:ext cx="821556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진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launch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빈 둥지 기간 연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취감과 부부간 응집력 강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활발한 사회참여의 기회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자녀진수 수용 못하면 불행해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부부관계의 적응과제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70-271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그룹 9"/>
          <p:cNvGrpSpPr/>
          <p:nvPr/>
        </p:nvGrpSpPr>
        <p:grpSpPr>
          <a:xfrm>
            <a:off x="214200" y="0"/>
            <a:ext cx="8858520" cy="6428520"/>
            <a:chOff x="214200" y="0"/>
            <a:chExt cx="8858520" cy="6428520"/>
          </a:xfrm>
        </p:grpSpPr>
        <p:sp>
          <p:nvSpPr>
            <p:cNvPr id="352" name="AutoShape 2"/>
            <p:cNvSpPr/>
            <p:nvPr/>
          </p:nvSpPr>
          <p:spPr>
            <a:xfrm>
              <a:off x="428400" y="3785760"/>
              <a:ext cx="8573040" cy="2642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AutoShape 2"/>
            <p:cNvSpPr/>
            <p:nvPr/>
          </p:nvSpPr>
          <p:spPr>
            <a:xfrm>
              <a:off x="428400" y="499680"/>
              <a:ext cx="8573040" cy="285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4" name="그룹 10"/>
            <p:cNvGrpSpPr/>
            <p:nvPr/>
          </p:nvGrpSpPr>
          <p:grpSpPr>
            <a:xfrm>
              <a:off x="214200" y="0"/>
              <a:ext cx="8858520" cy="3368160"/>
              <a:chOff x="214200" y="0"/>
              <a:chExt cx="8858520" cy="3368160"/>
            </a:xfrm>
          </p:grpSpPr>
          <p:sp>
            <p:nvSpPr>
              <p:cNvPr id="355" name="AutoShape 29"/>
              <p:cNvSpPr/>
              <p:nvPr/>
            </p:nvSpPr>
            <p:spPr>
              <a:xfrm>
                <a:off x="214200" y="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이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Text Box 25"/>
              <p:cNvSpPr/>
              <p:nvPr/>
            </p:nvSpPr>
            <p:spPr>
              <a:xfrm>
                <a:off x="499680" y="500040"/>
                <a:ext cx="857304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율의 급증과 함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cember divorce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추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이상 결혼생활 지속한 노부부의 혼인관계 해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후반부터 시작되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,5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.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7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증가는 전 세계적 추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 증가 이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교적 결혼관과 가부장적 위계구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권리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인식개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부분 여성이 이혼제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경제력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법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권리 신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불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 문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장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평등의 종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회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사회적 독립성 증가와 삶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족도 증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와 고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어려움 직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7" name="그룹 10"/>
            <p:cNvGrpSpPr/>
            <p:nvPr/>
          </p:nvGrpSpPr>
          <p:grpSpPr>
            <a:xfrm>
              <a:off x="214200" y="3357360"/>
              <a:ext cx="8858520" cy="3048480"/>
              <a:chOff x="214200" y="3357360"/>
              <a:chExt cx="8858520" cy="3048480"/>
            </a:xfrm>
          </p:grpSpPr>
          <p:sp>
            <p:nvSpPr>
              <p:cNvPr id="358" name="AutoShape 29"/>
              <p:cNvSpPr/>
              <p:nvPr/>
            </p:nvSpPr>
            <p:spPr>
              <a:xfrm>
                <a:off x="214200" y="33573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재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25"/>
              <p:cNvSpPr/>
              <p:nvPr/>
            </p:nvSpPr>
            <p:spPr>
              <a:xfrm>
                <a:off x="499680" y="3762000"/>
                <a:ext cx="8573040" cy="264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재혼 의식변화로 재혼 건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남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99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6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사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고독 해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에 대한 부담 경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문제의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반자 찾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표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관계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독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상대 선택 후 자녀 동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매혼이 주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은 이기적 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문제로 인한 갈등 예방을 위해 동거나 계약결혼 선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성공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상속 사전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자적 경제력 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가족관계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랜 교제와 상대에 대한 충분한 이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그룹 10"/>
          <p:cNvGrpSpPr/>
          <p:nvPr/>
        </p:nvGrpSpPr>
        <p:grpSpPr>
          <a:xfrm>
            <a:off x="285840" y="79200"/>
            <a:ext cx="8643960" cy="6283800"/>
            <a:chOff x="285840" y="79200"/>
            <a:chExt cx="8643960" cy="6283800"/>
          </a:xfrm>
        </p:grpSpPr>
        <p:grpSp>
          <p:nvGrpSpPr>
            <p:cNvPr id="361" name="그룹 11"/>
            <p:cNvGrpSpPr/>
            <p:nvPr/>
          </p:nvGrpSpPr>
          <p:grpSpPr>
            <a:xfrm>
              <a:off x="285840" y="826560"/>
              <a:ext cx="8643960" cy="3404520"/>
              <a:chOff x="285840" y="826560"/>
              <a:chExt cx="8643960" cy="3404520"/>
            </a:xfrm>
          </p:grpSpPr>
          <p:sp>
            <p:nvSpPr>
              <p:cNvPr id="362" name="AutoShape 2"/>
              <p:cNvSpPr/>
              <p:nvPr/>
            </p:nvSpPr>
            <p:spPr>
              <a:xfrm>
                <a:off x="285840" y="1213560"/>
                <a:ext cx="8643960" cy="254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1227960"/>
                <a:ext cx="8501400" cy="30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객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물리적 거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교환의 양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애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 교환 등의 질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교류 중시 ↔ 자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적 교류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유대관계 영향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치관과 관심사가 유사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이전의 유대관계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좋았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과 경제사정이 좋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에 대한 적정수준의 부양기대와 상호지지 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대가 강화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다수 노인이 별거자녀와 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부분 관계 만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성과 근대성이 혼재하는 문화적 이중구조’로 세대간 갈등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직사각형 7"/>
              <p:cNvSpPr/>
              <p:nvPr/>
            </p:nvSpPr>
            <p:spPr>
              <a:xfrm>
                <a:off x="357120" y="8265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와 성인자녀의 유대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5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부모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자녀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그룹 11"/>
            <p:cNvGrpSpPr/>
            <p:nvPr/>
          </p:nvGrpSpPr>
          <p:grpSpPr>
            <a:xfrm>
              <a:off x="285840" y="4071960"/>
              <a:ext cx="8643960" cy="2291040"/>
              <a:chOff x="285840" y="4071960"/>
              <a:chExt cx="8643960" cy="2291040"/>
            </a:xfrm>
          </p:grpSpPr>
          <p:sp>
            <p:nvSpPr>
              <p:cNvPr id="367" name="AutoShape 2"/>
              <p:cNvSpPr/>
              <p:nvPr/>
            </p:nvSpPr>
            <p:spPr>
              <a:xfrm>
                <a:off x="285840" y="4407480"/>
                <a:ext cx="8643960" cy="195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357120" y="442728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부양은 지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%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포인트 이상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크족 증가로 별거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의 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 결정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 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관계는 일방적 의무관계에서 상호교환적 관계로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지의 내용과 방향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원형이 대다수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배우 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산층 이상 노인이 자녀에 더 많은 지지 제공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병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저하노인은 자녀의 지지를 더 많이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직사각형 14"/>
              <p:cNvSpPr/>
              <p:nvPr/>
            </p:nvSpPr>
            <p:spPr>
              <a:xfrm>
                <a:off x="285840" y="40719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-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자녀의 동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별거와 지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9:29Z</dcterms:modified>
  <cp:revision>37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