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59021-D043-4E2D-B5CC-036A3CA3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22AB5-CBC6-42DF-8229-A5B7F4CE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719DC-DF75-4A8A-BABF-D45D3B73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F7D87-1C28-4F49-A71F-1D1F511F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AA306-2F0E-497B-A8F8-02FE5043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D44B7-1C5E-489B-81A1-D5A71355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124B9-2588-468C-AE57-C5450E77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1EBB3-3F14-4298-BE95-E56853D5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7BB89-E80A-4A74-BDD2-68114C67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707B2-E2A2-48B5-B2E8-A9713EC8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35CF9-7B49-40CF-AE1E-FC448ECC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CFF7B-17FB-4537-9A58-98F7E4F2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A2FC5-7AA7-4FBE-8C8D-FB3A2CA7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DD225-7AFA-4226-B92B-F31B8D37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1D70F-52E1-41BA-8668-E15AA103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72EDB-68B3-4715-A493-7D443354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44E69-31C6-4113-8786-1D42CE01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BEC08-BBAB-4992-B646-7176BA10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31198-AF02-450D-B898-4C45CBCA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BFBC0-CC73-434E-97BA-BA758CF1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A95EA-CA21-4EF9-A6CF-7404237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241EC-6075-43B1-84CC-C15249D3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17FD4-C50D-4C65-B69F-189702AE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85DA3-641C-40D4-914A-959E1BF4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1401-DB37-44E1-A092-FA0887B4491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5240-011B-41BE-A85C-F650E34C50F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C225-044C-453E-97F7-0FA1929E123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34C7-E463-4F4C-8AD1-6BC7FD17017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C1C7-7AC4-476E-A6E7-1B0B14F161F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CCC0-97CD-409B-BC29-4E1CF855A2B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38FF-1706-418A-8C71-D93BCCD7BB9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4871-0342-4DCA-9C12-18E1E7DB784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Picture 2" descr="C:\DOCUME~1\USER\LOCALS~1\Temp\UNI00000c2870a4.gif"/>
          <p:cNvPicPr/>
          <p:nvPr/>
        </p:nvPicPr>
        <p:blipFill>
          <a:blip r:embed="rId2"/>
          <a:stretch/>
        </p:blipFill>
        <p:spPr>
          <a:xfrm>
            <a:off x="755640" y="1628640"/>
            <a:ext cx="78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24" name="직사각형 37" descr=""/>
          <p:cNvPicPr/>
          <p:nvPr/>
        </p:nvPicPr>
        <p:blipFill>
          <a:blip r:embed="rId2"/>
          <a:stretch/>
        </p:blipFill>
        <p:spPr>
          <a:xfrm>
            <a:off x="212760" y="1731960"/>
            <a:ext cx="87296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821800" cy="5776200"/>
            <a:chOff x="214200" y="357120"/>
            <a:chExt cx="8821800" cy="577620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882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</a:t>
              </a:r>
              <a:r>
                <a:rPr b="1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활주기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족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친척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자살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독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별과 애도 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874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r>
                  <a:rPr b="1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22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20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22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"/>
          <p:cNvPicPr/>
          <p:nvPr/>
        </p:nvPicPr>
        <p:blipFill>
          <a:blip r:embed="rId2"/>
          <a:stretch/>
        </p:blipFill>
        <p:spPr>
          <a:xfrm>
            <a:off x="2448000" y="571680"/>
            <a:ext cx="424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4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5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고서 양식은 별도 사전 공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40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31:11Z</dcterms:modified>
  <cp:revision>18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