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590F-FDC9-4404-B005-52953EDD83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5BD1-CF8B-4A2F-9CAF-1BC152E756B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495A-DB49-4148-9FE3-61EA799C885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FDFA-C9B7-47E9-AADB-B2561E0BA85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4592-E2F7-41DB-89DC-02242EBEAA0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2D86B-C0AD-49D7-AF74-D4955BB3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6AC0E-6110-45FB-9A93-6693F28D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14B45-6809-423F-8B88-7D425855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8FE82-D303-443C-BDA2-D957D474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27E9F-C2CF-43DF-B82E-C2474436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30DC4-DFB5-4785-864F-995B1966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F97F3-156F-49E6-B908-6A3A03F3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92875-32F7-491B-ACB9-E27A9667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1AB60-6F77-4EB6-A055-89F98C91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90970-0F5B-4C6D-8F49-BED1A0E7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2C80F-7A70-4635-BBBA-8E79BB6C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B2A21-87EE-4949-BEB5-178CAC23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3BFDB2-97AD-466F-8D6C-0D4C6DB9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024CED-E9D2-42E9-9F94-9334B9F3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A4F4BB-5EAB-4A5C-9DE6-915BE6E8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27B905-D95D-43BF-BB9E-660018E5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235CF3-631E-41D4-A999-06691943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60B168-5B77-4334-8746-DE4F7039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061A31-A37B-4165-9C95-D5E7AA84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2FDC46-21AF-4C2D-8741-16274889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105BD7-98E7-4110-83BF-504A9BB5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FF0269-5924-4347-B308-903B1E7A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6A45E3-B9B7-4CAF-856A-3E6FDB16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07BA8E-DD8F-4FDC-97B1-6B12B354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86E4-A010-4993-BE53-56E951310D7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168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C5E3-8FD3-44EE-8774-B4468299A325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35DC-E3B1-4058-BF0E-2006E1C8A73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4FD4-037F-414C-A0AF-E1EA27B79A65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E3E0-A942-4F81-B060-B1952E7D830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F469-5E3A-4674-9E7B-D54F9CD7496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CE5E-9F80-4726-AE7E-3E808D4BD0E3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1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11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그룹 6"/>
          <p:cNvGrpSpPr/>
          <p:nvPr/>
        </p:nvGrpSpPr>
        <p:grpSpPr>
          <a:xfrm>
            <a:off x="285840" y="214200"/>
            <a:ext cx="8831160" cy="6143760"/>
            <a:chOff x="285840" y="214200"/>
            <a:chExt cx="8831160" cy="6143760"/>
          </a:xfrm>
        </p:grpSpPr>
        <p:pic>
          <p:nvPicPr>
            <p:cNvPr id="498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643800" y="5143680"/>
              <a:ext cx="24732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AutoShape 2"/>
            <p:cNvSpPr/>
            <p:nvPr/>
          </p:nvSpPr>
          <p:spPr>
            <a:xfrm>
              <a:off x="285840" y="642600"/>
              <a:ext cx="8715600" cy="5572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0" name="그룹 10"/>
            <p:cNvGrpSpPr/>
            <p:nvPr/>
          </p:nvGrpSpPr>
          <p:grpSpPr>
            <a:xfrm>
              <a:off x="357120" y="214200"/>
              <a:ext cx="8572680" cy="5876640"/>
              <a:chOff x="357120" y="214200"/>
              <a:chExt cx="8572680" cy="5876640"/>
            </a:xfrm>
          </p:grpSpPr>
          <p:sp>
            <p:nvSpPr>
              <p:cNvPr id="501" name="AutoShape 4"/>
              <p:cNvSpPr/>
              <p:nvPr/>
            </p:nvSpPr>
            <p:spPr>
              <a:xfrm>
                <a:off x="357120" y="21420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고용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Text Box 6"/>
              <p:cNvSpPr/>
              <p:nvPr/>
            </p:nvSpPr>
            <p:spPr>
              <a:xfrm>
                <a:off x="428400" y="911160"/>
                <a:ext cx="8501400" cy="51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고용차별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업의 구조조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기퇴직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기회 제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년연장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등정년제도개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분정년제 도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제도 강화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자 생활보장 대책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고용촉진법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상 연령차별을 금지함에도 불구하고 노인 근로자 채용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연령별 기준고용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고용업체 지원 기준 완화 및 지원 수준 상향 조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기회 확대에만 초점을 둔 고용보장제도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동환경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정 임금보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산업안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복지증진 노력 거의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기회 확대와 함께 노동환경 개선 및 복지증진 정책 시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취업지원 기관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참여노인에 대한 낮은 지원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취업지원센터 등에 설치비 운영비 지원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일자리 및 사회활동 지원 사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정상적 일자리 창출의 문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지원기관 지원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 참여기간과 급여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고용정보 제한과 직업능력 개발 프로그램 접근도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정보제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직업훈련기관 노인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행정복지센터에서 취업정보센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담당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1"/>
          <p:cNvGrpSpPr/>
          <p:nvPr/>
        </p:nvGrpSpPr>
        <p:grpSpPr>
          <a:xfrm>
            <a:off x="0" y="0"/>
            <a:ext cx="9358200" cy="6472440"/>
            <a:chOff x="0" y="0"/>
            <a:chExt cx="9358200" cy="6472440"/>
          </a:xfrm>
        </p:grpSpPr>
        <p:sp>
          <p:nvSpPr>
            <p:cNvPr id="504" name="AutoShape 2"/>
            <p:cNvSpPr/>
            <p:nvPr/>
          </p:nvSpPr>
          <p:spPr>
            <a:xfrm>
              <a:off x="285480" y="1142640"/>
              <a:ext cx="8715600" cy="2213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0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5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주거보장</a:t>
              </a:r>
              <a:endParaRPr b="0" lang="en-US" sz="3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7" name="그룹 10"/>
            <p:cNvGrpSpPr/>
            <p:nvPr/>
          </p:nvGrpSpPr>
          <p:grpSpPr>
            <a:xfrm>
              <a:off x="285480" y="785520"/>
              <a:ext cx="8572680" cy="2557800"/>
              <a:chOff x="285480" y="785520"/>
              <a:chExt cx="8572680" cy="2557800"/>
            </a:xfrm>
          </p:grpSpPr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주거보장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285480" y="1336320"/>
                <a:ext cx="857268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의 건설과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와 관련된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을 전제로 정주권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소 거주면적의 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주기회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등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실현을 목적으로 하는 노인 적합 주거환경 조성 노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의 방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목적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리 및 개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 융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산세 변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영주택입주 우선권 부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목적 주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운영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ging in place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원 중요성 높아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0" name="AutoShape 2"/>
            <p:cNvSpPr/>
            <p:nvPr/>
          </p:nvSpPr>
          <p:spPr>
            <a:xfrm>
              <a:off x="285480" y="3784680"/>
              <a:ext cx="8715600" cy="2642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1" name="그룹 10"/>
            <p:cNvGrpSpPr/>
            <p:nvPr/>
          </p:nvGrpSpPr>
          <p:grpSpPr>
            <a:xfrm>
              <a:off x="285480" y="3429000"/>
              <a:ext cx="8715600" cy="3043440"/>
              <a:chOff x="285480" y="3429000"/>
              <a:chExt cx="8715600" cy="3043440"/>
            </a:xfrm>
          </p:grpSpPr>
          <p:sp>
            <p:nvSpPr>
              <p:cNvPr id="512" name="AutoShape 4"/>
              <p:cNvSpPr/>
              <p:nvPr/>
            </p:nvSpPr>
            <p:spPr>
              <a:xfrm>
                <a:off x="356760" y="342900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현행 주거보장체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285480" y="4000320"/>
                <a:ext cx="871560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 무주택 재가노인 주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은 국토교통부 주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 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가구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4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저기준 미달 주택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재가노인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임대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공동생활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급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부양 자녀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 세대주에 대한 주택자금할증융자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자녀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계존속 부양 시 주택분양우선권 제도로 노인 주거보장정책으로는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담보 노후생활자금 연금형태 지급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8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유농지 담보로 정액종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기간정액형 등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가지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285840" y="142920"/>
            <a:ext cx="8715240" cy="6215040"/>
            <a:chOff x="285840" y="142920"/>
            <a:chExt cx="8715240" cy="6215040"/>
          </a:xfrm>
        </p:grpSpPr>
        <p:pic>
          <p:nvPicPr>
            <p:cNvPr id="515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500880" y="4857840"/>
              <a:ext cx="247320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AutoShape 2"/>
            <p:cNvSpPr/>
            <p:nvPr/>
          </p:nvSpPr>
          <p:spPr>
            <a:xfrm>
              <a:off x="285840" y="57132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7" name="그룹 10"/>
            <p:cNvGrpSpPr/>
            <p:nvPr/>
          </p:nvGrpSpPr>
          <p:grpSpPr>
            <a:xfrm>
              <a:off x="357120" y="142920"/>
              <a:ext cx="8572680" cy="6049080"/>
              <a:chOff x="357120" y="142920"/>
              <a:chExt cx="8572680" cy="6049080"/>
            </a:xfrm>
          </p:grpSpPr>
          <p:sp>
            <p:nvSpPr>
              <p:cNvPr id="518" name="AutoShape 4"/>
              <p:cNvSpPr/>
              <p:nvPr/>
            </p:nvSpPr>
            <p:spPr>
              <a:xfrm>
                <a:off x="357120" y="14292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주거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428400" y="839520"/>
                <a:ext cx="8501400" cy="53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주택 노인과 부양자녀 주택공급에 치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계획주거 인식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 적합주택 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택개조비 지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 수급자격 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 노인을 위한 주거지원정책 부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임대주택공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집단가정이 전부이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지원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보조와 할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산세 면제 등 지원책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주거시설 공급 제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장기요양보험제도의 시행으로 중증환자 위주로 시설 입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여유 있는 노인을 위한 노인전용 주거시설 확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단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간 설치 운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점과 개선방안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 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주거보장 관련 연구 부족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축학 등 산발적 연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다분야의 구체적이고 다양한 연구 활성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12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sp>
          <p:nvSpPr>
            <p:cNvPr id="521" name="AutoShape 2"/>
            <p:cNvSpPr/>
            <p:nvPr/>
          </p:nvSpPr>
          <p:spPr>
            <a:xfrm>
              <a:off x="428400" y="1143000"/>
              <a:ext cx="84297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2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건강보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4" name="AutoShape 2"/>
            <p:cNvSpPr/>
            <p:nvPr/>
          </p:nvSpPr>
          <p:spPr>
            <a:xfrm>
              <a:off x="428400" y="3959280"/>
              <a:ext cx="8429760" cy="2469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5" name="AutoShape 4"/>
            <p:cNvSpPr/>
            <p:nvPr/>
          </p:nvSpPr>
          <p:spPr>
            <a:xfrm>
              <a:off x="428400" y="78552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건강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6" name="Text Box 6"/>
            <p:cNvSpPr/>
            <p:nvPr/>
          </p:nvSpPr>
          <p:spPr>
            <a:xfrm>
              <a:off x="500040" y="3959280"/>
              <a:ext cx="8501040" cy="24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해 등으로 소요되는 비용이나 수입 감소에 대한 보상을 목적으로 하는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무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장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77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81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국민건강보험제도로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요내용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9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보험 이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진료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9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진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당 진료일수와 진료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수 등의 주요 지표 지속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의료비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2005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,159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→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2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,76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2.3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7" name="직사각형 11"/>
            <p:cNvSpPr/>
            <p:nvPr/>
          </p:nvSpPr>
          <p:spPr>
            <a:xfrm>
              <a:off x="428400" y="36432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국민건강보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8" name="Text Box 6"/>
            <p:cNvSpPr/>
            <p:nvPr/>
          </p:nvSpPr>
          <p:spPr>
            <a:xfrm>
              <a:off x="428400" y="1214280"/>
              <a:ext cx="8429760" cy="18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medical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용어가 사용되지만 질병치료 등의 소극적 의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증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봄이나 요양서비스 등의 의미를 지닌 건강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health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란 용어가 타당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망 등의 요인으로 인한 생활불안을 예방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미 발생한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와 신체 및 정신적 건강생활을 유지하도록 국가가 개입하여 보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주는 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방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건강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AutoShape 4"/>
            <p:cNvSpPr/>
            <p:nvPr/>
          </p:nvSpPr>
          <p:spPr>
            <a:xfrm>
              <a:off x="428400" y="321480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건강보장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그룹 7"/>
          <p:cNvGrpSpPr/>
          <p:nvPr/>
        </p:nvGrpSpPr>
        <p:grpSpPr>
          <a:xfrm>
            <a:off x="407880" y="58680"/>
            <a:ext cx="8593200" cy="6589440"/>
            <a:chOff x="407880" y="58680"/>
            <a:chExt cx="8593200" cy="6589440"/>
          </a:xfrm>
        </p:grpSpPr>
        <p:sp>
          <p:nvSpPr>
            <p:cNvPr id="531" name="AutoShape 2"/>
            <p:cNvSpPr/>
            <p:nvPr/>
          </p:nvSpPr>
          <p:spPr>
            <a:xfrm>
              <a:off x="428040" y="387000"/>
              <a:ext cx="8430120" cy="1326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499680" y="387000"/>
              <a:ext cx="850140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저소득 국민에 대해 국가재정으로 의료문제 해결을 보장하는 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호제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979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의료급여제도 전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본인부담 도입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외래진료 본인부담액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,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국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-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병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,000-2,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입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0%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2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여명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,38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 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7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급여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8.0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직사각형 3"/>
            <p:cNvSpPr/>
            <p:nvPr/>
          </p:nvSpPr>
          <p:spPr>
            <a:xfrm>
              <a:off x="428400" y="58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의료급여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AutoShape 2"/>
            <p:cNvSpPr/>
            <p:nvPr/>
          </p:nvSpPr>
          <p:spPr>
            <a:xfrm>
              <a:off x="407880" y="2171520"/>
              <a:ext cx="8552160" cy="4473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Text Box 6"/>
            <p:cNvSpPr/>
            <p:nvPr/>
          </p:nvSpPr>
          <p:spPr>
            <a:xfrm>
              <a:off x="499680" y="2197080"/>
              <a:ext cx="8460000" cy="44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2000"/>
                </a:lnSpc>
                <a:spcBef>
                  <a:spcPts val="201"/>
                </a:spcBef>
                <a:buSzPct val="10295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진단사업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16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9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83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 수급자 노인 중 희망자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1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진단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 검사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3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애전환기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6,40,66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검진과 연계 시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실명예방사업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1600" spc="-1" strike="noStrike">
                  <a:solidFill>
                    <a:srgbClr val="003366"/>
                  </a:solidFill>
                  <a:latin typeface="HY강M"/>
                  <a:ea typeface="HY강M"/>
                </a:rPr>
                <a:t>2003</a:t>
              </a:r>
              <a:r>
                <a:rPr b="1" lang="ko-KR" sz="1600" spc="-1" strike="noStrike">
                  <a:solidFill>
                    <a:srgbClr val="003366"/>
                  </a:solidFill>
                  <a:latin typeface="HY강M"/>
                  <a:ea typeface="HY강M"/>
                </a:rPr>
                <a:t>년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실명예방재단 주관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내장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망막질환 개안수술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초수급자 등에 한해 본인부담금 전액 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무릎인공관절 수술지원사업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기초수급자 등에 검사비 등 최대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2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 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틀니 및 임플란트 지원사업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201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완전 및 부분 틀니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회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플란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까지 건강보험 적용하고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본인부담금은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0%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로식당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1999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결식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결식노인 무료급식사업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식사배달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: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지원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저소득노인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무료 또는 실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식사 및 밑반찬배달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무료 독감예방접종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5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관 등의 영양개선 및 운동관리프로그램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국민건강보험공단의 경로당 등에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  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운동 전문인력 파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직사각형 6"/>
            <p:cNvSpPr/>
            <p:nvPr/>
          </p:nvSpPr>
          <p:spPr>
            <a:xfrm>
              <a:off x="428400" y="1785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노인건강지원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7"/>
          <p:cNvGrpSpPr/>
          <p:nvPr/>
        </p:nvGrpSpPr>
        <p:grpSpPr>
          <a:xfrm>
            <a:off x="250920" y="58680"/>
            <a:ext cx="8785080" cy="6411240"/>
            <a:chOff x="250920" y="58680"/>
            <a:chExt cx="8785080" cy="6411240"/>
          </a:xfrm>
        </p:grpSpPr>
        <p:sp>
          <p:nvSpPr>
            <p:cNvPr id="538" name="AutoShape 2"/>
            <p:cNvSpPr/>
            <p:nvPr/>
          </p:nvSpPr>
          <p:spPr>
            <a:xfrm>
              <a:off x="250920" y="349200"/>
              <a:ext cx="8749800" cy="612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9" name="Text Box 6"/>
            <p:cNvSpPr/>
            <p:nvPr/>
          </p:nvSpPr>
          <p:spPr>
            <a:xfrm>
              <a:off x="534960" y="435600"/>
              <a:ext cx="8501040" cy="55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대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9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최초의 치매노인보호대책 수립 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12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치매관리법 제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1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치매국가책임제 실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2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 치매관리종합계획 수립 등 지속적 확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전달체계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복지부 치매정책과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-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중앙 및 광역치매센터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-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군구 치매안심센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안심센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예방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기진단 등의 치매통합관리서비스 제공으로 치매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증화 억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비용 경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환자와 가족 등의 삶의 질 향상에 기여하는데 목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유형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군구 보건소에 전담조직 설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자체가 센터 유형 선택 설치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11-10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인력과 조직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장 보건소장 겸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호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등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 심리사 등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11-1 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주요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 및 등록관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기검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선별검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진단 및 감별검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3.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예방관리 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예방실천행동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위험군 인지강화교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4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환자 쉼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 자극프로그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봄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5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지원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회가능 노인 인식표보급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치료관리비 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 지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호물품 제공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맞춤형 사례관리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6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가족 및 보호자 지원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교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헤아림 교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오프라인 치매가족 자조모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힐링프로 그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반 치매환자 보호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7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인식개선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극복의 날 등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8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파트너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9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안심마을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운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당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마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10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지원강화사업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주요사업 추진 흐름도 그림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2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안심병원 및 공립치매전문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안심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병동 지정 운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실종노인 예방 및 찾기 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회인식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회감지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체크앱 배회감지기 등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공공후견사업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년후견제도에 대해서는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9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장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4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절 참조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직사각형 3"/>
            <p:cNvSpPr/>
            <p:nvPr/>
          </p:nvSpPr>
          <p:spPr>
            <a:xfrm>
              <a:off x="428400" y="58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치매국가책임제와 치매관리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그룹 8"/>
          <p:cNvGrpSpPr/>
          <p:nvPr/>
        </p:nvGrpSpPr>
        <p:grpSpPr>
          <a:xfrm>
            <a:off x="399960" y="500040"/>
            <a:ext cx="8601120" cy="5881680"/>
            <a:chOff x="399960" y="500040"/>
            <a:chExt cx="8601120" cy="5881680"/>
          </a:xfrm>
        </p:grpSpPr>
        <p:grpSp>
          <p:nvGrpSpPr>
            <p:cNvPr id="542" name="그룹 6"/>
            <p:cNvGrpSpPr/>
            <p:nvPr/>
          </p:nvGrpSpPr>
          <p:grpSpPr>
            <a:xfrm>
              <a:off x="429120" y="500040"/>
              <a:ext cx="8571960" cy="2106720"/>
              <a:chOff x="429120" y="500040"/>
              <a:chExt cx="8571960" cy="2106720"/>
            </a:xfrm>
          </p:grpSpPr>
          <p:sp>
            <p:nvSpPr>
              <p:cNvPr id="543" name="AutoShape 2"/>
              <p:cNvSpPr/>
              <p:nvPr/>
            </p:nvSpPr>
            <p:spPr>
              <a:xfrm>
                <a:off x="429840" y="887400"/>
                <a:ext cx="8428320" cy="1719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500400" y="898560"/>
                <a:ext cx="850068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명의료결정법에 의거하여 말기환자와 그 가족에 대해 호스피스 및 완화의료지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 추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전문기관 지정하여 인건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시설장비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프로그램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비 지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2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05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 호스피스 전문기관 지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세부 내용 </a:t>
                </a:r>
                <a:r>
                  <a:rPr b="0" lang="en-US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9</a:t>
                </a:r>
                <a:r>
                  <a:rPr b="0" lang="ko-KR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장 </a:t>
                </a:r>
                <a:r>
                  <a:rPr b="0" lang="en-US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절 참조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사 정책방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매장 억제 및 화장 등의 장려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민인식개선 통한 장사문화개선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과 문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률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3%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시설 부족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서비스 불친절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시설설치 반대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직사각형 3"/>
              <p:cNvSpPr/>
              <p:nvPr/>
            </p:nvSpPr>
            <p:spPr>
              <a:xfrm>
                <a:off x="429120" y="500040"/>
                <a:ext cx="621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호스피스 및 장사서비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6" name="AutoShape 2"/>
            <p:cNvSpPr/>
            <p:nvPr/>
          </p:nvSpPr>
          <p:spPr>
            <a:xfrm>
              <a:off x="428400" y="3236760"/>
              <a:ext cx="8429760" cy="3144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부터 정책과제로 검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간의 시범사업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법의 제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7. 4.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을 통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8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부터 시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산재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용보험에 이은 다섯 번째 사회보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성 질환 등으로 일상생활을 혼자서 수행하기 어려운 노인에게 가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나 시설에서 요양서비스를 제공하여 노후의 건강증진 및 생활안정 도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의 부양부담 경감을 도모하는 사회보험제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u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다는 중증환자의 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a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중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치료 등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위해서는 국민건강보험의 적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AutoShape 4"/>
            <p:cNvSpPr/>
            <p:nvPr/>
          </p:nvSpPr>
          <p:spPr>
            <a:xfrm>
              <a:off x="399960" y="2781360"/>
              <a:ext cx="37148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장기요양보험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7"/>
          <p:cNvGrpSpPr/>
          <p:nvPr/>
        </p:nvGrpSpPr>
        <p:grpSpPr>
          <a:xfrm>
            <a:off x="214200" y="214200"/>
            <a:ext cx="8858520" cy="6000840"/>
            <a:chOff x="214200" y="214200"/>
            <a:chExt cx="8858520" cy="6000840"/>
          </a:xfrm>
        </p:grpSpPr>
        <p:sp>
          <p:nvSpPr>
            <p:cNvPr id="549" name="AutoShape 2"/>
            <p:cNvSpPr/>
            <p:nvPr/>
          </p:nvSpPr>
          <p:spPr>
            <a:xfrm>
              <a:off x="214200" y="3000240"/>
              <a:ext cx="8787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"/>
            <p:cNvSpPr/>
            <p:nvPr/>
          </p:nvSpPr>
          <p:spPr>
            <a:xfrm>
              <a:off x="214200" y="642600"/>
              <a:ext cx="8787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6"/>
            <p:cNvSpPr/>
            <p:nvPr/>
          </p:nvSpPr>
          <p:spPr>
            <a:xfrm>
              <a:off x="285480" y="672480"/>
              <a:ext cx="878724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적용대상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전국민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 가입자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대상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등급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-5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지지원등급을 받은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5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상 노인과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4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하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성질환자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1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, 2021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월 현재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65+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구의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4.7%  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인정 신청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등급인정자는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9.7% 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직사각형 3"/>
            <p:cNvSpPr/>
            <p:nvPr/>
          </p:nvSpPr>
          <p:spPr>
            <a:xfrm>
              <a:off x="285480" y="21420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대상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직사각형 4"/>
            <p:cNvSpPr/>
            <p:nvPr/>
          </p:nvSpPr>
          <p:spPr>
            <a:xfrm>
              <a:off x="285480" y="257472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장기요양 인정 및 이용절차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Text Box 6"/>
            <p:cNvSpPr/>
            <p:nvPr/>
          </p:nvSpPr>
          <p:spPr>
            <a:xfrm>
              <a:off x="285480" y="3133800"/>
              <a:ext cx="8787240" cy="30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 신청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건강보험 지사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신청서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소견서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조사항목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2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판정절차와 등급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1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방문조사결과 입력하여 장기요양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정점수 산출 </a:t>
              </a:r>
              <a:r>
                <a:rPr b="0" lang="en-US" sz="1900" spc="-1" strike="noStrike">
                  <a:solidFill>
                    <a:srgbClr val="163e6a"/>
                  </a:solidFill>
                  <a:latin typeface="Wingdings"/>
                  <a:ea typeface="Wingdings"/>
                </a:rPr>
                <a:t>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장기요양등급판정위원회에서 심사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3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판정 수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 장기요양인정서와 표준장기요양이용계획서를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지하고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1-5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또는 인지지원등급은 재가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/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서비스 신청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계약 이용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 이용절차 및 관리운영체계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그룹 5"/>
          <p:cNvGrpSpPr/>
          <p:nvPr/>
        </p:nvGrpSpPr>
        <p:grpSpPr>
          <a:xfrm>
            <a:off x="214200" y="360360"/>
            <a:ext cx="8786880" cy="5854680"/>
            <a:chOff x="214200" y="360360"/>
            <a:chExt cx="8786880" cy="5854680"/>
          </a:xfrm>
        </p:grpSpPr>
        <p:sp>
          <p:nvSpPr>
            <p:cNvPr id="556" name="AutoShape 2"/>
            <p:cNvSpPr/>
            <p:nvPr/>
          </p:nvSpPr>
          <p:spPr>
            <a:xfrm>
              <a:off x="214200" y="785520"/>
              <a:ext cx="878688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Text Box 6"/>
            <p:cNvSpPr/>
            <p:nvPr/>
          </p:nvSpPr>
          <p:spPr>
            <a:xfrm>
              <a:off x="285480" y="928440"/>
              <a:ext cx="8572680" cy="51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국가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보험료 예상수입액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)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수급권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본인부담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위원회에서 결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2022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건강보험료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×12.27%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건강보험료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합 납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본인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재가급여는 비용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%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초수급권자는 면제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와 건보료 순위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0-60%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감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비급여 항목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미용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상급침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1-2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용비 등은 전액 본인 부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급여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설종류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3,930-71,9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 참조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특별현금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가족요양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4,75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-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6,32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간에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,330-69,98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9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7,050-58,07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량이용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75,45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미이용시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2,48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간호서비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6,530-55,81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복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용구 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연간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6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(202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기준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가급여 월 한도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52,07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295,4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021,3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지지원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73,9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복지용구급여는 한도액 미적용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(202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기준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직사각형 4"/>
            <p:cNvSpPr/>
            <p:nvPr/>
          </p:nvSpPr>
          <p:spPr>
            <a:xfrm>
              <a:off x="285480" y="3603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재정 및 급여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그룹 4"/>
          <p:cNvGrpSpPr/>
          <p:nvPr/>
        </p:nvGrpSpPr>
        <p:grpSpPr>
          <a:xfrm>
            <a:off x="142920" y="396720"/>
            <a:ext cx="8786880" cy="6086880"/>
            <a:chOff x="142920" y="396720"/>
            <a:chExt cx="8786880" cy="6086880"/>
          </a:xfrm>
        </p:grpSpPr>
        <p:sp>
          <p:nvSpPr>
            <p:cNvPr id="560" name="AutoShape 2"/>
            <p:cNvSpPr/>
            <p:nvPr/>
          </p:nvSpPr>
          <p:spPr>
            <a:xfrm>
              <a:off x="142920" y="858600"/>
              <a:ext cx="8786880" cy="528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Text Box 6"/>
            <p:cNvSpPr/>
            <p:nvPr/>
          </p:nvSpPr>
          <p:spPr>
            <a:xfrm>
              <a:off x="176040" y="1052280"/>
              <a:ext cx="8644320" cy="54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중앙 및 지방정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국민건강보험공단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역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존 노인복지법에 의해 설립된 재가 및 의료복지시설은 시군구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 받아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법에 의거 설치된 기관은 별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절차가 필요 없으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을 받지 않으면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 청구 못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의 폐업 또는 휴업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예정일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전까지 건강보험공단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신고서 제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 기준 부적합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부당청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거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 학대 등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유로 시군구청장은 경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영업정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폐쇄명령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취소 등의 조치 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요원은 요양보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조무사 및 치과위생사 등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자격을 갖추어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요양보호사 교육과정은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c00000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직사각형 6"/>
            <p:cNvSpPr/>
            <p:nvPr/>
          </p:nvSpPr>
          <p:spPr>
            <a:xfrm>
              <a:off x="285480" y="396720"/>
              <a:ext cx="6215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관리운영체계</a:t>
              </a: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소득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고용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주거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건강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회서비스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858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500" spc="-1" strike="noStrike">
                <a:solidFill>
                  <a:srgbClr val="ffffff"/>
                </a:solidFill>
                <a:latin typeface="HY강B"/>
                <a:ea typeface="HY강B"/>
              </a:rPr>
              <a:t>11 </a:t>
            </a: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그룹 6"/>
          <p:cNvGrpSpPr/>
          <p:nvPr/>
        </p:nvGrpSpPr>
        <p:grpSpPr>
          <a:xfrm>
            <a:off x="285840" y="71280"/>
            <a:ext cx="8858160" cy="6357960"/>
            <a:chOff x="285840" y="71280"/>
            <a:chExt cx="8858160" cy="6357960"/>
          </a:xfrm>
        </p:grpSpPr>
        <p:sp>
          <p:nvSpPr>
            <p:cNvPr id="564" name="AutoShape 2"/>
            <p:cNvSpPr/>
            <p:nvPr/>
          </p:nvSpPr>
          <p:spPr>
            <a:xfrm>
              <a:off x="285840" y="499680"/>
              <a:ext cx="871560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5" name="AutoShape 4"/>
            <p:cNvSpPr/>
            <p:nvPr/>
          </p:nvSpPr>
          <p:spPr>
            <a:xfrm>
              <a:off x="357120" y="71280"/>
              <a:ext cx="54007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건강보장의 문제점과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6" name="Text Box 6"/>
            <p:cNvSpPr/>
            <p:nvPr/>
          </p:nvSpPr>
          <p:spPr>
            <a:xfrm>
              <a:off x="428400" y="714240"/>
              <a:ext cx="8715600" cy="56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로 인한 국가재정 위기 가능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료이용 증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수가 인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병원비용 증가 등으로 인한 노인의료비 급격한 증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인 건강증진 및 예방사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본인부담금 할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입원 억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보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가개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시설과 서비스에 대한 감독 강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보호시설 접근성의 차별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의료기관 도시집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농촌 순회 진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소 기능강화 등 공공보건체계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시설 및 재가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기관 확대 설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건강지원사업의 실효성 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저소득 노인에 국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수준 향상 및 후속조치 강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매</a:t>
              </a:r>
              <a:r>
                <a:rPr b="1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증질환 노인가족에 대한 지원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환자의 치료와 보호에 치중된 건강보장 체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가족 건강지원서비스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치매 및 중증환자 가족 부양수당 지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장기요양보험제도의 문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 체계 미구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기교육 인력활용으로 전문역량 부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기요양요원의 노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건 악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일부 기관의 부당청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맞춤돌봄서비스와 주거복지시설 연계 미흡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도상의 문제점 지속 보완 및 관련 서비스와의 연계성 강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그룹 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sp>
          <p:nvSpPr>
            <p:cNvPr id="568" name="AutoShape 2"/>
            <p:cNvSpPr/>
            <p:nvPr/>
          </p:nvSpPr>
          <p:spPr>
            <a:xfrm>
              <a:off x="285480" y="1571760"/>
              <a:ext cx="8572680" cy="4714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6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회서비스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1" name="AutoShape 4"/>
            <p:cNvSpPr/>
            <p:nvPr/>
          </p:nvSpPr>
          <p:spPr>
            <a:xfrm>
              <a:off x="428400" y="928440"/>
              <a:ext cx="3643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사회서비스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Text Box 6"/>
            <p:cNvSpPr/>
            <p:nvPr/>
          </p:nvSpPr>
          <p:spPr>
            <a:xfrm>
              <a:off x="428400" y="1643040"/>
              <a:ext cx="8358120" cy="45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심리사회적 적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발달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상생활 문제해결을 위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화폐적 서비스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로도 불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방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근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양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프로그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서비스 제공장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보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원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도 제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위 유지를 위한 지원 기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서비스의 장애요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클라이언트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를 수치로 생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 침해 우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제공자의 노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                   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해 부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제공자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차별적 시각과 부정적 감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달체계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보부재로 인한 전달체계와의 단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낮은 접근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부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그룹 8"/>
          <p:cNvGrpSpPr/>
          <p:nvPr/>
        </p:nvGrpSpPr>
        <p:grpSpPr>
          <a:xfrm>
            <a:off x="142920" y="139680"/>
            <a:ext cx="8858160" cy="6145560"/>
            <a:chOff x="142920" y="139680"/>
            <a:chExt cx="8858160" cy="6145560"/>
          </a:xfrm>
        </p:grpSpPr>
        <p:sp>
          <p:nvSpPr>
            <p:cNvPr id="574" name="AutoShape 4"/>
            <p:cNvSpPr/>
            <p:nvPr/>
          </p:nvSpPr>
          <p:spPr>
            <a:xfrm>
              <a:off x="214200" y="139680"/>
              <a:ext cx="42861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행 사회서비스 체계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AutoShape 2"/>
            <p:cNvSpPr/>
            <p:nvPr/>
          </p:nvSpPr>
          <p:spPr>
            <a:xfrm>
              <a:off x="142920" y="1214280"/>
              <a:ext cx="8858160" cy="28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6" name="Text Box 6"/>
            <p:cNvSpPr/>
            <p:nvPr/>
          </p:nvSpPr>
          <p:spPr>
            <a:xfrm>
              <a:off x="214200" y="1214280"/>
              <a:ext cx="8786880" cy="28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는 서비스의 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에서 제공하는 모든 비화폐적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내용으로는 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 등의 여가와 사회참여 지원 서비스 포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보험 시행과 함께 재가노인복지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간호 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건강보장 급여로 분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따라서 노인복지서비스는 노인돌봄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생교육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참여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권익보호서비스로 한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7" name="직사각형 16"/>
            <p:cNvSpPr/>
            <p:nvPr/>
          </p:nvSpPr>
          <p:spPr>
            <a:xfrm>
              <a:off x="214200" y="7855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서비스의 범위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8" name="AutoShape 2"/>
            <p:cNvSpPr/>
            <p:nvPr/>
          </p:nvSpPr>
          <p:spPr>
            <a:xfrm>
              <a:off x="142920" y="4624200"/>
              <a:ext cx="8858160" cy="1604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9" name="Text Box 6"/>
            <p:cNvSpPr/>
            <p:nvPr/>
          </p:nvSpPr>
          <p:spPr>
            <a:xfrm>
              <a:off x="179280" y="4653000"/>
              <a:ext cx="878688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2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부터 노인돌봄기본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돌봄종합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 사회관계활성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업 등을 통합하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맞춤돌봄서비스로 전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현재 노인맞춤돌봄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 중증장애인 응급안전알림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사랑잇기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공동생활홈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폐지수집노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발굴보호사업 시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직사각형 19"/>
            <p:cNvSpPr/>
            <p:nvPr/>
          </p:nvSpPr>
          <p:spPr>
            <a:xfrm>
              <a:off x="214200" y="42465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돌봄서비스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그룹 1"/>
          <p:cNvGrpSpPr/>
          <p:nvPr/>
        </p:nvGrpSpPr>
        <p:grpSpPr>
          <a:xfrm>
            <a:off x="79200" y="549360"/>
            <a:ext cx="8985600" cy="5972040"/>
            <a:chOff x="79200" y="549360"/>
            <a:chExt cx="8985600" cy="5972040"/>
          </a:xfrm>
        </p:grpSpPr>
        <p:sp>
          <p:nvSpPr>
            <p:cNvPr id="582" name="AutoShape 2"/>
            <p:cNvSpPr/>
            <p:nvPr/>
          </p:nvSpPr>
          <p:spPr>
            <a:xfrm>
              <a:off x="79200" y="549360"/>
              <a:ext cx="8956440" cy="5972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Text Box 6"/>
            <p:cNvSpPr/>
            <p:nvPr/>
          </p:nvSpPr>
          <p:spPr>
            <a:xfrm>
              <a:off x="252000" y="622080"/>
              <a:ext cx="8812800" cy="57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목적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일상생활 영위가 어려운 취약노인에게 적절한 돌봄서비스를 제공하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안정적 노후생활 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기능과 건강유지 및 악화 예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5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기초수급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상위계층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또는 기초수급자로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가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손가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령부부 가구 노인 중에서 신체 기능저하나 정신적 어려움으로 돌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필요로 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사 및 자살위험이 높은 노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 등급판정자 등 제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대상유형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점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반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화서비스 대상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점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기능 제한으로 일상생활지원이 필요한 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6-4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간서비스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반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관계 단절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상생활애로로 돌봄이 필요한 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간 미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화서비스 대상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관계 단절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증 등으로 집중서비스 필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살예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대상자 선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 등이 서비스 이용신청을 하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담사회복지사가 사회영역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영역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신영역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지표로 구성된 대상자 선정조사지에 의거하여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사하고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각 영역별 지원 필요도를 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로 평가하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으로 점수 집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점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영역 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 또는 정신영역 중 또는 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이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반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영역 중 이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 또는 정신영역 중 또는 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이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내용 및 제공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담사회복지사가 개인별 서비스 계획 수립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활관리사가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계서비스 등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4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을 제공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특화서비스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사와 자살위험이 높은 노인을 은둔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형으로 구분하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연계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은둔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단치료 또는 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조모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나들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계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후관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공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4" name="직사각형 29"/>
          <p:cNvSpPr/>
          <p:nvPr/>
        </p:nvSpPr>
        <p:spPr>
          <a:xfrm>
            <a:off x="34920" y="152280"/>
            <a:ext cx="6215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2200" spc="-1" strike="noStrike">
                <a:solidFill>
                  <a:srgbClr val="c00000"/>
                </a:solidFill>
                <a:latin typeface="Arial"/>
              </a:rPr>
              <a:t>노인맞춤돌봄서비스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AutoShape 2"/>
          <p:cNvSpPr/>
          <p:nvPr/>
        </p:nvSpPr>
        <p:spPr>
          <a:xfrm>
            <a:off x="204840" y="4724280"/>
            <a:ext cx="8786880" cy="171468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86" name="그룹 1"/>
          <p:cNvGrpSpPr/>
          <p:nvPr/>
        </p:nvGrpSpPr>
        <p:grpSpPr>
          <a:xfrm>
            <a:off x="61920" y="469800"/>
            <a:ext cx="8937720" cy="3787920"/>
            <a:chOff x="61920" y="469800"/>
            <a:chExt cx="8937720" cy="3787920"/>
          </a:xfrm>
        </p:grpSpPr>
        <p:sp>
          <p:nvSpPr>
            <p:cNvPr id="587" name="AutoShape 2"/>
            <p:cNvSpPr/>
            <p:nvPr/>
          </p:nvSpPr>
          <p:spPr>
            <a:xfrm>
              <a:off x="356760" y="469800"/>
              <a:ext cx="8642880" cy="1398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8" name="AutoShape 2"/>
            <p:cNvSpPr/>
            <p:nvPr/>
          </p:nvSpPr>
          <p:spPr>
            <a:xfrm>
              <a:off x="214200" y="2349000"/>
              <a:ext cx="8785440" cy="1908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6"/>
            <p:cNvSpPr/>
            <p:nvPr/>
          </p:nvSpPr>
          <p:spPr>
            <a:xfrm>
              <a:off x="285480" y="2349360"/>
              <a:ext cx="864432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농촌지역 독거노인을 위해 마을회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등을 개보수 신축하여 독거노인 공동생활을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생활을 지원함으로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고독사 예방 및 취약한 주거환경 등의 문제 해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도시지역 독거노인을 위해 주거지가 없거나 주거가 열악한 저소득 노인이 다가구 주택 등에서 공동생활을 할 수 있도록 임대료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지자체의 자체 운영 또는 조례제정으로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Text Box 6"/>
            <p:cNvSpPr/>
            <p:nvPr/>
          </p:nvSpPr>
          <p:spPr>
            <a:xfrm>
              <a:off x="61920" y="475920"/>
              <a:ext cx="892836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 중증장애인 응급안전알림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화재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활동감지센서 이용 독거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과 중증장애인의 안전확인과 응급구조 정보시스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9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5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 사랑잇기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;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 및 민간콜센터 자원봉사자가 주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-3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회 안부확인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말벗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봉사활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세대결연사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1" name="직사각형 11"/>
          <p:cNvSpPr/>
          <p:nvPr/>
        </p:nvSpPr>
        <p:spPr>
          <a:xfrm>
            <a:off x="144360" y="73080"/>
            <a:ext cx="8399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1900" spc="-1" strike="noStrike">
                <a:solidFill>
                  <a:srgbClr val="c00000"/>
                </a:solidFill>
                <a:latin typeface="Arial"/>
              </a:rPr>
              <a:t>독거노인 중증장애인 응급안전알림서비스와 독거노인 사랑잇기서비스</a:t>
            </a:r>
            <a:r>
              <a:rPr b="0" lang="en-US" sz="19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직사각형 12"/>
          <p:cNvSpPr/>
          <p:nvPr/>
        </p:nvSpPr>
        <p:spPr>
          <a:xfrm>
            <a:off x="214200" y="1952640"/>
            <a:ext cx="83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독거노인 공동생활 홈서비스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직사각형 13"/>
          <p:cNvSpPr/>
          <p:nvPr/>
        </p:nvSpPr>
        <p:spPr>
          <a:xfrm>
            <a:off x="254160" y="4365720"/>
            <a:ext cx="84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폐지수집노인 발굴</a:t>
            </a:r>
            <a:r>
              <a:rPr b="0" lang="ko-KR" sz="2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〮</a:t>
            </a: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보호사업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61920" y="4724280"/>
            <a:ext cx="892980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0920">
              <a:lnSpc>
                <a:spcPct val="100000"/>
              </a:lnSpc>
              <a:spcBef>
                <a:spcPts val="601"/>
              </a:spcBef>
              <a:buClr>
                <a:srgbClr val="111f6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11f65"/>
                </a:solidFill>
                <a:latin typeface="HY강M"/>
                <a:ea typeface="HY강M"/>
              </a:rPr>
              <a:t> 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고령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저소득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위험노출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건강문제 등 취약요소가 많은 폐지수집 노인을 발굴하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필요한 보건복지서비스를 강화하여 복지사각지대 해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buClr>
                <a:srgbClr val="111f6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맞춤형 복지팀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노인맞춤돌봄서비스 인력을 활용하여 지자체 노인복지사업과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민간자원과 연계하여 소득 및 노인일자리 참여 지원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주거지원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건강의료서비스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돌봄안전서비스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방한용품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교통안전용품 등 제공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그룹 10"/>
          <p:cNvGrpSpPr/>
          <p:nvPr/>
        </p:nvGrpSpPr>
        <p:grpSpPr>
          <a:xfrm>
            <a:off x="142920" y="146160"/>
            <a:ext cx="8858160" cy="6140520"/>
            <a:chOff x="142920" y="146160"/>
            <a:chExt cx="8858160" cy="6140520"/>
          </a:xfrm>
        </p:grpSpPr>
        <p:grpSp>
          <p:nvGrpSpPr>
            <p:cNvPr id="596" name="그룹 12"/>
            <p:cNvGrpSpPr/>
            <p:nvPr/>
          </p:nvGrpSpPr>
          <p:grpSpPr>
            <a:xfrm>
              <a:off x="142920" y="642960"/>
              <a:ext cx="8858160" cy="500040"/>
              <a:chOff x="142920" y="642960"/>
              <a:chExt cx="8858160" cy="500040"/>
            </a:xfrm>
          </p:grpSpPr>
          <p:sp>
            <p:nvSpPr>
              <p:cNvPr id="597" name="AutoShape 2"/>
              <p:cNvSpPr/>
              <p:nvPr/>
            </p:nvSpPr>
            <p:spPr>
              <a:xfrm>
                <a:off x="142920" y="642960"/>
                <a:ext cx="885816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Text Box 6"/>
              <p:cNvSpPr/>
              <p:nvPr/>
            </p:nvSpPr>
            <p:spPr>
              <a:xfrm>
                <a:off x="214200" y="714240"/>
                <a:ext cx="878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여가복지시설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경로당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관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교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9" name="직사각형 3"/>
            <p:cNvSpPr/>
            <p:nvPr/>
          </p:nvSpPr>
          <p:spPr>
            <a:xfrm>
              <a:off x="142920" y="146160"/>
              <a:ext cx="6215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여가지원서비스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AutoShape 2"/>
            <p:cNvSpPr/>
            <p:nvPr/>
          </p:nvSpPr>
          <p:spPr>
            <a:xfrm>
              <a:off x="142920" y="1388880"/>
              <a:ext cx="8858160" cy="274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Text Box 6"/>
            <p:cNvSpPr/>
            <p:nvPr/>
          </p:nvSpPr>
          <p:spPr>
            <a:xfrm>
              <a:off x="214200" y="1388880"/>
              <a:ext cx="8786880" cy="26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경로당 활성화 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지역노인 친목도모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취미활동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동작업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보교환 장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현황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6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7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천여 개소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소규모시설과 재정열악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지역편차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단순소일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운영지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냉난방연료비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월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10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원과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32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월 운영비 지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.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모범경로당 지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활성화 사업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관과 연계하여 사회참여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건강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교육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문화정보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상담 및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욕구평가 사업을 실시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정보센터와 학대노인지킴이센터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기능 수행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공동작업장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공동생활홈서비스 등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순회프로그램지도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군구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프로그램 지도 및 연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광역지원센터 운영 및 모범경로당 선정 지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AutoShape 2"/>
            <p:cNvSpPr/>
            <p:nvPr/>
          </p:nvSpPr>
          <p:spPr>
            <a:xfrm>
              <a:off x="142920" y="4291200"/>
              <a:ext cx="8858160" cy="1995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Text Box 6"/>
            <p:cNvSpPr/>
            <p:nvPr/>
          </p:nvSpPr>
          <p:spPr>
            <a:xfrm>
              <a:off x="214200" y="4318200"/>
              <a:ext cx="87868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교양ㆍ취미생활 및 사회참여활동 등에 대한 각종 정보와 서비스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하고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 및 질병예방과 소득보장ㆍ재가복지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그 밖에 노인의 복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에 필요한 서비스를 제공함을 목적으로 하는 노인여가복지시설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설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면적 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00m2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무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식당 및 조리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실 또는 강당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화장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리치료실 또는 건강증진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상재해대비시설 각 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 이상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그룹 10"/>
          <p:cNvGrpSpPr/>
          <p:nvPr/>
        </p:nvGrpSpPr>
        <p:grpSpPr>
          <a:xfrm>
            <a:off x="142920" y="214200"/>
            <a:ext cx="8858160" cy="6069240"/>
            <a:chOff x="142920" y="214200"/>
            <a:chExt cx="8858160" cy="6069240"/>
          </a:xfrm>
        </p:grpSpPr>
        <p:sp>
          <p:nvSpPr>
            <p:cNvPr id="605" name="AutoShape 2"/>
            <p:cNvSpPr/>
            <p:nvPr/>
          </p:nvSpPr>
          <p:spPr>
            <a:xfrm>
              <a:off x="142920" y="214200"/>
              <a:ext cx="8858160" cy="3857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6" name="Text Box 6"/>
            <p:cNvSpPr/>
            <p:nvPr/>
          </p:nvSpPr>
          <p:spPr>
            <a:xfrm>
              <a:off x="214200" y="257040"/>
              <a:ext cx="8748720" cy="34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4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명과 목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mission)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공적 노후생활 실현 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한 노후를 위한 예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케어 기반구축 및 확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활동적 노후를 위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참여 여건조성과 활성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안정적 노후를 위한 소득보장 다양화와 내실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원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립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책임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본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평생교육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취미여가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지원사업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택사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용 및 소득 지원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돌봄 요양서비스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대상과 기능별 주요 사업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재정 및 인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초자치단체 규모 등에 따라 차등지원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별도 인력배치 기준 없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7" name="그룹 5"/>
            <p:cNvGrpSpPr/>
            <p:nvPr/>
          </p:nvGrpSpPr>
          <p:grpSpPr>
            <a:xfrm>
              <a:off x="142920" y="4071960"/>
              <a:ext cx="8858160" cy="2211480"/>
              <a:chOff x="142920" y="4071960"/>
              <a:chExt cx="8858160" cy="2211480"/>
            </a:xfrm>
          </p:grpSpPr>
          <p:sp>
            <p:nvSpPr>
              <p:cNvPr id="608" name="직사각형 6"/>
              <p:cNvSpPr/>
              <p:nvPr/>
            </p:nvSpPr>
            <p:spPr>
              <a:xfrm>
                <a:off x="142920" y="407196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평생교육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AutoShape 2"/>
              <p:cNvSpPr/>
              <p:nvPr/>
            </p:nvSpPr>
            <p:spPr>
              <a:xfrm>
                <a:off x="142920" y="4497480"/>
                <a:ext cx="8858160" cy="1785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Text Box 6"/>
              <p:cNvSpPr/>
              <p:nvPr/>
            </p:nvSpPr>
            <p:spPr>
              <a:xfrm>
                <a:off x="214200" y="4497480"/>
                <a:ext cx="878688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교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학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대학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경로대학 등으로 불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부 등록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,29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등록 운영하는 곳 많아 정확한 실태 파악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운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주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도농간 편차 매우 크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 오락 위주 프로그램에 치중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관은 우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과 개선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 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그룹 21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grpSp>
          <p:nvGrpSpPr>
            <p:cNvPr id="612" name="그룹 8"/>
            <p:cNvGrpSpPr/>
            <p:nvPr/>
          </p:nvGrpSpPr>
          <p:grpSpPr>
            <a:xfrm>
              <a:off x="142920" y="142920"/>
              <a:ext cx="8858160" cy="3571920"/>
              <a:chOff x="142920" y="142920"/>
              <a:chExt cx="8858160" cy="3571920"/>
            </a:xfrm>
          </p:grpSpPr>
          <p:sp>
            <p:nvSpPr>
              <p:cNvPr id="613" name="직사각형 4"/>
              <p:cNvSpPr/>
              <p:nvPr/>
            </p:nvSpPr>
            <p:spPr>
              <a:xfrm>
                <a:off x="142920" y="1429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사회참여지원서비스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4" name="AutoShape 2"/>
              <p:cNvSpPr/>
              <p:nvPr/>
            </p:nvSpPr>
            <p:spPr>
              <a:xfrm>
                <a:off x="142920" y="525240"/>
                <a:ext cx="8858160" cy="318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5" name="Text Box 6"/>
              <p:cNvSpPr/>
              <p:nvPr/>
            </p:nvSpPr>
            <p:spPr>
              <a:xfrm>
                <a:off x="214200" y="525240"/>
                <a:ext cx="8786880" cy="317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사회단체 참여율은 낮은 편으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6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이미 논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활동지원은 노인 일거리 마련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200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시작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일자리사업으로 편입되었으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노인자원봉사사업으로 재추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지원 주요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 클럽 지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 매뉴얼 개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대축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단체간 협의회 운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클럽은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-3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명 내외 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월 운영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원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월 이내 지원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외에 노인 교통자원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퇴직노인 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기관의 자발적 노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원봉사단이 조직되어 활동 중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촉진 및 관리 방안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참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6" name="그룹 17"/>
            <p:cNvGrpSpPr/>
            <p:nvPr/>
          </p:nvGrpSpPr>
          <p:grpSpPr>
            <a:xfrm>
              <a:off x="142920" y="3786120"/>
              <a:ext cx="8858160" cy="2571840"/>
              <a:chOff x="142920" y="3786120"/>
              <a:chExt cx="8858160" cy="2571840"/>
            </a:xfrm>
          </p:grpSpPr>
          <p:sp>
            <p:nvSpPr>
              <p:cNvPr id="617" name="직사각형 18"/>
              <p:cNvSpPr/>
              <p:nvPr/>
            </p:nvSpPr>
            <p:spPr>
              <a:xfrm>
                <a:off x="142920" y="37861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재가노인지원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8" name="AutoShape 2"/>
              <p:cNvSpPr/>
              <p:nvPr/>
            </p:nvSpPr>
            <p:spPr>
              <a:xfrm>
                <a:off x="142920" y="4211640"/>
                <a:ext cx="8858160" cy="2146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Text Box 6"/>
              <p:cNvSpPr/>
              <p:nvPr/>
            </p:nvSpPr>
            <p:spPr>
              <a:xfrm>
                <a:off x="214200" y="4211640"/>
                <a:ext cx="878688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보험으로 중등도 이하 질병 앓는 노인을 위한 사회서비스 오히려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기초수급자와 차상위계층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적 고립상태노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긴급지원 필요 노인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각지대 노인발굴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례관리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안전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상담 및 정보제공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경제적 위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관리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회적 위기관리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권리옹호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긴급지원 등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1-16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인력과 재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사 등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 이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자체 기준 의거 재정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어촌 재가노인복지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문요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간보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기보호서비스 통합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그룹 5"/>
          <p:cNvGrpSpPr/>
          <p:nvPr/>
        </p:nvGrpSpPr>
        <p:grpSpPr>
          <a:xfrm>
            <a:off x="142920" y="214200"/>
            <a:ext cx="8858160" cy="6022440"/>
            <a:chOff x="142920" y="214200"/>
            <a:chExt cx="8858160" cy="6022440"/>
          </a:xfrm>
        </p:grpSpPr>
        <p:sp>
          <p:nvSpPr>
            <p:cNvPr id="621" name="직사각형 1"/>
            <p:cNvSpPr/>
            <p:nvPr/>
          </p:nvSpPr>
          <p:spPr>
            <a:xfrm>
              <a:off x="142920" y="21420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노인권익보호서비스</a:t>
              </a:r>
              <a:r>
                <a:rPr b="0" lang="en-US" sz="26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2" name="AutoShape 2"/>
            <p:cNvSpPr/>
            <p:nvPr/>
          </p:nvSpPr>
          <p:spPr>
            <a:xfrm>
              <a:off x="142920" y="836280"/>
              <a:ext cx="8858160" cy="5400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Text Box 6"/>
            <p:cNvSpPr/>
            <p:nvPr/>
          </p:nvSpPr>
          <p:spPr>
            <a:xfrm>
              <a:off x="214200" y="1122480"/>
              <a:ext cx="878688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노인복지법 개정으로 긴급전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☏1577-1389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설치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중앙노인보호전문기관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 인권정책 제안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 연구와 프로그램 개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업무지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원 교육 및 대외협력사업 등 추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지역노인보호전문기관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신고전화 운영 및 사례접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해노인 및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행위자 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사례관리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예방교육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행교육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노인 쉼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자살예방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학대 지킴이단 운영 등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의 사례관리서비스 절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4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학대피해노인 전용쉼터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피해노인의 숙식제공 등 쉼터생활 지원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문심리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담 등의 치유프로그램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료비 지원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행위자 상담 등 제공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원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5-9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이하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호기간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4-6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장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신보건전문요원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2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요양보호사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배치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인권보호사업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인권보호 및 안전관리지침 시행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부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운영자 및 종사자 인권교육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8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가인권위원회의 노인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교육교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8)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및 노인 인권 길라잡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4)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간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인권지킴이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복지중앙회 인권매뉴얼 발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9)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종합복지관협회의 노인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ombudsman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범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년후견제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그룹 6"/>
          <p:cNvGrpSpPr/>
          <p:nvPr/>
        </p:nvGrpSpPr>
        <p:grpSpPr>
          <a:xfrm>
            <a:off x="285840" y="71280"/>
            <a:ext cx="8643960" cy="6073920"/>
            <a:chOff x="285840" y="71280"/>
            <a:chExt cx="8643960" cy="6073920"/>
          </a:xfrm>
        </p:grpSpPr>
        <p:grpSp>
          <p:nvGrpSpPr>
            <p:cNvPr id="625" name="그룹 22"/>
            <p:cNvGrpSpPr/>
            <p:nvPr/>
          </p:nvGrpSpPr>
          <p:grpSpPr>
            <a:xfrm>
              <a:off x="285840" y="821160"/>
              <a:ext cx="8643960" cy="5324040"/>
              <a:chOff x="285840" y="821160"/>
              <a:chExt cx="8643960" cy="5324040"/>
            </a:xfrm>
          </p:grpSpPr>
          <p:sp>
            <p:nvSpPr>
              <p:cNvPr id="626" name="AutoShape 2"/>
              <p:cNvSpPr/>
              <p:nvPr/>
            </p:nvSpPr>
            <p:spPr>
              <a:xfrm>
                <a:off x="285840" y="821160"/>
                <a:ext cx="8643960" cy="5324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7" name="Text Box 6"/>
              <p:cNvSpPr/>
              <p:nvPr/>
            </p:nvSpPr>
            <p:spPr>
              <a:xfrm>
                <a:off x="500040" y="948960"/>
                <a:ext cx="8358480" cy="26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돌봄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업대상이 저소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거노인 위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부담 경감서비스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 서비스와의 연계성 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의 전문성과 업무부담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돌봄기능 지원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돌봄서비스간 연계와 통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 전문성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지원사업 전반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시설부족과 낮은 접근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및 프로그램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여가 인식증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양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다양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8" name="AutoShape 4"/>
            <p:cNvSpPr/>
            <p:nvPr/>
          </p:nvSpPr>
          <p:spPr>
            <a:xfrm>
              <a:off x="357120" y="71280"/>
              <a:ext cx="5214960" cy="600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회서비스의 문제점과 과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Text Box 6"/>
            <p:cNvSpPr/>
            <p:nvPr/>
          </p:nvSpPr>
          <p:spPr>
            <a:xfrm>
              <a:off x="500040" y="3693960"/>
              <a:ext cx="8358480" cy="23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로당의 문제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설기준과 운영지원 기준 낮아 동네 사랑방 역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로당 활성화사업 확대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도자 리더십개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자원연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 운영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관간 편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의 편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관 및 분관 확대설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특성화 및 사회참여지원 사업 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0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442" name="AutoShape 2"/>
            <p:cNvSpPr/>
            <p:nvPr/>
          </p:nvSpPr>
          <p:spPr>
            <a:xfrm>
              <a:off x="142560" y="1285920"/>
              <a:ext cx="88585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64304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소득보장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142560" y="1369800"/>
              <a:ext cx="8929800" cy="22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빈곤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을 위한 사회보장제도의 일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 등과 같은 국가의 직접적 소득이전 프로그램을 통하여 최저 한도 이상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을 보장해주려는 사회적 노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체계의 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층 구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접적 소득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보장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간접적 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용할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증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혜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의 특성 비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4"/>
            <p:cNvSpPr/>
            <p:nvPr/>
          </p:nvSpPr>
          <p:spPr>
            <a:xfrm>
              <a:off x="214200" y="85716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소득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2"/>
            <p:cNvSpPr/>
            <p:nvPr/>
          </p:nvSpPr>
          <p:spPr>
            <a:xfrm>
              <a:off x="142560" y="485784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142560" y="4857840"/>
              <a:ext cx="892980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을 초래하는 사회적 위험들 중 노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으로 발생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적 어려움에 대응하기 위한 사회대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현행제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수직역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군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립학교교직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식 공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초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AutoShape 4"/>
            <p:cNvSpPr/>
            <p:nvPr/>
          </p:nvSpPr>
          <p:spPr>
            <a:xfrm>
              <a:off x="214200" y="3929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소득보장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직사각형 16"/>
            <p:cNvSpPr/>
            <p:nvPr/>
          </p:nvSpPr>
          <p:spPr>
            <a:xfrm>
              <a:off x="285480" y="45007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연금제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그룹 8"/>
          <p:cNvGrpSpPr/>
          <p:nvPr/>
        </p:nvGrpSpPr>
        <p:grpSpPr>
          <a:xfrm>
            <a:off x="71280" y="142920"/>
            <a:ext cx="8963280" cy="6666840"/>
            <a:chOff x="71280" y="142920"/>
            <a:chExt cx="8963280" cy="6666840"/>
          </a:xfrm>
        </p:grpSpPr>
        <p:grpSp>
          <p:nvGrpSpPr>
            <p:cNvPr id="631" name="그룹 12"/>
            <p:cNvGrpSpPr/>
            <p:nvPr/>
          </p:nvGrpSpPr>
          <p:grpSpPr>
            <a:xfrm>
              <a:off x="71280" y="5643720"/>
              <a:ext cx="7572600" cy="1166040"/>
              <a:chOff x="71280" y="5643720"/>
              <a:chExt cx="7572600" cy="1166040"/>
            </a:xfrm>
          </p:grpSpPr>
          <p:pic>
            <p:nvPicPr>
              <p:cNvPr id="632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71280" y="5643720"/>
                <a:ext cx="1000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" name="Rectangle 4"/>
              <p:cNvSpPr/>
              <p:nvPr/>
            </p:nvSpPr>
            <p:spPr>
              <a:xfrm>
                <a:off x="856800" y="5786280"/>
                <a:ext cx="67870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 프로그램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4" name="그룹 22"/>
            <p:cNvGrpSpPr/>
            <p:nvPr/>
          </p:nvGrpSpPr>
          <p:grpSpPr>
            <a:xfrm>
              <a:off x="213840" y="142920"/>
              <a:ext cx="8820720" cy="5529960"/>
              <a:chOff x="213840" y="142920"/>
              <a:chExt cx="8820720" cy="5529960"/>
            </a:xfrm>
          </p:grpSpPr>
          <p:sp>
            <p:nvSpPr>
              <p:cNvPr id="635" name="AutoShape 2"/>
              <p:cNvSpPr/>
              <p:nvPr/>
            </p:nvSpPr>
            <p:spPr>
              <a:xfrm>
                <a:off x="213840" y="142920"/>
                <a:ext cx="8820720" cy="552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6" name="Text Box 6"/>
              <p:cNvSpPr/>
              <p:nvPr/>
            </p:nvSpPr>
            <p:spPr>
              <a:xfrm>
                <a:off x="285120" y="357120"/>
                <a:ext cx="8748000" cy="34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시편중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강사부족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원부족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육환경 미흡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법개정 통해 노인교실을 평생교육기관으로 재규정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체계적 교육과정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재개발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문인력 양성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교육기관간 유기적 협력 체계 구축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참여 지원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인식 부족 및 참여저조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및 지원체계 미비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보상체계의 미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성숙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의식 제고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 프로그램 개발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봉사 지도자 양성 및 봉사조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관리체계 구축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관의 체계적 노인봉사자 관리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자생적 봉사클럽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사업과의 차별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7" name="Text Box 6"/>
            <p:cNvSpPr/>
            <p:nvPr/>
          </p:nvSpPr>
          <p:spPr>
            <a:xfrm>
              <a:off x="285480" y="4000680"/>
              <a:ext cx="8749080" cy="154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보호서비스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대문제에 치중한 소극적 인권보호서비스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률 제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·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정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술연구 및 프로그램 개발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보호 전문기관의 기능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확대 강화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권보호서비스 강화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년후견제도 강화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 옴부즈맨 제도 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도입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0"/>
          <p:cNvGrpSpPr/>
          <p:nvPr/>
        </p:nvGrpSpPr>
        <p:grpSpPr>
          <a:xfrm>
            <a:off x="142920" y="214200"/>
            <a:ext cx="8929800" cy="6168600"/>
            <a:chOff x="142920" y="214200"/>
            <a:chExt cx="8929800" cy="6168600"/>
          </a:xfrm>
        </p:grpSpPr>
        <p:sp>
          <p:nvSpPr>
            <p:cNvPr id="452" name="AutoShape 2"/>
            <p:cNvSpPr/>
            <p:nvPr/>
          </p:nvSpPr>
          <p:spPr>
            <a:xfrm>
              <a:off x="142920" y="214200"/>
              <a:ext cx="885852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142920" y="250560"/>
              <a:ext cx="8715600" cy="21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국민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월소득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9%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로 통일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종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애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유족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반환일시금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 현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202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431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천여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+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특수직역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 급여액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3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초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 하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7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독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8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88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원 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2022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액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인정액과 가구형태에 따라 차등 지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202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71.6%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142920" y="29286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Text Box 25"/>
            <p:cNvSpPr/>
            <p:nvPr/>
          </p:nvSpPr>
          <p:spPr>
            <a:xfrm>
              <a:off x="142920" y="2928960"/>
              <a:ext cx="892980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능력을 상실한 자와 일정 생활수준에 미달한 자에 대하여 국가가 최저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 보장과 자립촉진을 목적으로 한 경제적 보호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기초생활보장제도의 내용 및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중위소득 기준의 맞춤형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20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5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이상 노인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2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,514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명 수급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인구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8.5%,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수급권자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5.4%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직사각형 6"/>
            <p:cNvSpPr/>
            <p:nvPr/>
          </p:nvSpPr>
          <p:spPr>
            <a:xfrm>
              <a:off x="285480" y="25714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공공부조제도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"/>
            <p:cNvSpPr/>
            <p:nvPr/>
          </p:nvSpPr>
          <p:spPr>
            <a:xfrm>
              <a:off x="142920" y="50004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142920" y="5000760"/>
              <a:ext cx="8929800" cy="13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에 의해 특정 인구집단을 대상으로 보편주의원칙에 의거하여 연금 또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를 제공하는 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 등이 시행되었으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으로는 노인교통수당만 존재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08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기초연금제도에 통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재 일부 지자체 장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 수당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9"/>
            <p:cNvSpPr/>
            <p:nvPr/>
          </p:nvSpPr>
          <p:spPr>
            <a:xfrm>
              <a:off x="285480" y="46306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사회수당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그룹 7"/>
          <p:cNvGrpSpPr/>
          <p:nvPr/>
        </p:nvGrpSpPr>
        <p:grpSpPr>
          <a:xfrm>
            <a:off x="142920" y="142920"/>
            <a:ext cx="8858160" cy="6072120"/>
            <a:chOff x="142920" y="142920"/>
            <a:chExt cx="8858160" cy="6072120"/>
          </a:xfrm>
        </p:grpSpPr>
        <p:sp>
          <p:nvSpPr>
            <p:cNvPr id="461" name="AutoShape 2"/>
            <p:cNvSpPr/>
            <p:nvPr/>
          </p:nvSpPr>
          <p:spPr>
            <a:xfrm>
              <a:off x="142920" y="583920"/>
              <a:ext cx="8858160" cy="1987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25"/>
            <p:cNvSpPr/>
            <p:nvPr/>
          </p:nvSpPr>
          <p:spPr>
            <a:xfrm>
              <a:off x="214200" y="642960"/>
              <a:ext cx="8786880" cy="19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저축 등 개인 스스로 노후소득 준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과 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금융권에서 노후생활자금 목적으로 판매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확한 현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파악 안 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급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기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기업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7.5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근로자는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1.5%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적립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19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,000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억원이나 지속 증가추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직사각형 3"/>
            <p:cNvSpPr/>
            <p:nvPr/>
          </p:nvSpPr>
          <p:spPr>
            <a:xfrm>
              <a:off x="214200" y="14292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사적 소득보장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2"/>
            <p:cNvSpPr/>
            <p:nvPr/>
          </p:nvSpPr>
          <p:spPr>
            <a:xfrm>
              <a:off x="142920" y="3370320"/>
              <a:ext cx="8858160" cy="2844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Text Box 25"/>
            <p:cNvSpPr/>
            <p:nvPr/>
          </p:nvSpPr>
          <p:spPr>
            <a:xfrm>
              <a:off x="214200" y="3517920"/>
              <a:ext cx="8786880" cy="24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지출 경감을 통한 노후 소득보전방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도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부문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9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폐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 시행 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KTX 3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박물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원 입장료 무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항공기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객선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할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속세 및 증여세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세 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가족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양도소득세 감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거 전환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자소득 및 배당소득 비과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당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 이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결연사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국노인복지중앙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좌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연노인에게 후원금 전액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직사각형 6"/>
            <p:cNvSpPr/>
            <p:nvPr/>
          </p:nvSpPr>
          <p:spPr>
            <a:xfrm>
              <a:off x="214200" y="29289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경로우대제도 및 각종 감면혜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468" name="AutoShape 2"/>
            <p:cNvSpPr/>
            <p:nvPr/>
          </p:nvSpPr>
          <p:spPr>
            <a:xfrm>
              <a:off x="142920" y="571320"/>
              <a:ext cx="878688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9" name="그룹 10"/>
            <p:cNvGrpSpPr/>
            <p:nvPr/>
          </p:nvGrpSpPr>
          <p:grpSpPr>
            <a:xfrm>
              <a:off x="357120" y="142920"/>
              <a:ext cx="8643960" cy="5952960"/>
              <a:chOff x="357120" y="142920"/>
              <a:chExt cx="8643960" cy="5952960"/>
            </a:xfrm>
          </p:grpSpPr>
          <p:sp>
            <p:nvSpPr>
              <p:cNvPr id="470" name="AutoShape 4"/>
              <p:cNvSpPr/>
              <p:nvPr/>
            </p:nvSpPr>
            <p:spPr>
              <a:xfrm>
                <a:off x="357120" y="142920"/>
                <a:ext cx="50007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후소득보장의 문제와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6"/>
              <p:cNvSpPr/>
              <p:nvPr/>
            </p:nvSpPr>
            <p:spPr>
              <a:xfrm>
                <a:off x="499680" y="642960"/>
                <a:ext cx="8501400" cy="545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후소득보장의 역할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연금 수급자 제외하면 현재 노인의 절반 정도는 공적 소득보장 급여 못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세방식 기초연금제 확대하여 다층소득보장체계 구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공부조제도 확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의 자발적 노후소득보장 노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연금제도의 지속가능성과 안정적 노후소득보장 가능성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여체계로 인해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중후반에 연금 기금 적자 및 고갈 예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령연금 급여액의 노후 생계비 보장의 한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급여체계로 전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금운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험료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급여액 쟁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기초생활보장제도의 급여 대상과 수준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위소득에 기준한 맞춤형 급여체계로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계급여 선정 소득기준이 상대적으로 낮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는 실 임대로 반영 못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합리적 중위소득 기준 마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노인 기초생활 및 주거와 의료욕구 반영한 급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접적 소득보장제도의 낮은 보조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문화활동 감면혜택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세제감면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부모 부양수당 대상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자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전 차량에 대한 비용 감면제도 도입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적 노후소득보장 노력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연금 제도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연금과 저축 활성화 방안 모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6"/>
          <p:cNvGrpSpPr/>
          <p:nvPr/>
        </p:nvGrpSpPr>
        <p:grpSpPr>
          <a:xfrm>
            <a:off x="0" y="0"/>
            <a:ext cx="9144000" cy="6553080"/>
            <a:chOff x="0" y="0"/>
            <a:chExt cx="9144000" cy="6553080"/>
          </a:xfrm>
        </p:grpSpPr>
        <p:pic>
          <p:nvPicPr>
            <p:cNvPr id="47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고용보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5" name="그룹 17"/>
            <p:cNvGrpSpPr/>
            <p:nvPr/>
          </p:nvGrpSpPr>
          <p:grpSpPr>
            <a:xfrm>
              <a:off x="323640" y="928440"/>
              <a:ext cx="8606160" cy="2356920"/>
              <a:chOff x="323640" y="928440"/>
              <a:chExt cx="8606160" cy="235692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323640" y="1364400"/>
                <a:ext cx="8606160" cy="192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394920" y="1428480"/>
                <a:ext cx="8534880" cy="181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가 고용에 관한 정책을 시행하여 국민의 능력을 최대로 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게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장 효율성 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력의 수급균형을 도모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 지위의 향상을 도모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용보장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정책기본법에 의한 고용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재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능력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안전보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평등 중에서 노인복지분야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취업촉진대책이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AutoShape 4"/>
              <p:cNvSpPr/>
              <p:nvPr/>
            </p:nvSpPr>
            <p:spPr>
              <a:xfrm>
                <a:off x="394920" y="9284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고용보장의 이해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9" name="그룹 17"/>
            <p:cNvGrpSpPr/>
            <p:nvPr/>
          </p:nvGrpSpPr>
          <p:grpSpPr>
            <a:xfrm>
              <a:off x="323640" y="3356640"/>
              <a:ext cx="8606160" cy="1146960"/>
              <a:chOff x="323640" y="3356640"/>
              <a:chExt cx="8606160" cy="1146960"/>
            </a:xfrm>
          </p:grpSpPr>
          <p:sp>
            <p:nvSpPr>
              <p:cNvPr id="480" name="AutoShape 2"/>
              <p:cNvSpPr/>
              <p:nvPr/>
            </p:nvSpPr>
            <p:spPr>
              <a:xfrm>
                <a:off x="323640" y="3789000"/>
                <a:ext cx="8606160" cy="705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Text Box 25"/>
              <p:cNvSpPr/>
              <p:nvPr/>
            </p:nvSpPr>
            <p:spPr>
              <a:xfrm>
                <a:off x="394920" y="3861000"/>
                <a:ext cx="853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고용보장제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에 의한 고용촉진대책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한 노인취업 지원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AutoShape 4"/>
              <p:cNvSpPr/>
              <p:nvPr/>
            </p:nvSpPr>
            <p:spPr>
              <a:xfrm>
                <a:off x="394920" y="3356640"/>
                <a:ext cx="3819600" cy="435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현행 고용보장체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3" name="그룹 17"/>
            <p:cNvGrpSpPr/>
            <p:nvPr/>
          </p:nvGrpSpPr>
          <p:grpSpPr>
            <a:xfrm>
              <a:off x="357120" y="4940640"/>
              <a:ext cx="8786880" cy="1612440"/>
              <a:chOff x="357120" y="4940640"/>
              <a:chExt cx="8786880" cy="1612440"/>
            </a:xfrm>
          </p:grpSpPr>
          <p:sp>
            <p:nvSpPr>
              <p:cNvPr id="484" name="AutoShape 2"/>
              <p:cNvSpPr/>
              <p:nvPr/>
            </p:nvSpPr>
            <p:spPr>
              <a:xfrm>
                <a:off x="357120" y="5004360"/>
                <a:ext cx="8606160" cy="1548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Text Box 25"/>
              <p:cNvSpPr/>
              <p:nvPr/>
            </p:nvSpPr>
            <p:spPr>
              <a:xfrm>
                <a:off x="428400" y="4940640"/>
                <a:ext cx="8715600" cy="15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등의 고용연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자리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과 연령차별금지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고령자 고용활성화 대책 수립 추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희망 은퇴연령까지 노동시장 참여 환경 조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과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된 일자리 계속고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취업지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술창업 지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직무역량 및 고용안전망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강화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 고용인프라 확충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25"/>
            <p:cNvSpPr/>
            <p:nvPr/>
          </p:nvSpPr>
          <p:spPr>
            <a:xfrm>
              <a:off x="428400" y="4543560"/>
              <a:ext cx="61596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「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고령자고용촉진법</a:t>
              </a:r>
              <a:r>
                <a:rPr b="0" lang="ko-KR" sz="22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」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에 의한 장년고용서비스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그룹 1"/>
          <p:cNvGrpSpPr/>
          <p:nvPr/>
        </p:nvGrpSpPr>
        <p:grpSpPr>
          <a:xfrm>
            <a:off x="250920" y="260280"/>
            <a:ext cx="8788320" cy="6265080"/>
            <a:chOff x="250920" y="260280"/>
            <a:chExt cx="8788320" cy="6265080"/>
          </a:xfrm>
        </p:grpSpPr>
        <p:grpSp>
          <p:nvGrpSpPr>
            <p:cNvPr id="488" name="그룹 17"/>
            <p:cNvGrpSpPr/>
            <p:nvPr/>
          </p:nvGrpSpPr>
          <p:grpSpPr>
            <a:xfrm>
              <a:off x="250920" y="673560"/>
              <a:ext cx="8788320" cy="5851800"/>
              <a:chOff x="250920" y="673560"/>
              <a:chExt cx="8788320" cy="585180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250920" y="673560"/>
                <a:ext cx="8788320" cy="585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Text Box 25"/>
              <p:cNvSpPr/>
              <p:nvPr/>
            </p:nvSpPr>
            <p:spPr>
              <a:xfrm>
                <a:off x="504720" y="691560"/>
                <a:ext cx="8534520" cy="539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노동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대 정책방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장에서 오래 일할 수 있도록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재직근로자 고용안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고령자 계속고용 장려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 연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폐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 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고용 사업주에게 근로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당 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최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간 총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령자 재취업 지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중장년일자리희망센터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4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 재직자 대상 전직교육과 역량진단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력개발 컨설팅 제공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구직자 대상 취업알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취업지원교육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신중년적합직종 연계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생애경력설계서비스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5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 신중년 대상 생애경력설계를 바탕으로 신중년 인생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모작 패키지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고령자인재은행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5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 장년에게 취업알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자 재취업상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무능력 향상 교육 등 실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퇴직 후 사회공헌 및 일자리 지원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신중년 사회공헌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퇴직 전문인력 공헌활동 참여시 연간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82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만원 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신중년 경력형 일자리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기업 경영컨설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도시안전 시스템 점검 등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자리 주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5-4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간 참여시 최저임금 이상 급여 등 지급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신중년 적합직무 고용장려금제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5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 이상 구직자를 정규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무기계약직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개월 이상 고용한 사업주에게 근로자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40-8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만원 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그 외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고용촉진장려금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실업자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개월 이상 고용 사업주에게 연간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60-72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만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, 1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천명 이상 사업체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재취업지원서비스 의무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1" name="직사각형 4"/>
            <p:cNvSpPr/>
            <p:nvPr/>
          </p:nvSpPr>
          <p:spPr>
            <a:xfrm>
              <a:off x="395280" y="260280"/>
              <a:ext cx="7024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ko-KR" sz="24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「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고령자고용촉진법</a:t>
              </a:r>
              <a:r>
                <a:rPr b="0" lang="ko-KR" sz="24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」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에 의한 장년고용서비스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8"/>
          <p:cNvGrpSpPr/>
          <p:nvPr/>
        </p:nvGrpSpPr>
        <p:grpSpPr>
          <a:xfrm>
            <a:off x="214200" y="154080"/>
            <a:ext cx="8605800" cy="6024600"/>
            <a:chOff x="214200" y="154080"/>
            <a:chExt cx="8605800" cy="6024600"/>
          </a:xfrm>
        </p:grpSpPr>
        <p:grpSp>
          <p:nvGrpSpPr>
            <p:cNvPr id="493" name="그룹 17"/>
            <p:cNvGrpSpPr/>
            <p:nvPr/>
          </p:nvGrpSpPr>
          <p:grpSpPr>
            <a:xfrm>
              <a:off x="214200" y="637920"/>
              <a:ext cx="8605800" cy="5540760"/>
              <a:chOff x="214200" y="637920"/>
              <a:chExt cx="8605800" cy="5540760"/>
            </a:xfrm>
          </p:grpSpPr>
          <p:sp>
            <p:nvSpPr>
              <p:cNvPr id="494" name="AutoShape 2"/>
              <p:cNvSpPr/>
              <p:nvPr/>
            </p:nvSpPr>
            <p:spPr>
              <a:xfrm>
                <a:off x="214200" y="637920"/>
                <a:ext cx="8605800" cy="554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25"/>
              <p:cNvSpPr/>
              <p:nvPr/>
            </p:nvSpPr>
            <p:spPr>
              <a:xfrm>
                <a:off x="394920" y="678960"/>
                <a:ext cx="8282160" cy="542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취업지원기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노인회 노인취업지원본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상담과 알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요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굴 관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련기관 연계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로당 공동작업장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력개발기관과 노인일자리지원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력개발기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한국노인인력개발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개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조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협력사업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클럽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주로 시장형 일자리 사업 추진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2021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현재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18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일자리 및 사회활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원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 등을 통한 적극적 사회참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득보전 등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문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예방과 노인복지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세 이상 신청자 중 기초연금 수급 등을 기준으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평가하여 선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.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생계급여 및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의료급여 수급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국민건강보험 직장가입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장기요양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등급 판정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1-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등급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지지원등급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은 제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업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공익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 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회서비스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장형 사업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    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취업알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인턴십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고령자친화기업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근무조건과 보수지원 수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6" name="직사각형 4"/>
            <p:cNvSpPr/>
            <p:nvPr/>
          </p:nvSpPr>
          <p:spPr>
            <a:xfrm>
              <a:off x="285480" y="1540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복지법에 의한 고용보장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57:12Z</dcterms:modified>
  <cp:revision>47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