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641A-2AE5-4E1A-93A1-1EAF4AB18E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963A-D1FE-49DF-9F60-D646EF301FC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337E-5135-45CD-B40B-FC9433A6185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99A-C86D-4337-817B-A35B25BD1DC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C9C15-C441-4BC3-B904-65400485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B9681-68A4-4DE9-8657-9661C9E1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85418-13EC-4FC9-8248-7B80F1A2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2CFD0-D90D-4BB7-8838-24E1D516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88631-268C-4E74-87C5-65D0D026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C6D06-2166-4BFC-B964-8C3EE547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1295C-4359-4784-9E4B-7108C20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16356-B9FC-4A28-B9E1-14386E2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78ACE-FFCD-4AF4-AC50-538DC3FD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39C24-F8FD-403C-ACD2-9023A119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94EB2-7019-4A4A-972A-3C653548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9B059-5187-499B-BA9B-296888E4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6BBBA-DACF-417D-90B7-1F5D1FA1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1609E7-390B-4978-AF77-073799E0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15F77-51BF-49D7-9B78-35CADB94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D74E29-094C-460D-A768-F967392D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69872-3E7B-446D-8763-2978621D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D74D9-884E-4855-858E-8A89C221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546B0-AB3E-4898-A26A-B5DCFB29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DB440D-9AB6-4951-9D7F-58F28ED9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E72DB-95EC-4CEC-88D6-D21348C9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650FD-AA2E-484B-A59A-F960D8C6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32775-62E6-4071-972C-2567174F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111C8-39B0-4D6A-9453-3FD5D98F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52C6-C25E-478A-BAFA-01687E7D58C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236A-01BC-4ABE-A4EA-039CD328909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0720-317D-47E8-B62B-A88FC20F99E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4249-1A4E-4FBC-888A-DFF1CB7A3ED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33BF-5F48-4CF1-AA70-706EDF1B997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0432-1F16-4E3A-AB5F-1BCB2763605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D684-D4C8-4385-A16D-3B5A4338E70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D236-A437-479B-8A3A-B2D81E60BCE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E2DA-F318-4EF7-A7B5-CE00EC0500E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19E7-4FCF-48CF-8325-50C87798B1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 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 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 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53600"/>
              <a:ext cx="8644320" cy="32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 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</a:t>
              </a:r>
              <a:r>
                <a:rPr b="0" lang="ko-KR" sz="1600" spc="-1" strike="noStrike">
                  <a:solidFill>
                    <a:srgbClr val="002060"/>
                  </a:solidFill>
                  <a:latin typeface="맑은 고딕"/>
                  <a:ea typeface="맑은 고딕"/>
                </a:rPr>
                <a:t>〮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 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520"/>
            <a:chOff x="0" y="0"/>
            <a:chExt cx="9501120" cy="641052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40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42976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240"/>
              <a:chOff x="285480" y="3572280"/>
              <a:chExt cx="8643960" cy="283824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에서는 관망하며 참여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34440"/>
                <a:chOff x="213840" y="928440"/>
                <a:chExt cx="8930160" cy="123444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 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거주 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4680"/>
            <a:chOff x="0" y="0"/>
            <a:chExt cx="9144000" cy="621468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92800"/>
              <a:chOff x="285480" y="785520"/>
              <a:chExt cx="8715600" cy="539280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6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지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개인생활이 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ㆍ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514560"/>
            <a:chOff x="71280" y="357120"/>
            <a:chExt cx="9001440" cy="651456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514560"/>
              <a:chOff x="213840" y="357120"/>
              <a:chExt cx="8787240" cy="651456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934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와 생활환경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7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,500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.8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동거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동거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공동주택 형태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80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하 또는 반지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2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의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간 협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음 채광문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 부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관리 문제 등으로 인해 주거편의도와 만족도가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1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 유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생활환경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필품구매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원은 접근도 높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 접근도가 가장 낮으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역의 시설접근도가 더욱 낮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사회생활환경에 대한 만족도 역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036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1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으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32-233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556640"/>
              <a:ext cx="8786880" cy="4896720"/>
              <a:chOff x="357120" y="1556640"/>
              <a:chExt cx="8786880" cy="489672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556640"/>
                <a:ext cx="8786880" cy="489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520"/>
                <a:ext cx="8502840" cy="45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서비스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대피해노인 전용쉼터만이 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 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에 불과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요양제도 시행 후 급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 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care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지속적으로 증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줄어드는 추세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7:40Z</dcterms:modified>
  <cp:revision>3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