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51FD0-B7A5-4721-8486-D23FC101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4A8C9-0F01-404F-A9FA-13ACBB17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D68D5-5C9E-4FE3-876F-9613E5D1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B17DE-ECDF-4979-B980-670DB0EC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56970-73FC-4125-A007-48FDA07B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77925-A7B7-4743-B9BC-87279B06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913BB-5CEF-4AB4-A891-205CD6D8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36F0B-4CB7-4D1F-A319-3761800B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20BD4-5D69-4290-98DF-CC4EAA9C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7DCF4-34A0-43CD-AD12-6CC666D1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1C2D0-F901-4A94-84B1-CC28EBAF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F80CE-FBBE-4F00-A83D-E328B22E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8D236-15E1-4807-805B-8B7E9B4B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6573A-E783-4BD8-AF49-BAEDE13D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F5DA6-18E7-485D-AB46-4F3D2368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781EE-E175-4384-94E8-948F8121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CEEAB-8AFE-41C3-B4D5-0ED6C831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18EAE-1A9E-4ECA-A2DA-4D9B05AB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E5E2A-8788-4C9B-9C78-EDDB52F3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D97AD-16E6-4222-8362-77856EC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76106-2D0E-4925-86FE-D1B02F3F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F4685-6106-4AFE-BA55-A984B0C5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5E773-322F-4FF2-A810-C90FCD10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2E3E5-B767-4143-A76F-1EB01675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CA2A-3426-416F-AD41-0854F6B20D9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CC4A-7E60-48A1-BE06-84A108CF5C2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3C03-1EBA-4AEE-8E6B-EF857AC80DE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67A3-6267-4847-8149-37F1F4A91F9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52A-D154-4A71-83B6-99A5C35F6C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532A-F166-43A1-A9B8-D0187146C64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3FB0-4564-41C9-91C9-C0735BF587B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156A-3D4D-4734-B01C-910A1236822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Picture 2" descr="C:\DOCUME~1\USER\LOCALS~1\Temp\UNI00000c2870a4.gif"/>
          <p:cNvPicPr/>
          <p:nvPr/>
        </p:nvPicPr>
        <p:blipFill>
          <a:blip r:embed="rId2"/>
          <a:stretch/>
        </p:blipFill>
        <p:spPr>
          <a:xfrm>
            <a:off x="755640" y="1628640"/>
            <a:ext cx="78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24" name="직사각형 37" descr=""/>
          <p:cNvPicPr/>
          <p:nvPr/>
        </p:nvPicPr>
        <p:blipFill>
          <a:blip r:embed="rId2"/>
          <a:stretch/>
        </p:blipFill>
        <p:spPr>
          <a:xfrm>
            <a:off x="212760" y="1731960"/>
            <a:ext cx="87296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821800" cy="5776200"/>
            <a:chOff x="214200" y="357120"/>
            <a:chExt cx="8821800" cy="577620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882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</a:t>
              </a:r>
              <a:r>
                <a:rPr b="1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활주기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족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친척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자살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독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별과 애도 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87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r>
                  <a:rPr b="1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2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0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22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2448000" y="571680"/>
            <a:ext cx="424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4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5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고서 양식은 별도 사전 공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40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1:11Z</dcterms:modified>
  <cp:revision>18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