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0EAF-6D22-495A-BA58-E45BD107EE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331F-3237-4ACA-85FE-F71449840B6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04DE-9121-4F8C-8B65-E360C84341F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818FF-B636-46AF-B5CD-E8D6E4D2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EED7A-43A0-49F6-9BF8-6ABF8559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CE3EB-71A3-4EC6-8E47-2EDC5AED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81A7E-DB26-4DF9-930E-411EF589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3AC27-1B3D-41EE-B836-18FF8AC5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E65EB-E758-48C1-BF08-0C127F60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70CA2-01A3-4AB6-8ADC-F1EAB60F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10452-2A47-4AFE-86BC-B300E91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301AA-E0D2-473B-B48E-D97426D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2AB34-499F-426B-8224-267D622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BE11A-341B-4A3C-A12F-35F705FB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9F2FB-E12D-4F8E-98E7-337381FE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6312-FD04-462D-9328-E97B0E05C1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D4BC-E25A-47A8-9017-AFA7E109D6B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EA36-6B66-4278-91F5-E3E51477AA3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1C05-2E93-431B-A8F8-F9192CEDC0D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7D1C-9182-4190-9C9A-8C06958FB02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108000" y="71280"/>
            <a:ext cx="8856720" cy="6286680"/>
            <a:chOff x="108000" y="71280"/>
            <a:chExt cx="8856720" cy="6286680"/>
          </a:xfrm>
        </p:grpSpPr>
        <p:sp>
          <p:nvSpPr>
            <p:cNvPr id="371" name="AutoShape 2"/>
            <p:cNvSpPr/>
            <p:nvPr/>
          </p:nvSpPr>
          <p:spPr>
            <a:xfrm>
              <a:off x="108000" y="571320"/>
              <a:ext cx="885672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92040" y="725040"/>
              <a:ext cx="842832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게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48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 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6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지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 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640" y="1857240"/>
              <a:ext cx="86774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 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하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3.6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.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22016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 사회관계망과 사회적 지지의 변화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사회적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040"/>
            <a:chOff x="0" y="0"/>
            <a:chExt cx="9144000" cy="635904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3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42976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프가 식지 않는 거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거주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480"/>
              <a:chOff x="285480" y="3571560"/>
              <a:chExt cx="8643960" cy="278748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1920"/>
                <a:ext cx="8643960" cy="2334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44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1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거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5816160"/>
            <a:chOff x="214200" y="285840"/>
            <a:chExt cx="8858520" cy="58161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11160"/>
              <a:ext cx="8858520" cy="51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동거 및 별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상대적으로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-56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9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3-74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0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0-7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 시 부양가족은 자원부족과 부양능력 약화로 스트레스와 부양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이 높아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952240"/>
            <a:chOff x="142920" y="142920"/>
            <a:chExt cx="8929800" cy="595224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4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12600"/>
              <a:ext cx="8929800" cy="51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장년층은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히 사별한 여성 고령 독거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될 것으로 예측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협력 등의 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 변화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 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관계의 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70-27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499680"/>
              <a:ext cx="8573040" cy="285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,5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7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99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6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 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을 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826560"/>
              <a:ext cx="8643960" cy="3404520"/>
              <a:chOff x="285840" y="826560"/>
              <a:chExt cx="8643960" cy="340452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56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796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 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8265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1960"/>
              <a:ext cx="8643960" cy="2291040"/>
              <a:chOff x="285840" y="4071960"/>
              <a:chExt cx="8643960" cy="229104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%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포인트 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크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19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9:29Z</dcterms:modified>
  <cp:revision>3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