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3828-CF89-484D-83FF-64A03CF4DF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F884-B03F-4421-960B-C4EEC351529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BD9A-49BB-40D5-A9EF-45E3DF36FB4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70AF-F606-4662-A259-53A848DA15F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E4BA-492B-46A6-A8E8-4090DA7F7DB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10052-AF89-40A0-90C8-7F5CFAED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77464-E5D0-4C0E-B784-4B3564F2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F57D2-76EC-43BB-8F95-DCCF35AC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E4DFB-0276-48AA-9E49-C905387C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25467-C808-4267-BE51-39E6BA83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DEB4F-19B4-44D7-8EE3-72267BBE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6F678-64BD-451F-A786-FE15D326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84FE2-B68E-46C3-B756-A5FB3F41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BB7FC-A556-449C-BD46-6ED803B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E8812-D519-492F-8EFE-998A5743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DFBC0-AF92-4E77-9038-68017433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B8364-96B5-4B37-895D-6B8E1E59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EEC98-E513-4B84-8C1C-7D2F0539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8817A-2142-46B0-B930-A1E8910F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62C39C-3A7F-4FDE-BA61-8142942E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95F30-5D46-4A88-9FD9-DD5021BA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08EE5-3BE6-4B96-8CF4-36BD8ED8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610479-0FAC-4552-9000-4C8003B8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0ADD1-4F25-4F51-AD4D-7DC4B36E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F0BB64-B0E7-4A7E-8B0B-3068B64C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BF8BE-2F60-4165-B96D-6243C9F1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CB59F-4BE1-4AF4-93E7-B72FB2CE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3E4F56-708A-483C-B607-62CEDCA1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4F8A2-4116-4614-A5DD-3F9653A9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104C-ECBB-4C4A-92F1-5E098F37DCE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1B5B-568E-46C1-B886-650CF15CB80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739D-382D-46FE-945A-2095789B0F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4EE7-6336-4C9B-B770-F3A86E4567D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D69D-FAC8-42F2-9D08-0BA29DE5C9E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5137-70DC-4734-9728-5992F157E47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FD01-39D0-404B-9AD9-C1CB39E5B76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D635-BE7B-4B2D-9D8D-51D8833241F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F06B-F036-4567-BC0F-01D7D73ACCC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D87D-755F-4E4A-8AE4-919225BFBF8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0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2509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3222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3222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3222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3222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3222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250920" y="71280"/>
            <a:ext cx="8748720" cy="6286680"/>
            <a:chOff x="2509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2509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2509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3222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2509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3222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2509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하게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 또는 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 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여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 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의 사회 기능과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클라이언트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기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클라이언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30280" y="42480"/>
                <a:ext cx="6499440" cy="902160"/>
                <a:chOff x="1430280" y="42480"/>
                <a:chExt cx="649944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30280" y="42480"/>
                  <a:ext cx="649944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케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 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사례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36360" y="0"/>
            <a:ext cx="9144000" cy="6429240"/>
            <a:chOff x="3636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3636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320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214920" y="1849320"/>
              <a:ext cx="8606160" cy="4579920"/>
              <a:chOff x="21492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21492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286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미충족과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42948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176760" y="928440"/>
              <a:ext cx="8643960" cy="714240"/>
              <a:chOff x="17676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17676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248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179280" y="142920"/>
            <a:ext cx="8715600" cy="6357960"/>
            <a:chOff x="179280" y="142920"/>
            <a:chExt cx="8715600" cy="6357960"/>
          </a:xfrm>
        </p:grpSpPr>
        <p:sp>
          <p:nvSpPr>
            <p:cNvPr id="602" name="AutoShape 2"/>
            <p:cNvSpPr/>
            <p:nvPr/>
          </p:nvSpPr>
          <p:spPr>
            <a:xfrm>
              <a:off x="179280" y="500040"/>
              <a:ext cx="871560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250560" y="142920"/>
              <a:ext cx="8501400" cy="3530880"/>
              <a:chOff x="250560" y="142920"/>
              <a:chExt cx="850140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250560" y="642960"/>
                <a:ext cx="850140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179280" y="414360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250560" y="3786120"/>
              <a:ext cx="8287200" cy="2627280"/>
              <a:chOff x="250560" y="3786120"/>
              <a:chExt cx="8287200" cy="262728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250560" y="3786120"/>
                <a:ext cx="468036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321840" y="4357800"/>
                <a:ext cx="821592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2509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3222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4651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3222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4651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 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3222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179280" y="142920"/>
            <a:ext cx="8715600" cy="6000480"/>
            <a:chOff x="179280" y="142920"/>
            <a:chExt cx="8715600" cy="6000480"/>
          </a:xfrm>
        </p:grpSpPr>
        <p:sp>
          <p:nvSpPr>
            <p:cNvPr id="619" name="AutoShape 2"/>
            <p:cNvSpPr/>
            <p:nvPr/>
          </p:nvSpPr>
          <p:spPr>
            <a:xfrm>
              <a:off x="179280" y="428400"/>
              <a:ext cx="871560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250560" y="142920"/>
              <a:ext cx="8501400" cy="2593440"/>
              <a:chOff x="250560" y="142920"/>
              <a:chExt cx="850140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250560" y="642960"/>
                <a:ext cx="850140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250560" y="2746440"/>
              <a:ext cx="850140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접근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250560" y="4797720"/>
              <a:ext cx="850140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카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의 비대면 상담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으로 인한 제한이 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2:16Z</dcterms:modified>
  <cp:revision>33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