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D1F77-A690-4422-93E2-0A05C288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0F165-3F72-4512-92AA-E5B3197C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08DAE-9DE8-4437-8F18-B5835130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99030-ADDD-4B90-9505-07A5FED6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0848B-24D3-499E-AC53-91B4AD06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69040-C0DA-4640-8AEB-5FC1033D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5EA68-C76B-47AF-8E0F-D3F2D717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5ED35-39A8-49CB-B8C8-7EF94584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908BB-AF01-496D-B2D7-A49F785C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2A908-0940-4FFB-845D-E865CC68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6641C-EFD9-4C91-8B79-47DF2856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CC5E7-0277-4E30-B715-8DD52EE8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6EA23-209C-4F00-89BD-4F2E2AF8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0BDD6-3AD2-4EF5-9559-D1DFB2CB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79E4B-5BCE-499D-8E29-9256FADD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59D74-71A8-4095-9C04-0DD40B08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8B8F3-32EB-4C90-95A0-5F40A35E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271D32-030B-4561-9EDA-EECCB4F7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B2616-49CF-442D-9AC2-5012D41D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B8427-4F06-42C9-9E89-EC695C3E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C1224-4CBD-4DC3-9D8E-9383291F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489F1-53E1-4652-94B8-C5BF84E9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3BC13-F411-4A2C-8F1B-D4FB693B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423AB-2AAA-4E92-81DA-AA6451D3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3EB8-F7A2-4AAF-B2FD-85905E6C48A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E0CA-B75C-438E-BE74-1F289C1E4D2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31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4E77-6AFE-4FE7-A2CB-66B474A9D40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27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8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9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8349-7B91-4CE9-B4F9-CF9572CF28C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D364-89D2-416A-B425-08823B733D1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3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3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3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4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0963-36FA-4473-AE72-11F32C18837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8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9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9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146C-22E4-4E52-9F98-10B7A575B6D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4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5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5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6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25"/>
            <p:cNvSpPr/>
            <p:nvPr/>
          </p:nvSpPr>
          <p:spPr>
            <a:xfrm rot="16200000">
              <a:off x="7776000" y="66088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6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3DAD-84E1-4465-9D46-C075A985B0A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0" name="직사각형 1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7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그룹 9"/>
          <p:cNvGrpSpPr/>
          <p:nvPr/>
        </p:nvGrpSpPr>
        <p:grpSpPr>
          <a:xfrm>
            <a:off x="0" y="0"/>
            <a:ext cx="9144000" cy="6541920"/>
            <a:chOff x="0" y="0"/>
            <a:chExt cx="9144000" cy="6541920"/>
          </a:xfrm>
        </p:grpSpPr>
        <p:grpSp>
          <p:nvGrpSpPr>
            <p:cNvPr id="412" name="그룹 7"/>
            <p:cNvGrpSpPr/>
            <p:nvPr/>
          </p:nvGrpSpPr>
          <p:grpSpPr>
            <a:xfrm>
              <a:off x="52200" y="0"/>
              <a:ext cx="9091800" cy="6541920"/>
              <a:chOff x="52200" y="0"/>
              <a:chExt cx="9091800" cy="6541920"/>
            </a:xfrm>
          </p:grpSpPr>
          <p:pic>
            <p:nvPicPr>
              <p:cNvPr id="413" name="Picture 4" descr="그림1"/>
              <p:cNvPicPr/>
              <p:nvPr/>
            </p:nvPicPr>
            <p:blipFill>
              <a:blip r:embed="rId1"/>
              <a:stretch/>
            </p:blipFill>
            <p:spPr>
              <a:xfrm>
                <a:off x="52200" y="0"/>
                <a:ext cx="9091800" cy="542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6"/>
              <p:cNvSpPr/>
              <p:nvPr/>
            </p:nvSpPr>
            <p:spPr>
              <a:xfrm>
                <a:off x="1348920" y="5358240"/>
                <a:ext cx="6294600" cy="118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600" spc="-1" strike="noStrike">
                    <a:solidFill>
                      <a:srgbClr val="0c233c"/>
                    </a:solidFill>
                    <a:latin typeface="HY강M"/>
                    <a:ea typeface="HY강M"/>
                  </a:rPr>
                  <a:t>권  중  돈</a:t>
                </a:r>
                <a:endParaRPr b="0" lang="en-US" sz="3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목원대학교 사회복지학과 교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5" name="Rectangle 2"/>
              <p:cNvSpPr/>
              <p:nvPr/>
            </p:nvSpPr>
            <p:spPr>
              <a:xfrm>
                <a:off x="2142720" y="514080"/>
                <a:ext cx="4857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6000" spc="-1" strike="noStrike">
                    <a:solidFill>
                      <a:srgbClr val="ffc000"/>
                    </a:solidFill>
                    <a:latin typeface="HY강M"/>
                    <a:ea typeface="HY강M"/>
                  </a:rPr>
                  <a:t>노인복지론</a:t>
                </a:r>
                <a:endParaRPr b="0" lang="en-US" sz="6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6" name="Rectangle 8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417" name="Picture 2" descr="C:\DOCUME~1\USER\LOCALS~1\Temp\UNI00000c2870a4.gif"/>
          <p:cNvPicPr/>
          <p:nvPr/>
        </p:nvPicPr>
        <p:blipFill>
          <a:blip r:embed="rId2"/>
          <a:stretch/>
        </p:blipFill>
        <p:spPr>
          <a:xfrm>
            <a:off x="755640" y="1628640"/>
            <a:ext cx="78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214200" y="328608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9" name="AutoShape 2"/>
          <p:cNvSpPr/>
          <p:nvPr/>
        </p:nvSpPr>
        <p:spPr>
          <a:xfrm>
            <a:off x="214200" y="49118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214200" y="1697040"/>
            <a:ext cx="8786880" cy="1374840"/>
          </a:xfrm>
          <a:prstGeom prst="roundRect">
            <a:avLst>
              <a:gd name="adj" fmla="val 16667"/>
            </a:avLst>
          </a:prstGeom>
          <a:solidFill>
            <a:srgbClr val="b8ecac">
              <a:alpha val="53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6037200" y="6429240"/>
            <a:ext cx="1657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22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1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목 적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424" name="직사각형 37" descr=""/>
          <p:cNvPicPr/>
          <p:nvPr/>
        </p:nvPicPr>
        <p:blipFill>
          <a:blip r:embed="rId2"/>
          <a:stretch/>
        </p:blipFill>
        <p:spPr>
          <a:xfrm>
            <a:off x="212760" y="1731960"/>
            <a:ext cx="872964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2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 의 내 용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27" name="그룹 14"/>
          <p:cNvGrpSpPr/>
          <p:nvPr/>
        </p:nvGrpSpPr>
        <p:grpSpPr>
          <a:xfrm>
            <a:off x="214200" y="1357200"/>
            <a:ext cx="8929800" cy="4484160"/>
            <a:chOff x="214200" y="1357200"/>
            <a:chExt cx="8929800" cy="4484160"/>
          </a:xfrm>
        </p:grpSpPr>
        <p:sp>
          <p:nvSpPr>
            <p:cNvPr id="428" name="직사각형 13"/>
            <p:cNvSpPr/>
            <p:nvPr/>
          </p:nvSpPr>
          <p:spPr>
            <a:xfrm>
              <a:off x="356760" y="322560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구의 변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욕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문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의 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학의 이해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9" name="그룹 11"/>
            <p:cNvGrpSpPr/>
            <p:nvPr/>
          </p:nvGrpSpPr>
          <p:grpSpPr>
            <a:xfrm>
              <a:off x="214200" y="1357200"/>
              <a:ext cx="8787240" cy="3511800"/>
              <a:chOff x="214200" y="1357200"/>
              <a:chExt cx="8787240" cy="3511800"/>
            </a:xfrm>
          </p:grpSpPr>
          <p:sp>
            <p:nvSpPr>
              <p:cNvPr id="430" name="AutoShape 5"/>
              <p:cNvSpPr/>
              <p:nvPr/>
            </p:nvSpPr>
            <p:spPr>
              <a:xfrm>
                <a:off x="214200" y="1357200"/>
                <a:ext cx="5393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제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HY강B"/>
                  </a:rPr>
                  <a:t>1 </a:t>
                </a:r>
                <a:r>
                  <a:rPr b="1" lang="ko-KR" sz="3200" spc="-1" strike="noStrike">
                    <a:solidFill>
                      <a:srgbClr val="ffffff"/>
                    </a:solidFill>
                    <a:latin typeface="HY강B"/>
                  </a:rPr>
                  <a:t>부 노화와 노인의 이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10"/>
              <p:cNvSpPr/>
              <p:nvPr/>
            </p:nvSpPr>
            <p:spPr>
              <a:xfrm>
                <a:off x="323640" y="251136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Text Box 25"/>
              <p:cNvSpPr/>
              <p:nvPr/>
            </p:nvSpPr>
            <p:spPr>
              <a:xfrm>
                <a:off x="285480" y="2511360"/>
                <a:ext cx="871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과 노인문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3" name="AutoShape 10"/>
              <p:cNvSpPr/>
              <p:nvPr/>
            </p:nvSpPr>
            <p:spPr>
              <a:xfrm>
                <a:off x="323640" y="4297680"/>
                <a:ext cx="867780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4" name="Text Box 25"/>
              <p:cNvSpPr/>
              <p:nvPr/>
            </p:nvSpPr>
            <p:spPr>
              <a:xfrm>
                <a:off x="285480" y="4286520"/>
                <a:ext cx="631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buSzPct val="10280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화의 과정과 결과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직사각형 16"/>
            <p:cNvSpPr/>
            <p:nvPr/>
          </p:nvSpPr>
          <p:spPr>
            <a:xfrm>
              <a:off x="356760" y="5000760"/>
              <a:ext cx="878724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의 개념과 영역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물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심리적 노화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노화의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념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론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화현상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신화와 사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공적 노화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그룹 16"/>
          <p:cNvGrpSpPr/>
          <p:nvPr/>
        </p:nvGrpSpPr>
        <p:grpSpPr>
          <a:xfrm>
            <a:off x="214200" y="785880"/>
            <a:ext cx="8929800" cy="5787000"/>
            <a:chOff x="214200" y="785880"/>
            <a:chExt cx="8929800" cy="5787000"/>
          </a:xfrm>
        </p:grpSpPr>
        <p:sp>
          <p:nvSpPr>
            <p:cNvPr id="437" name="AutoShape 10"/>
            <p:cNvSpPr/>
            <p:nvPr/>
          </p:nvSpPr>
          <p:spPr>
            <a:xfrm>
              <a:off x="252000" y="7858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25"/>
            <p:cNvSpPr/>
            <p:nvPr/>
          </p:nvSpPr>
          <p:spPr>
            <a:xfrm>
              <a:off x="214200" y="78588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3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;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경제생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직사각형 5"/>
            <p:cNvSpPr/>
            <p:nvPr/>
          </p:nvSpPr>
          <p:spPr>
            <a:xfrm>
              <a:off x="285480" y="1285920"/>
              <a:ext cx="88585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소득과 지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일의 의미와 경제활동 실태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은퇴의 과정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적응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행 퇴직제도의 현황과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0" name="그룹 6"/>
            <p:cNvGrpSpPr/>
            <p:nvPr/>
          </p:nvGrpSpPr>
          <p:grpSpPr>
            <a:xfrm>
              <a:off x="214200" y="2143080"/>
              <a:ext cx="8787240" cy="1661400"/>
              <a:chOff x="214200" y="2143080"/>
              <a:chExt cx="8787240" cy="1661400"/>
            </a:xfrm>
          </p:grpSpPr>
          <p:sp>
            <p:nvSpPr>
              <p:cNvPr id="441" name="AutoShape 10"/>
              <p:cNvSpPr/>
              <p:nvPr/>
            </p:nvSpPr>
            <p:spPr>
              <a:xfrm>
                <a:off x="252000" y="2143080"/>
                <a:ext cx="867780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2" name="Text Box 25"/>
              <p:cNvSpPr/>
              <p:nvPr/>
            </p:nvSpPr>
            <p:spPr>
              <a:xfrm>
                <a:off x="214200" y="2143080"/>
                <a:ext cx="631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년기의 건강과 케어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care)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3" name="직사각형 9"/>
              <p:cNvSpPr/>
              <p:nvPr/>
            </p:nvSpPr>
            <p:spPr>
              <a:xfrm>
                <a:off x="285480" y="2643120"/>
                <a:ext cx="871596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건강과 질병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성 질환의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주요 질환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질병 양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상생활 동작능력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년기의 영양관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 환자의 케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care)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marL="10800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의 건강문제로 인한 사회적 비용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44" name="AutoShape 10"/>
            <p:cNvSpPr/>
            <p:nvPr/>
          </p:nvSpPr>
          <p:spPr>
            <a:xfrm>
              <a:off x="252000" y="393048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214200" y="39290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5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직사각형 12"/>
            <p:cNvSpPr/>
            <p:nvPr/>
          </p:nvSpPr>
          <p:spPr>
            <a:xfrm>
              <a:off x="285480" y="443052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개념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의 원인과 유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증상과 경과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예방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진단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․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료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 간호방법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의 부양부담과 지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10"/>
            <p:cNvSpPr/>
            <p:nvPr/>
          </p:nvSpPr>
          <p:spPr>
            <a:xfrm>
              <a:off x="252000" y="5292720"/>
              <a:ext cx="867744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214200" y="5286240"/>
              <a:ext cx="63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6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여가생활과 교육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직사각형 15"/>
            <p:cNvSpPr/>
            <p:nvPr/>
          </p:nvSpPr>
          <p:spPr>
            <a:xfrm>
              <a:off x="285480" y="5792760"/>
              <a:ext cx="871560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여가활동의 의의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유형의 변화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여가활동 참여실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및 촉진방안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자원봉사활동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교육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AutoShape 5"/>
          <p:cNvSpPr/>
          <p:nvPr/>
        </p:nvSpPr>
        <p:spPr>
          <a:xfrm>
            <a:off x="214200" y="71280"/>
            <a:ext cx="5786640" cy="50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제 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2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부 노인의 삶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욕구</a:t>
            </a:r>
            <a:r>
              <a:rPr b="1" lang="en-US" sz="3000" spc="-1" strike="noStrike">
                <a:solidFill>
                  <a:srgbClr val="ffffff"/>
                </a:solidFill>
                <a:latin typeface="HY강B"/>
              </a:rPr>
              <a:t>, </a:t>
            </a:r>
            <a:r>
              <a:rPr b="1" lang="ko-KR" sz="3000" spc="-1" strike="noStrike">
                <a:solidFill>
                  <a:srgbClr val="ffffff"/>
                </a:solidFill>
                <a:latin typeface="HY강B"/>
              </a:rPr>
              <a:t>문제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4"/>
          <p:cNvGrpSpPr/>
          <p:nvPr/>
        </p:nvGrpSpPr>
        <p:grpSpPr>
          <a:xfrm>
            <a:off x="214200" y="357120"/>
            <a:ext cx="8821800" cy="5776200"/>
            <a:chOff x="214200" y="357120"/>
            <a:chExt cx="8821800" cy="5776200"/>
          </a:xfrm>
        </p:grpSpPr>
        <p:sp>
          <p:nvSpPr>
            <p:cNvPr id="452" name="AutoShape 10"/>
            <p:cNvSpPr/>
            <p:nvPr/>
          </p:nvSpPr>
          <p:spPr>
            <a:xfrm>
              <a:off x="252000" y="35712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285480" y="357120"/>
              <a:ext cx="72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7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주거생활과 고령친화산업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직사각형 3"/>
            <p:cNvSpPr/>
            <p:nvPr/>
          </p:nvSpPr>
          <p:spPr>
            <a:xfrm>
              <a:off x="285480" y="1000080"/>
              <a:ext cx="857268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 주거환경의 중요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주거형태와 현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을 위한 주거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환경의 계획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시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령친화산업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elderly market)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AutoShape 10"/>
            <p:cNvSpPr/>
            <p:nvPr/>
          </p:nvSpPr>
          <p:spPr>
            <a:xfrm>
              <a:off x="252000" y="206064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Text Box 25"/>
            <p:cNvSpPr/>
            <p:nvPr/>
          </p:nvSpPr>
          <p:spPr>
            <a:xfrm>
              <a:off x="214200" y="2060280"/>
              <a:ext cx="882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중간고사</a:t>
              </a:r>
              <a:r>
                <a:rPr b="1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10"/>
            <p:cNvSpPr/>
            <p:nvPr/>
          </p:nvSpPr>
          <p:spPr>
            <a:xfrm>
              <a:off x="252000" y="307188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214200" y="3071520"/>
              <a:ext cx="564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의 사회관계망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10"/>
            <p:cNvSpPr/>
            <p:nvPr/>
          </p:nvSpPr>
          <p:spPr>
            <a:xfrm>
              <a:off x="285480" y="3643200"/>
              <a:ext cx="8715600" cy="84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적 관계망과 지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가족의 구조와 기능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생활주기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가족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 marL="108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친척관계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년기의 친구 및 이웃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10"/>
            <p:cNvSpPr/>
            <p:nvPr/>
          </p:nvSpPr>
          <p:spPr>
            <a:xfrm>
              <a:off x="252000" y="4796280"/>
              <a:ext cx="8748360" cy="539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Text Box 25"/>
            <p:cNvSpPr/>
            <p:nvPr/>
          </p:nvSpPr>
          <p:spPr>
            <a:xfrm>
              <a:off x="214200" y="4786200"/>
              <a:ext cx="550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삶의 이면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1" lang="ko-KR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裏面</a:t>
              </a:r>
              <a:r>
                <a:rPr b="1" lang="en-US" sz="2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직사각형 13"/>
            <p:cNvSpPr/>
            <p:nvPr/>
          </p:nvSpPr>
          <p:spPr>
            <a:xfrm>
              <a:off x="285480" y="5369040"/>
              <a:ext cx="857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0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죽음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자살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고독사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별과 애도 등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호스피스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생활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인권과 학대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보화와 노년공학</a:t>
              </a:r>
              <a:r>
                <a:rPr b="0" lang="en-US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22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의 안전과 범죄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그룹 21"/>
          <p:cNvGrpSpPr/>
          <p:nvPr/>
        </p:nvGrpSpPr>
        <p:grpSpPr>
          <a:xfrm>
            <a:off x="214200" y="71280"/>
            <a:ext cx="8786880" cy="5786640"/>
            <a:chOff x="214200" y="71280"/>
            <a:chExt cx="8786880" cy="5786640"/>
          </a:xfrm>
        </p:grpSpPr>
        <p:sp>
          <p:nvSpPr>
            <p:cNvPr id="464" name="AutoShape 5"/>
            <p:cNvSpPr/>
            <p:nvPr/>
          </p:nvSpPr>
          <p:spPr>
            <a:xfrm>
              <a:off x="214200" y="71280"/>
              <a:ext cx="564372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제 </a:t>
              </a:r>
              <a:r>
                <a:rPr b="1" lang="en-US" sz="3000" spc="-1" strike="noStrike">
                  <a:solidFill>
                    <a:srgbClr val="ffffff"/>
                  </a:solidFill>
                  <a:latin typeface="HY강B"/>
                </a:rPr>
                <a:t>3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</a:rPr>
                <a:t>부 노인복지 정책과 실천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5" name="그룹 20"/>
            <p:cNvGrpSpPr/>
            <p:nvPr/>
          </p:nvGrpSpPr>
          <p:grpSpPr>
            <a:xfrm>
              <a:off x="214200" y="928440"/>
              <a:ext cx="8786880" cy="4929480"/>
              <a:chOff x="214200" y="928440"/>
              <a:chExt cx="8786880" cy="4929480"/>
            </a:xfrm>
          </p:grpSpPr>
          <p:sp>
            <p:nvSpPr>
              <p:cNvPr id="466" name="AutoShape 10"/>
              <p:cNvSpPr/>
              <p:nvPr/>
            </p:nvSpPr>
            <p:spPr>
              <a:xfrm>
                <a:off x="252000" y="9284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Text Box 25"/>
              <p:cNvSpPr/>
              <p:nvPr/>
            </p:nvSpPr>
            <p:spPr>
              <a:xfrm>
                <a:off x="214200" y="928440"/>
                <a:ext cx="864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1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와 노인복지정책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직사각형 5"/>
              <p:cNvSpPr/>
              <p:nvPr/>
            </p:nvSpPr>
            <p:spPr>
              <a:xfrm>
                <a:off x="285480" y="1428480"/>
                <a:ext cx="8572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개념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․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원칙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구성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전달체계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의 발달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정책의 이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정책의 개요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69" name="그룹 6"/>
              <p:cNvGrpSpPr/>
              <p:nvPr/>
            </p:nvGrpSpPr>
            <p:grpSpPr>
              <a:xfrm>
                <a:off x="214200" y="2171520"/>
                <a:ext cx="8786880" cy="898920"/>
                <a:chOff x="214200" y="2171520"/>
                <a:chExt cx="8786880" cy="898920"/>
              </a:xfrm>
            </p:grpSpPr>
            <p:sp>
              <p:nvSpPr>
                <p:cNvPr id="470" name="AutoShape 10"/>
                <p:cNvSpPr/>
                <p:nvPr/>
              </p:nvSpPr>
              <p:spPr>
                <a:xfrm>
                  <a:off x="252000" y="2171520"/>
                  <a:ext cx="8749080" cy="50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Text Box 25"/>
                <p:cNvSpPr/>
                <p:nvPr/>
              </p:nvSpPr>
              <p:spPr>
                <a:xfrm>
                  <a:off x="214200" y="2180880"/>
                  <a:ext cx="631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buSzPct val="102884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12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주</a:t>
                  </a:r>
                  <a:r>
                    <a:rPr b="1" lang="en-US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1" lang="ko-KR" sz="24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현행 노인복지 정책과 서비스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2" name="직사각형 9"/>
                <p:cNvSpPr/>
                <p:nvPr/>
              </p:nvSpPr>
              <p:spPr>
                <a:xfrm>
                  <a:off x="285480" y="2671560"/>
                  <a:ext cx="8715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080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소득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고용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주거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건강보장</a:t>
                  </a:r>
                  <a:r>
                    <a:rPr b="0" lang="en-US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002060"/>
                      </a:solidFill>
                      <a:latin typeface="HY강M"/>
                      <a:ea typeface="HY강M"/>
                    </a:rPr>
                    <a:t>사회 서비스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AutoShape 10"/>
              <p:cNvSpPr/>
              <p:nvPr/>
            </p:nvSpPr>
            <p:spPr>
              <a:xfrm>
                <a:off x="252000" y="307800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4" name="Text Box 25"/>
              <p:cNvSpPr/>
              <p:nvPr/>
            </p:nvSpPr>
            <p:spPr>
              <a:xfrm>
                <a:off x="214200" y="307152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5" name="직사각형 12"/>
              <p:cNvSpPr/>
              <p:nvPr/>
            </p:nvSpPr>
            <p:spPr>
              <a:xfrm>
                <a:off x="285480" y="3578040"/>
                <a:ext cx="821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의 조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조직의 프로그램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개발의 과정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프로그램 제안서 작성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6" name="AutoShape 10"/>
              <p:cNvSpPr/>
              <p:nvPr/>
            </p:nvSpPr>
            <p:spPr>
              <a:xfrm>
                <a:off x="252000" y="4292640"/>
                <a:ext cx="874908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214200" y="4286160"/>
                <a:ext cx="631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4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실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직사각형 15"/>
              <p:cNvSpPr/>
              <p:nvPr/>
            </p:nvSpPr>
            <p:spPr>
              <a:xfrm>
                <a:off x="285480" y="4792680"/>
                <a:ext cx="871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080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실천의 개념과 특성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상담</a:t>
                </a:r>
                <a:r>
                  <a:rPr b="0" lang="en-US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례관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AutoShape 10"/>
              <p:cNvSpPr/>
              <p:nvPr/>
            </p:nvSpPr>
            <p:spPr>
              <a:xfrm>
                <a:off x="252000" y="5286600"/>
                <a:ext cx="8749080" cy="571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Text Box 25"/>
              <p:cNvSpPr/>
              <p:nvPr/>
            </p:nvSpPr>
            <p:spPr>
              <a:xfrm>
                <a:off x="214200" y="5286600"/>
                <a:ext cx="874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5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</a:t>
                </a:r>
                <a:r>
                  <a:rPr b="1" lang="en-US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말고사</a:t>
                </a:r>
                <a:r>
                  <a:rPr b="1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HY강B"/>
                <a:ea typeface="HY강B"/>
              </a:rPr>
              <a:t>3.  </a:t>
            </a:r>
            <a:r>
              <a:rPr b="1" lang="ko-KR" sz="4400" spc="-1" strike="noStrike">
                <a:solidFill>
                  <a:srgbClr val="ffffff"/>
                </a:solidFill>
                <a:latin typeface="HY강B"/>
                <a:ea typeface="HY강B"/>
              </a:rPr>
              <a:t>강의교재 및 평가</a:t>
            </a:r>
            <a:endParaRPr b="0" lang="en-US" sz="44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483" name="그룹 9"/>
          <p:cNvGrpSpPr/>
          <p:nvPr/>
        </p:nvGrpSpPr>
        <p:grpSpPr>
          <a:xfrm>
            <a:off x="285840" y="1500120"/>
            <a:ext cx="8643960" cy="4143600"/>
            <a:chOff x="285840" y="1500120"/>
            <a:chExt cx="8643960" cy="4143600"/>
          </a:xfrm>
        </p:grpSpPr>
        <p:sp>
          <p:nvSpPr>
            <p:cNvPr id="484" name="AutoShape 10"/>
            <p:cNvSpPr/>
            <p:nvPr/>
          </p:nvSpPr>
          <p:spPr>
            <a:xfrm>
              <a:off x="655560" y="2143080"/>
              <a:ext cx="8274240" cy="571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Text Box 25"/>
            <p:cNvSpPr/>
            <p:nvPr/>
          </p:nvSpPr>
          <p:spPr>
            <a:xfrm>
              <a:off x="285840" y="15001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교재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직사각형 13"/>
            <p:cNvSpPr/>
            <p:nvPr/>
          </p:nvSpPr>
          <p:spPr>
            <a:xfrm>
              <a:off x="714240" y="2181240"/>
              <a:ext cx="69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권중돈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8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서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22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AutoShape 10"/>
            <p:cNvSpPr/>
            <p:nvPr/>
          </p:nvSpPr>
          <p:spPr>
            <a:xfrm>
              <a:off x="655560" y="3714840"/>
              <a:ext cx="827424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285840" y="3129120"/>
              <a:ext cx="285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buSzPct val="10287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3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고문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직사각형 19"/>
            <p:cNvSpPr/>
            <p:nvPr/>
          </p:nvSpPr>
          <p:spPr>
            <a:xfrm>
              <a:off x="689040" y="3772080"/>
              <a:ext cx="80978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모선희 외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현대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6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8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이혜영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5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창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19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최혜경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론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판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지사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 2020.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건복지부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2022). </a:t>
              </a:r>
              <a:r>
                <a:rPr b="0" lang="ko-K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보건복지사업안내</a:t>
              </a:r>
              <a:r>
                <a:rPr b="0" lang="en-US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.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직사각형 14"/>
          <p:cNvSpPr/>
          <p:nvPr/>
        </p:nvSpPr>
        <p:spPr>
          <a:xfrm>
            <a:off x="0" y="0"/>
            <a:ext cx="9144000" cy="6429240"/>
          </a:xfrm>
          <a:prstGeom prst="rect">
            <a:avLst/>
          </a:prstGeom>
          <a:solidFill>
            <a:srgbClr val="0099cc"/>
          </a:solidFill>
          <a:ln w="93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1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"/>
          <p:cNvPicPr/>
          <p:nvPr/>
        </p:nvPicPr>
        <p:blipFill>
          <a:blip r:embed="rId2"/>
          <a:stretch/>
        </p:blipFill>
        <p:spPr>
          <a:xfrm>
            <a:off x="2448000" y="571680"/>
            <a:ext cx="424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그룹 14"/>
          <p:cNvGrpSpPr/>
          <p:nvPr/>
        </p:nvGrpSpPr>
        <p:grpSpPr>
          <a:xfrm>
            <a:off x="357120" y="79200"/>
            <a:ext cx="8572680" cy="6278760"/>
            <a:chOff x="357120" y="79200"/>
            <a:chExt cx="8572680" cy="6278760"/>
          </a:xfrm>
        </p:grpSpPr>
        <p:sp>
          <p:nvSpPr>
            <p:cNvPr id="494" name="AutoShape 10"/>
            <p:cNvSpPr/>
            <p:nvPr/>
          </p:nvSpPr>
          <p:spPr>
            <a:xfrm>
              <a:off x="823680" y="3143160"/>
              <a:ext cx="81061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5" name="AutoShape 5"/>
            <p:cNvSpPr/>
            <p:nvPr/>
          </p:nvSpPr>
          <p:spPr>
            <a:xfrm>
              <a:off x="357120" y="79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보고서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6" name="AutoShape 10"/>
            <p:cNvSpPr/>
            <p:nvPr/>
          </p:nvSpPr>
          <p:spPr>
            <a:xfrm>
              <a:off x="752400" y="714240"/>
              <a:ext cx="8177400" cy="50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7" name="Text Box 25"/>
            <p:cNvSpPr/>
            <p:nvPr/>
          </p:nvSpPr>
          <p:spPr>
            <a:xfrm>
              <a:off x="714240" y="722160"/>
              <a:ext cx="67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 프로그램 개발 보고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8" name="직사각형 7"/>
            <p:cNvSpPr/>
            <p:nvPr/>
          </p:nvSpPr>
          <p:spPr>
            <a:xfrm>
              <a:off x="928440" y="1214280"/>
              <a:ext cx="792972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직접 실행할 수 있는 노인복지프로그램을 개발하여 제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보고서 양식은 별도 사전 공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AutoShape 5"/>
            <p:cNvSpPr/>
            <p:nvPr/>
          </p:nvSpPr>
          <p:spPr>
            <a:xfrm>
              <a:off x="428400" y="2500200"/>
              <a:ext cx="271476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.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평가기준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Text Box 25"/>
            <p:cNvSpPr/>
            <p:nvPr/>
          </p:nvSpPr>
          <p:spPr>
            <a:xfrm>
              <a:off x="785520" y="3146400"/>
              <a:ext cx="6715440" cy="12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출석 및 참여도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노인복지 프로그램 개발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%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7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시험</a:t>
              </a:r>
              <a:r>
                <a:rPr b="1" lang="en-US" sz="23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중간고사 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0%, </a:t>
              </a:r>
              <a:r>
                <a:rPr b="1" lang="ko-KR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기말고사</a:t>
              </a:r>
              <a:r>
                <a:rPr b="1" lang="en-US" sz="23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40% 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AutoShape 5"/>
            <p:cNvSpPr/>
            <p:nvPr/>
          </p:nvSpPr>
          <p:spPr>
            <a:xfrm>
              <a:off x="428400" y="4786200"/>
              <a:ext cx="3643200" cy="468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.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강의 관련 자료 및 문의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2" name="AutoShape 10"/>
            <p:cNvSpPr/>
            <p:nvPr/>
          </p:nvSpPr>
          <p:spPr>
            <a:xfrm>
              <a:off x="823680" y="5429520"/>
              <a:ext cx="6963120" cy="928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785520" y="5432400"/>
              <a:ext cx="81442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e-mail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kjd716@mokwon.ac.kr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pt-BR" sz="24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Tel: 042-829-7513</a:t>
              </a:r>
              <a:r>
                <a:rPr b="0" lang="pt-BR" sz="24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권중돈</cp:lastModifiedBy>
  <dcterms:modified xsi:type="dcterms:W3CDTF">2022-08-26T00:31:11Z</dcterms:modified>
  <cp:revision>18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