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E51F-9B95-460A-870C-B82F8CAEB6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FC4E-4071-4294-B757-B378BAEB63B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2479-9DB0-4FF6-AC85-A387875711D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61DAF-AA8A-4BA6-ACFD-378E08B8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B062D-82AE-4F0F-AD8E-934CE26D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1756D-5402-4BFD-BE0E-CD7FFE9B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8D535-9D69-4BC8-B9BC-4AAEEFAF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5665C-05AA-487C-B57B-C0CF9E40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C4CD7-F026-4DFC-9EB4-AC5C78BD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98BEE-C0FB-4AE7-A757-2B628598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B2BE5-5A72-4FF5-B1FE-DD78243A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7B710-E147-478A-ABBB-F337BA06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0FBA7-88FD-4FCF-98BC-D2711F5D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FCF1E-EFA4-4DA0-A856-8C9639D5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47FBE-EE51-4263-859F-C4A30D64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8F20-4A76-474A-A125-2A9EAD0FC41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353F-B693-4D74-B85B-18E42073104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B498-31B7-40CD-9D03-AB13D448EE2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0DFD-8B1E-4A83-81A4-D332140E4CF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D0A6-EFCE-4735-B2FC-335C0F65D83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108000" y="71280"/>
            <a:ext cx="8856720" cy="6286680"/>
            <a:chOff x="108000" y="71280"/>
            <a:chExt cx="8856720" cy="6286680"/>
          </a:xfrm>
        </p:grpSpPr>
        <p:sp>
          <p:nvSpPr>
            <p:cNvPr id="371" name="AutoShape 2"/>
            <p:cNvSpPr/>
            <p:nvPr/>
          </p:nvSpPr>
          <p:spPr>
            <a:xfrm>
              <a:off x="108000" y="571320"/>
              <a:ext cx="885672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92040" y="725040"/>
              <a:ext cx="842832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게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48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 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6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지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 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640" y="1857240"/>
              <a:ext cx="86774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 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하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93.6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.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22016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 사회관계망과 사회적 지지의 변화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사회적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040"/>
            <a:chOff x="0" y="0"/>
            <a:chExt cx="9144000" cy="635904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3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42976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프가 식지 않는 거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거주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480"/>
              <a:chOff x="285480" y="3571560"/>
              <a:chExt cx="8643960" cy="278748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1920"/>
                <a:ext cx="8643960" cy="2334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44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7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1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거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.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5816160"/>
            <a:chOff x="214200" y="285840"/>
            <a:chExt cx="8858520" cy="58161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46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11160"/>
              <a:ext cx="8858520" cy="51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동거 및 별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상대적으로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6-56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9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3-74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0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0-78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 시 부양가족은 자원부족과 부양능력 약화로 스트레스와 부양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이 높아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952240"/>
            <a:chOff x="142920" y="142920"/>
            <a:chExt cx="8929800" cy="595224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42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12600"/>
              <a:ext cx="8929800" cy="51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장년층은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히 사별한 여성 고령 독거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될 것으로 예측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협력 등의 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 변화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 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관계의 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70-27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499680"/>
              <a:ext cx="8573040" cy="285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,5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7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99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6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 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을 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826560"/>
              <a:ext cx="8643960" cy="3404520"/>
              <a:chOff x="285840" y="826560"/>
              <a:chExt cx="8643960" cy="340452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56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796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 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8265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1960"/>
              <a:ext cx="8643960" cy="2291040"/>
              <a:chOff x="285840" y="4071960"/>
              <a:chExt cx="8643960" cy="229104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%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포인트 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크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19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맑은 고딕"/>
                    <a:ea typeface="맑은 고딕"/>
                  </a:rPr>
                  <a:t>〮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9:29Z</dcterms:modified>
  <cp:revision>37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