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321E-36F3-48AA-9578-ED0591AA45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C592-FCA0-4641-AA81-6527F154895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C2EA-3281-4760-8A84-95D41962DEA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B684-5C72-4085-A6A8-9541228CE91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0B74-7BCF-4623-9321-97744D747B6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A67C5-D3EB-442C-B2CD-4D15CF4B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3F345-47E7-42AD-A8C1-D4F9020E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155C5-3090-4485-A1E7-89420E4F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3C7FB-B2C4-482F-9E24-7EC5860E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02E73-596E-42AA-9802-B1749AE6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9C84C-B7DB-49F6-95C9-B80B8AC1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58D7C-97E7-4AA5-ACEC-47B372ED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7707D-4DE5-49B5-A0E9-4519627B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B2A5E-C8D3-4BD0-83B8-675490DB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37F20-7B1A-419A-960D-B26E9E30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88AD0-9183-4976-B04D-FE848C55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E93CE-A80B-42A8-ADCA-B51D9E1F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09700-D78D-4A11-8394-297167E6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D10220-A28F-4D4E-9FB7-AF7CC8FB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B908E-DF9B-4B01-A62D-C81ECAFA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78005-914A-48B7-BD02-93400862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1FC41F-BF71-4973-AB1F-6D379149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66C84-1495-4B41-A57E-40D5D923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076471-7B27-4D45-A397-3BD6EFE5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6E9A56-CAEA-4CA3-A6E8-D5AB6435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28E88D-9FEF-4935-B999-863865E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BDC71E-2ED7-41C2-8415-12BAC9E0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FA20D8-B18D-43F8-B49D-786F5944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3C3A3-6127-4DA4-BF98-D433E253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E747-722C-4437-BEA2-4267E6917FF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22B2-FCED-4CED-B1D9-9BFB171E6FC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6C44-0C89-4E04-8562-B77DE8DA498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1B1B-2229-4513-BC3E-C509C4DB593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3F0C-E0D0-4B43-B7BD-F6D935DCB94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3813-09D7-4A5D-BD85-E3917223BED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5386-D1A9-4A65-88E8-2CB802F6808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84AD-BF51-4ACA-90B6-6E7840F3A4D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D35C-D02E-4029-94D2-9F2F72A92A9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AEB3-BF6D-461E-A265-5CBF469BFA6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0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2509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3222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3222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3222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3222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3222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250920" y="71280"/>
            <a:ext cx="8748720" cy="6286680"/>
            <a:chOff x="2509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2509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2509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3222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2509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3222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2509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하게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 또는 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 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여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 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의 사회 기능과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클라이언트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기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클라이언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30280" y="42480"/>
                <a:ext cx="6499440" cy="902160"/>
                <a:chOff x="1430280" y="42480"/>
                <a:chExt cx="649944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30280" y="42480"/>
                  <a:ext cx="649944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케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 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사례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36360" y="0"/>
            <a:ext cx="9144000" cy="6429240"/>
            <a:chOff x="3636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3636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320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214920" y="1849320"/>
              <a:ext cx="8606160" cy="4579920"/>
              <a:chOff x="21492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21492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286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미충족과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42948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176760" y="928440"/>
              <a:ext cx="8643960" cy="714240"/>
              <a:chOff x="17676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17676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248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179280" y="142920"/>
            <a:ext cx="8715600" cy="6357960"/>
            <a:chOff x="179280" y="142920"/>
            <a:chExt cx="8715600" cy="6357960"/>
          </a:xfrm>
        </p:grpSpPr>
        <p:sp>
          <p:nvSpPr>
            <p:cNvPr id="602" name="AutoShape 2"/>
            <p:cNvSpPr/>
            <p:nvPr/>
          </p:nvSpPr>
          <p:spPr>
            <a:xfrm>
              <a:off x="179280" y="500040"/>
              <a:ext cx="871560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250560" y="142920"/>
              <a:ext cx="8501400" cy="3530880"/>
              <a:chOff x="250560" y="142920"/>
              <a:chExt cx="850140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250560" y="642960"/>
                <a:ext cx="850140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179280" y="414360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250560" y="3786120"/>
              <a:ext cx="8287200" cy="2627280"/>
              <a:chOff x="250560" y="3786120"/>
              <a:chExt cx="8287200" cy="262728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250560" y="3786120"/>
                <a:ext cx="468036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321840" y="4357800"/>
                <a:ext cx="821592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250920" y="71280"/>
            <a:ext cx="8643960" cy="6286680"/>
            <a:chOff x="2509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2509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3222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4651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3222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3222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4651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 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3222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179280" y="142920"/>
            <a:ext cx="8715600" cy="6000480"/>
            <a:chOff x="179280" y="142920"/>
            <a:chExt cx="8715600" cy="6000480"/>
          </a:xfrm>
        </p:grpSpPr>
        <p:sp>
          <p:nvSpPr>
            <p:cNvPr id="619" name="AutoShape 2"/>
            <p:cNvSpPr/>
            <p:nvPr/>
          </p:nvSpPr>
          <p:spPr>
            <a:xfrm>
              <a:off x="179280" y="428400"/>
              <a:ext cx="871560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250560" y="142920"/>
              <a:ext cx="8501400" cy="2593440"/>
              <a:chOff x="250560" y="142920"/>
              <a:chExt cx="850140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25056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250560" y="642960"/>
                <a:ext cx="850140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250560" y="2746440"/>
              <a:ext cx="850140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접근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250560" y="4797720"/>
              <a:ext cx="850140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카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의 비대면 상담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으로 인한 제한이 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2:16Z</dcterms:modified>
  <cp:revision>33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