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5946-0036-49B3-AC8A-875BE72B27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7FE0-8AD7-4536-8DDB-E51DAE36279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FF1A-91CF-47F6-A76D-F27482DDF5B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B24FF-A000-4610-8F25-E95DDF9F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DE705-972E-44CD-98AC-E67A8B6A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D7B4C-E856-44EB-84C3-2927ED02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FF87E-8A38-48D9-8D93-A303EF68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7D465-B306-4F80-802E-053E86B6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9688F-1B98-4BD8-AA85-B9DA3962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76E3E-BE6D-4C14-B46F-4CCC214A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A33CB-2928-4D73-8768-8F3C97B4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25B56-3703-401E-8493-EB57325F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589E2-AAD2-4BDB-9282-A112B4AD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82679-E50B-4ABF-8043-1CFC9CA3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14B1E-797D-4CE5-9463-8D9E6A3C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A32E-D093-4DCA-B2F6-9E53B52D017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989B-EEE9-4738-8AA6-8E8F49AF471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1953-ED0A-41EA-AD85-5684C7F69BE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D545-6080-4B05-9B1D-29A48CD58A8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3A1B-F738-48BA-AC3A-544DFC6D49F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108000" y="71280"/>
            <a:ext cx="8856720" cy="6286680"/>
            <a:chOff x="108000" y="71280"/>
            <a:chExt cx="8856720" cy="6286680"/>
          </a:xfrm>
        </p:grpSpPr>
        <p:sp>
          <p:nvSpPr>
            <p:cNvPr id="371" name="AutoShape 2"/>
            <p:cNvSpPr/>
            <p:nvPr/>
          </p:nvSpPr>
          <p:spPr>
            <a:xfrm>
              <a:off x="108000" y="571320"/>
              <a:ext cx="885672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92040" y="725040"/>
              <a:ext cx="842832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게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48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 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6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지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 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640" y="1857240"/>
              <a:ext cx="86774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 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하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3.6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.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22016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 사회관계망과 사회적 지지의 변화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사회적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040"/>
            <a:chOff x="0" y="0"/>
            <a:chExt cx="9144000" cy="635904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3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42976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프가 식지 않는 거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거주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480"/>
              <a:chOff x="285480" y="3571560"/>
              <a:chExt cx="8643960" cy="278748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1920"/>
                <a:ext cx="8643960" cy="2334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44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1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거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5816160"/>
            <a:chOff x="214200" y="285840"/>
            <a:chExt cx="8858520" cy="58161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46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11160"/>
              <a:ext cx="8858520" cy="51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동거 및 별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상대적으로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-56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9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3-74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0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0-78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 시 부양가족은 자원부족과 부양능력 약화로 스트레스와 부양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이 높아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952240"/>
            <a:chOff x="142920" y="142920"/>
            <a:chExt cx="8929800" cy="595224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42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12600"/>
              <a:ext cx="8929800" cy="51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장년층은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히 사별한 여성 고령 독거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될 것으로 예측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협력 등의 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 변화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 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관계의 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70-27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499680"/>
              <a:ext cx="8573040" cy="285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,5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7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99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6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 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을 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826560"/>
              <a:ext cx="8643960" cy="3404520"/>
              <a:chOff x="285840" y="826560"/>
              <a:chExt cx="8643960" cy="340452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56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796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 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8265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1960"/>
              <a:ext cx="8643960" cy="2291040"/>
              <a:chOff x="285840" y="4071960"/>
              <a:chExt cx="8643960" cy="229104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%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포인트 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크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19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9:29Z</dcterms:modified>
  <cp:revision>37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