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3512-A0AE-4000-99A9-1AFECE8FDF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560F-D4FE-4232-AC1D-A144202179A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D44C-8273-44B9-B108-2032A26A04E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6EE5-6911-4868-A969-7A64CCFD611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51ED-F3FA-4E95-9D9E-C486D8DACB2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359F2-820B-43D0-B7B6-3A57CCC7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0EE66-4F85-4EB5-A067-E11FED86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FBBA9-446A-44A2-B6F7-D7810D11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6B9B7-706F-45CC-AA38-9B983BDB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CCDB8-47AE-4821-983A-519288C6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01DEF-85AC-4CF0-8B7C-B8421D4B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68A23-2779-49E7-AF7F-0A22574A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AF69A-0395-407E-8A35-E61BB4B0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99210-54B1-4C4D-BB49-7766F0B0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48B8E-C99A-4392-85BA-708B0775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63ED0-0C2F-42E6-B37F-ABB34195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4820F-D615-423E-A02F-AACBE4AC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3C2586-4E8F-4FFF-A52C-F5E47EF2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DB15A2-EAD3-433F-A1D9-B3A0138B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39E168-F09A-4CF5-B1D0-07AF7CA7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68A332-64AD-49EB-9A66-8FD94E60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A8E388-DFAA-4ED9-85CC-E6D12C5D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5F0F16-A84A-4368-99A4-D7946F06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FC8901-5093-4A88-8521-49AD1DED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266DEC-D974-4328-B4D8-756569B4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E8DEF0-0B4D-401B-A9DC-00698249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2FF180-48CF-43C0-ADCC-4595CA95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EA1A09-AB5E-466E-92FA-1CABE291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E339C-6E44-443E-A11B-BF702753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398E-103C-4A5F-8BC5-00075CA9F60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6496-76DD-42DC-92AD-8387935438F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AB86-18EB-498C-901D-F7B99879E17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658C-E367-403A-9202-1719E1BADD0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1499-6110-43AB-BE76-BDDADA2C98A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BC9C-5B67-4D94-971C-0A6B6E49C32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6683-D3F4-4BAA-8F27-8D3AD41B44E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516B-7DFB-4805-97F3-8ACFE7691FB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4585-0CEE-4994-B524-2CC1223DBDC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0CAA-53D0-4780-A119-60CD4CA7FD5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HY강B"/>
                <a:ea typeface="HY강B"/>
              </a:rPr>
              <a:t>13</a:t>
            </a:r>
            <a:r>
              <a:rPr b="1" lang="ko-KR" sz="4000" spc="-1" strike="noStrike">
                <a:solidFill>
                  <a:srgbClr val="ff00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그룹 8"/>
          <p:cNvGrpSpPr/>
          <p:nvPr/>
        </p:nvGrpSpPr>
        <p:grpSpPr>
          <a:xfrm>
            <a:off x="250920" y="71280"/>
            <a:ext cx="8643960" cy="6286680"/>
            <a:chOff x="250920" y="71280"/>
            <a:chExt cx="8643960" cy="6286680"/>
          </a:xfrm>
        </p:grpSpPr>
        <p:sp>
          <p:nvSpPr>
            <p:cNvPr id="626" name="AutoShape 4"/>
            <p:cNvSpPr/>
            <p:nvPr/>
          </p:nvSpPr>
          <p:spPr>
            <a:xfrm>
              <a:off x="2509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AutoShape 2"/>
            <p:cNvSpPr/>
            <p:nvPr/>
          </p:nvSpPr>
          <p:spPr>
            <a:xfrm>
              <a:off x="322200" y="999720"/>
              <a:ext cx="85312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322200" y="1071360"/>
              <a:ext cx="857268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화관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rapport)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의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을 이해하려는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중심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허용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솔한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돕고자 하는 자세의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 문제의 이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을 요청한 이유와 동기의 파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배경에 대한 이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초점 문제의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의 문제해결방법과 현재 문제해결 의지와 동기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담에 대한 기대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의 구조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방식과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태도 등에 대한 기본적 오리엔테이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직사각형 4"/>
            <p:cNvSpPr/>
            <p:nvPr/>
          </p:nvSpPr>
          <p:spPr>
            <a:xfrm>
              <a:off x="3222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접수 및 관계형성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2"/>
            <p:cNvSpPr/>
            <p:nvPr/>
          </p:nvSpPr>
          <p:spPr>
            <a:xfrm>
              <a:off x="322200" y="3643200"/>
              <a:ext cx="853128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직사각형 6"/>
            <p:cNvSpPr/>
            <p:nvPr/>
          </p:nvSpPr>
          <p:spPr>
            <a:xfrm>
              <a:off x="322200" y="3286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료수집 및 사정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322200" y="3714840"/>
              <a:ext cx="85726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료수집과 사정은 전체 원조과정에서 이루어지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관계 형성 이후 집중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이루어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자료수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과 단점 모두를 확인하여야 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내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로 인해 야기되는 결과나 상황의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기능 수준에 대한 포괄적 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과 한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체계의 장점과 단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목표와 개입계획수립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이고 명확하며 현실적으로 달성가능한 목표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를 실현할 수 있는 개입계획 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그룹 8"/>
          <p:cNvGrpSpPr/>
          <p:nvPr/>
        </p:nvGrpSpPr>
        <p:grpSpPr>
          <a:xfrm>
            <a:off x="250920" y="71280"/>
            <a:ext cx="8748720" cy="6286680"/>
            <a:chOff x="250920" y="71280"/>
            <a:chExt cx="8748720" cy="6286680"/>
          </a:xfrm>
        </p:grpSpPr>
        <p:sp>
          <p:nvSpPr>
            <p:cNvPr id="634" name="AutoShape 2"/>
            <p:cNvSpPr/>
            <p:nvPr/>
          </p:nvSpPr>
          <p:spPr>
            <a:xfrm>
              <a:off x="250920" y="428400"/>
              <a:ext cx="867600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250920" y="499680"/>
              <a:ext cx="860436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계획을 구체적 행동으로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나의 큰 목표를 일련의 하위목표로 세분화하여 순차적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방적 지시나 통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우호적 상담분위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준비가 안된 상태에서의 직면 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저항을 불러오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하는 것이 좋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변화과정에서 일시적 혼란을 가져올 수 있으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가 일상화되도록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속적 지지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직사각형 4"/>
            <p:cNvSpPr/>
            <p:nvPr/>
          </p:nvSpPr>
          <p:spPr>
            <a:xfrm>
              <a:off x="3222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입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2"/>
            <p:cNvSpPr/>
            <p:nvPr/>
          </p:nvSpPr>
          <p:spPr>
            <a:xfrm>
              <a:off x="250920" y="2916000"/>
              <a:ext cx="8676000" cy="3441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직사각형 6"/>
            <p:cNvSpPr/>
            <p:nvPr/>
          </p:nvSpPr>
          <p:spPr>
            <a:xfrm>
              <a:off x="322200" y="25588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평가 및 종결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Text Box 6"/>
            <p:cNvSpPr/>
            <p:nvPr/>
          </p:nvSpPr>
          <p:spPr>
            <a:xfrm>
              <a:off x="250920" y="3000240"/>
              <a:ext cx="874872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종결시기 결정과 평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호소한 문제가 완화되었다고 하더라도 점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이 요구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달성과 상담과정에 대한 평가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종결감정의 처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와의 이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지속과 현실 적용에 대한 불안 등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와 문제해결에 따른 성취감과 같은 긍정적 정서를 동시에 경험하는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를 완화하고 긍정적 정서를 강화하여 상담자와의 ‘심리적 이유’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촉진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의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에게 서면으로 의뢰기관에 대한 정보 제공 또는 노인과 동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노인의 욕구와 문제를 개괄적으로 정리한 자료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연락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속시간 정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대한 비현실적 기대를 갖지 않도록 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추후상담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 상담 약속 자체만으로도 노인에게는 지지가 되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이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를 받을 수 있는 방법을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41" name="AutoShape 2"/>
            <p:cNvSpPr/>
            <p:nvPr/>
          </p:nvSpPr>
          <p:spPr>
            <a:xfrm>
              <a:off x="428400" y="3357360"/>
              <a:ext cx="8531280" cy="3000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7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기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2"/>
            <p:cNvSpPr/>
            <p:nvPr/>
          </p:nvSpPr>
          <p:spPr>
            <a:xfrm>
              <a:off x="428400" y="999720"/>
              <a:ext cx="853128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6"/>
            <p:cNvSpPr/>
            <p:nvPr/>
          </p:nvSpPr>
          <p:spPr>
            <a:xfrm>
              <a:off x="428400" y="1071360"/>
              <a:ext cx="8572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의집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선은 넥타이 매듭과 눈 사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몸은 약간 굽히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팔다리를 꼬지 않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귀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눈으로 적극적 관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청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.2.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원칙 따르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언어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언어재구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른 말로 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정상입니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명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히 말씀해주시겠어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언어적 탐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가 보기에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일치에 대한 도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전이랑 말씀이 틀리신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노출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하위기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의집중과 경청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428400" y="3000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문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28400" y="3429000"/>
              <a:ext cx="85726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초점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무엇입니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특정 사항에 집중하게 하는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해결중심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다소 좋아진 때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보다 해결에 초점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둔 사고를 고양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순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친구분이 그럴 때 어르신은 무엇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와 연관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분들의 상호관련성 파악을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적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적처럼 문제가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미래지향적 사고를 갖게 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힘드실 때마다 가장 도움이 된 것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내담자가 문제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처하기 위해 사용하는 방법을 확인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그룹 11"/>
          <p:cNvGrpSpPr/>
          <p:nvPr/>
        </p:nvGrpSpPr>
        <p:grpSpPr>
          <a:xfrm>
            <a:off x="357120" y="71280"/>
            <a:ext cx="8675640" cy="6286680"/>
            <a:chOff x="357120" y="71280"/>
            <a:chExt cx="8675640" cy="6286680"/>
          </a:xfrm>
        </p:grpSpPr>
        <p:sp>
          <p:nvSpPr>
            <p:cNvPr id="649" name="AutoShape 2"/>
            <p:cNvSpPr/>
            <p:nvPr/>
          </p:nvSpPr>
          <p:spPr>
            <a:xfrm>
              <a:off x="357120" y="499680"/>
              <a:ext cx="86756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357120" y="499680"/>
              <a:ext cx="8604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나친 일반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비하나 과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현실적 요구 등의 비합리적 인지를 개선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과 정서의 변화를 도모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재구조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논리적 사고를 합리적 사고로 대치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자기지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적 대화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는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할 수 있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!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홍수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제 두려움을 느끼는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파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장 두려웠던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합리적 심상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안할 때 즐겁고 유쾌한 상황을 상상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지적 행동수정 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2"/>
            <p:cNvSpPr/>
            <p:nvPr/>
          </p:nvSpPr>
          <p:spPr>
            <a:xfrm>
              <a:off x="357120" y="3305160"/>
              <a:ext cx="8675640" cy="766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57120" y="3357360"/>
              <a:ext cx="86043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 사건과 경험을 기억하여 해결되지 않은 감정의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통합성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외를 경감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직사각형 7"/>
            <p:cNvSpPr/>
            <p:nvPr/>
          </p:nvSpPr>
          <p:spPr>
            <a:xfrm>
              <a:off x="428400" y="2960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회상치료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2"/>
            <p:cNvSpPr/>
            <p:nvPr/>
          </p:nvSpPr>
          <p:spPr>
            <a:xfrm>
              <a:off x="357120" y="4500720"/>
              <a:ext cx="867564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Text Box 6"/>
            <p:cNvSpPr/>
            <p:nvPr/>
          </p:nvSpPr>
          <p:spPr>
            <a:xfrm>
              <a:off x="357120" y="4500720"/>
              <a:ext cx="8604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정상적 행동이라도 그 이면에는 어떤 논리가 존재한다는 전제하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확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실인식보다는 행동의 의미 이해와 내담자의 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존중감을 증진시키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적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가 한 곳에 집중하여 부정적 감정을 해결하는 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일한 행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말을 상담자가 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문제행동 동작을 똑같이 따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의 기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직사각형 10"/>
            <p:cNvSpPr/>
            <p:nvPr/>
          </p:nvSpPr>
          <p:spPr>
            <a:xfrm>
              <a:off x="428400" y="4103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정요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그룹 4"/>
          <p:cNvGrpSpPr/>
          <p:nvPr/>
        </p:nvGrpSpPr>
        <p:grpSpPr>
          <a:xfrm>
            <a:off x="71280" y="17640"/>
            <a:ext cx="9072720" cy="6422760"/>
            <a:chOff x="71280" y="17640"/>
            <a:chExt cx="9072720" cy="6422760"/>
          </a:xfrm>
        </p:grpSpPr>
        <p:sp>
          <p:nvSpPr>
            <p:cNvPr id="659" name="AutoShape 2"/>
            <p:cNvSpPr/>
            <p:nvPr/>
          </p:nvSpPr>
          <p:spPr>
            <a:xfrm>
              <a:off x="71280" y="428760"/>
              <a:ext cx="9000000" cy="60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Text Box 6"/>
            <p:cNvSpPr/>
            <p:nvPr/>
          </p:nvSpPr>
          <p:spPr>
            <a:xfrm>
              <a:off x="286920" y="571680"/>
              <a:ext cx="885708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역할전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두명의 내담자가 서로의 역할을 바꾸어 수행함으로써 상대방에 대한 이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진시키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재정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긍정적 의미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를 보다 긍정적 시각으로 볼 수 있게 하는 일종의 역설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시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시간 또는 가정에서 수행할 과제를 부여하는 방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활용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잠재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발견에 초점을 두는 면접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처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상을 지속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의로 통제하게 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제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극적 내담자에게 재발을 경고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속도가 지나치게 빠르다고 지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부분화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든 가족의 입장을 대변함으로써 가족의 주관적 인식과 신념체계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바꾸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편들기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아가면서 가족성원을 지지하여 세대분화를 촉진하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충성심 표출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성심 존재 여부와 존중되게 된 배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대에 걸친 전수과정 등을 겉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드러내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면죄부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 충성심 부족으로 인한 죄의식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 비난을 극복할 수 있도록 특정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건의 의미 명확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애도과정을 도와주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그 외 반려동물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결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종 재활치료와 대안치료의 기법을 활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직사각형 3"/>
            <p:cNvSpPr/>
            <p:nvPr/>
          </p:nvSpPr>
          <p:spPr>
            <a:xfrm>
              <a:off x="213840" y="17640"/>
              <a:ext cx="62154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기타의 상담기법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그룹 10"/>
          <p:cNvGrpSpPr/>
          <p:nvPr/>
        </p:nvGrpSpPr>
        <p:grpSpPr>
          <a:xfrm>
            <a:off x="0" y="0"/>
            <a:ext cx="9358200" cy="5929200"/>
            <a:chOff x="0" y="0"/>
            <a:chExt cx="9358200" cy="5929200"/>
          </a:xfrm>
        </p:grpSpPr>
        <p:pic>
          <p:nvPicPr>
            <p:cNvPr id="66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례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AutoShape 4"/>
            <p:cNvSpPr/>
            <p:nvPr/>
          </p:nvSpPr>
          <p:spPr>
            <a:xfrm>
              <a:off x="285480" y="782640"/>
              <a:ext cx="5572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등장배경과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"/>
            <p:cNvSpPr/>
            <p:nvPr/>
          </p:nvSpPr>
          <p:spPr>
            <a:xfrm>
              <a:off x="285480" y="1911240"/>
              <a:ext cx="8715600" cy="2017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85480" y="1982520"/>
              <a:ext cx="878688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대인서비스 강조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정신장애인의 지역사회재활을 중시하여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의 등장배경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시설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증가와 욕구의 다양화 및 복잡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급주체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지방분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의 단편성과 불연속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관계망에 대한 관심 증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 비용의 절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직사각형 13"/>
            <p:cNvSpPr/>
            <p:nvPr/>
          </p:nvSpPr>
          <p:spPr>
            <a:xfrm>
              <a:off x="285480" y="14284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등장배경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"/>
            <p:cNvSpPr/>
            <p:nvPr/>
          </p:nvSpPr>
          <p:spPr>
            <a:xfrm>
              <a:off x="285480" y="4626000"/>
              <a:ext cx="8715600" cy="130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6"/>
            <p:cNvSpPr/>
            <p:nvPr/>
          </p:nvSpPr>
          <p:spPr>
            <a:xfrm>
              <a:off x="285480" y="4714920"/>
              <a:ext cx="8786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구고령화와 노인욕구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의 제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부양기능의 약화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부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능 또는 문제 중심의 서비스 경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부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입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제를 통한 사회적 비용의 경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직사각형 17"/>
            <p:cNvSpPr/>
            <p:nvPr/>
          </p:nvSpPr>
          <p:spPr>
            <a:xfrm>
              <a:off x="285480" y="4143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분야의 사례관리 필요성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그룹 15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673" name="AutoShape 4"/>
            <p:cNvSpPr/>
            <p:nvPr/>
          </p:nvSpPr>
          <p:spPr>
            <a:xfrm>
              <a:off x="285840" y="7128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개념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"/>
            <p:cNvSpPr/>
            <p:nvPr/>
          </p:nvSpPr>
          <p:spPr>
            <a:xfrm>
              <a:off x="285840" y="84276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285840" y="8568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사례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행정관리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m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합성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d care, care management, care coordinatio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혼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로 사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직사각형 13"/>
            <p:cNvSpPr/>
            <p:nvPr/>
          </p:nvSpPr>
          <p:spPr>
            <a:xfrm>
              <a:off x="285840" y="4600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용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"/>
            <p:cNvSpPr/>
            <p:nvPr/>
          </p:nvSpPr>
          <p:spPr>
            <a:xfrm>
              <a:off x="285840" y="227160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6"/>
            <p:cNvSpPr/>
            <p:nvPr/>
          </p:nvSpPr>
          <p:spPr>
            <a:xfrm>
              <a:off x="285840" y="22860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문제나 욕구를 지닌 사람들의 기능과 복리를 최대화시키기 위하여 공식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지지망의 활동을 조직하고 서비스를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하는 서비스 전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직사각형 19"/>
            <p:cNvSpPr/>
            <p:nvPr/>
          </p:nvSpPr>
          <p:spPr>
            <a:xfrm>
              <a:off x="285840" y="18889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념정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AutoShape 4"/>
            <p:cNvSpPr/>
            <p:nvPr/>
          </p:nvSpPr>
          <p:spPr>
            <a:xfrm>
              <a:off x="285840" y="342900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사례관리의 목적과 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285840" y="424008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6"/>
            <p:cNvSpPr/>
            <p:nvPr/>
          </p:nvSpPr>
          <p:spPr>
            <a:xfrm>
              <a:off x="285840" y="425448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의 연속성 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과 책임성의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의 보호능력 향상 또는 재가보호기회의 증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의 사회 기능과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향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의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율적 이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직사각형 23"/>
            <p:cNvSpPr/>
            <p:nvPr/>
          </p:nvSpPr>
          <p:spPr>
            <a:xfrm>
              <a:off x="285840" y="3857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285840" y="5669280"/>
              <a:ext cx="8715600" cy="68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285840" y="5683320"/>
              <a:ext cx="87868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와 서비스의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보호체계와 클라이언트의 상호작용 촉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기관간의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직사각형 27"/>
            <p:cNvSpPr/>
            <p:nvPr/>
          </p:nvSpPr>
          <p:spPr>
            <a:xfrm>
              <a:off x="285840" y="5286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기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22"/>
          <p:cNvGrpSpPr/>
          <p:nvPr/>
        </p:nvGrpSpPr>
        <p:grpSpPr>
          <a:xfrm>
            <a:off x="285840" y="71280"/>
            <a:ext cx="8786880" cy="6367680"/>
            <a:chOff x="285840" y="71280"/>
            <a:chExt cx="8786880" cy="6367680"/>
          </a:xfrm>
        </p:grpSpPr>
        <p:sp>
          <p:nvSpPr>
            <p:cNvPr id="688" name="AutoShape 4"/>
            <p:cNvSpPr/>
            <p:nvPr/>
          </p:nvSpPr>
          <p:spPr>
            <a:xfrm>
              <a:off x="357120" y="712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AutoShape 2"/>
            <p:cNvSpPr/>
            <p:nvPr/>
          </p:nvSpPr>
          <p:spPr>
            <a:xfrm>
              <a:off x="285840" y="990360"/>
              <a:ext cx="8715600" cy="723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285840" y="990360"/>
              <a:ext cx="857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가나 준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에서 제공하는 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직사각형 8"/>
            <p:cNvSpPr/>
            <p:nvPr/>
          </p:nvSpPr>
          <p:spPr>
            <a:xfrm>
              <a:off x="285840" y="603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자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AutoShape 2"/>
            <p:cNvSpPr/>
            <p:nvPr/>
          </p:nvSpPr>
          <p:spPr>
            <a:xfrm>
              <a:off x="285840" y="207144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85840" y="207144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자기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 기관내 특수단위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수단위시설 또는 복합기능기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합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4" name="직사각형 11"/>
            <p:cNvSpPr/>
            <p:nvPr/>
          </p:nvSpPr>
          <p:spPr>
            <a:xfrm>
              <a:off x="285840" y="1714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기관의 형태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5" name="AutoShape 2"/>
            <p:cNvSpPr/>
            <p:nvPr/>
          </p:nvSpPr>
          <p:spPr>
            <a:xfrm>
              <a:off x="285840" y="32860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285840" y="327348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차적 보호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사회적 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직사각형 14"/>
            <p:cNvSpPr/>
            <p:nvPr/>
          </p:nvSpPr>
          <p:spPr>
            <a:xfrm>
              <a:off x="285840" y="2857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목적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AutoShape 2"/>
            <p:cNvSpPr/>
            <p:nvPr/>
          </p:nvSpPr>
          <p:spPr>
            <a:xfrm>
              <a:off x="285840" y="492912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Text Box 6"/>
            <p:cNvSpPr/>
            <p:nvPr/>
          </p:nvSpPr>
          <p:spPr>
            <a:xfrm>
              <a:off x="285840" y="492912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순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자원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본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기관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와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관리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접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 및 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접적 서비스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직사각형 17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AutoShape 2"/>
            <p:cNvSpPr/>
            <p:nvPr/>
          </p:nvSpPr>
          <p:spPr>
            <a:xfrm>
              <a:off x="285840" y="4143240"/>
              <a:ext cx="8715600" cy="365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285840" y="414324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최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포괄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직사각형 20"/>
            <p:cNvSpPr/>
            <p:nvPr/>
          </p:nvSpPr>
          <p:spPr>
            <a:xfrm>
              <a:off x="285840" y="3714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포괄성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직사각형 18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직사각형 21"/>
            <p:cNvSpPr/>
            <p:nvPr/>
          </p:nvSpPr>
          <p:spPr>
            <a:xfrm>
              <a:off x="285840" y="56754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의 역할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2"/>
            <p:cNvSpPr/>
            <p:nvPr/>
          </p:nvSpPr>
          <p:spPr>
            <a:xfrm>
              <a:off x="285840" y="60724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Text Box 6"/>
            <p:cNvSpPr/>
            <p:nvPr/>
          </p:nvSpPr>
          <p:spPr>
            <a:xfrm>
              <a:off x="285840" y="605952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개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그룹 16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709" name="AutoShape 4"/>
            <p:cNvSpPr/>
            <p:nvPr/>
          </p:nvSpPr>
          <p:spPr>
            <a:xfrm>
              <a:off x="357120" y="71280"/>
              <a:ext cx="46436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구성요소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2"/>
            <p:cNvSpPr/>
            <p:nvPr/>
          </p:nvSpPr>
          <p:spPr>
            <a:xfrm>
              <a:off x="285840" y="642600"/>
              <a:ext cx="8715600" cy="42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285840" y="687240"/>
              <a:ext cx="86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자원으로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285840" y="1566720"/>
              <a:ext cx="8715600" cy="396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85840" y="1576080"/>
              <a:ext cx="878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욕구를 지닌 노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직사각형 11"/>
            <p:cNvSpPr/>
            <p:nvPr/>
          </p:nvSpPr>
          <p:spPr>
            <a:xfrm>
              <a:off x="285840" y="1142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클라이언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AutoShape 2"/>
            <p:cNvSpPr/>
            <p:nvPr/>
          </p:nvSpPr>
          <p:spPr>
            <a:xfrm>
              <a:off x="285840" y="2601720"/>
              <a:ext cx="8715600" cy="1827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285840" y="2643120"/>
              <a:ext cx="864432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심리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활치료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병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우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양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전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교인 등으로 구성된 사례관리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r: key worker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팀성원 역할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가 다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역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개발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자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직사각형 14"/>
            <p:cNvSpPr/>
            <p:nvPr/>
          </p:nvSpPr>
          <p:spPr>
            <a:xfrm>
              <a:off x="285840" y="22143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AutoShape 2"/>
            <p:cNvSpPr/>
            <p:nvPr/>
          </p:nvSpPr>
          <p:spPr>
            <a:xfrm>
              <a:off x="285840" y="59626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85840" y="5970600"/>
              <a:ext cx="85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물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나 지지 등의 개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 관계망의 자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직사각형 17"/>
            <p:cNvSpPr/>
            <p:nvPr/>
          </p:nvSpPr>
          <p:spPr>
            <a:xfrm>
              <a:off x="285840" y="5572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회자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AutoShape 2"/>
            <p:cNvSpPr/>
            <p:nvPr/>
          </p:nvSpPr>
          <p:spPr>
            <a:xfrm>
              <a:off x="285840" y="50338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Text Box 6"/>
            <p:cNvSpPr/>
            <p:nvPr/>
          </p:nvSpPr>
          <p:spPr>
            <a:xfrm>
              <a:off x="285840" y="5042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행 및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의 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직사각형 20"/>
            <p:cNvSpPr/>
            <p:nvPr/>
          </p:nvSpPr>
          <p:spPr>
            <a:xfrm>
              <a:off x="285840" y="4618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과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그룹 20"/>
          <p:cNvGrpSpPr/>
          <p:nvPr/>
        </p:nvGrpSpPr>
        <p:grpSpPr>
          <a:xfrm>
            <a:off x="285840" y="0"/>
            <a:ext cx="8786880" cy="6429240"/>
            <a:chOff x="285840" y="0"/>
            <a:chExt cx="8786880" cy="6429240"/>
          </a:xfrm>
        </p:grpSpPr>
        <p:sp>
          <p:nvSpPr>
            <p:cNvPr id="725" name="AutoShape 4"/>
            <p:cNvSpPr/>
            <p:nvPr/>
          </p:nvSpPr>
          <p:spPr>
            <a:xfrm>
              <a:off x="357120" y="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AutoShape 2"/>
            <p:cNvSpPr/>
            <p:nvPr/>
          </p:nvSpPr>
          <p:spPr>
            <a:xfrm>
              <a:off x="285840" y="825480"/>
              <a:ext cx="8715600" cy="650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285840" y="833400"/>
              <a:ext cx="87156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발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전 적격심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ADL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욕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자격기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제공에 관한 계약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직사각형 8"/>
            <p:cNvSpPr/>
            <p:nvPr/>
          </p:nvSpPr>
          <p:spPr>
            <a:xfrm>
              <a:off x="285840" y="4680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접수단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AutoShape 2"/>
            <p:cNvSpPr/>
            <p:nvPr/>
          </p:nvSpPr>
          <p:spPr>
            <a:xfrm>
              <a:off x="285840" y="1820880"/>
              <a:ext cx="8715600" cy="36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85840" y="1828800"/>
              <a:ext cx="87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적 관계망의 욕구와 자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능력을 종합적으로 사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3 13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직사각형 11"/>
            <p:cNvSpPr/>
            <p:nvPr/>
          </p:nvSpPr>
          <p:spPr>
            <a:xfrm>
              <a:off x="285840" y="146844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사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2"/>
            <p:cNvSpPr/>
            <p:nvPr/>
          </p:nvSpPr>
          <p:spPr>
            <a:xfrm>
              <a:off x="285840" y="2539800"/>
              <a:ext cx="8715600" cy="71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Text Box 6"/>
            <p:cNvSpPr/>
            <p:nvPr/>
          </p:nvSpPr>
          <p:spPr>
            <a:xfrm>
              <a:off x="285840" y="2547720"/>
              <a:ext cx="878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 목적과 목표의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의 우선순위 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성취를 위한 보호계획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의 계획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4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직사각형 23"/>
            <p:cNvSpPr/>
            <p:nvPr/>
          </p:nvSpPr>
          <p:spPr>
            <a:xfrm>
              <a:off x="285840" y="2182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계획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AutoShape 2"/>
            <p:cNvSpPr/>
            <p:nvPr/>
          </p:nvSpPr>
          <p:spPr>
            <a:xfrm>
              <a:off x="285840" y="36068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285840" y="36147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편적 서비스의 통합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적 서비스 제공자 및 간접적 서비스 제공자 역할 동시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직사각형 26"/>
            <p:cNvSpPr/>
            <p:nvPr/>
          </p:nvSpPr>
          <p:spPr>
            <a:xfrm>
              <a:off x="285840" y="32544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실행 및 조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AutoShape 2"/>
            <p:cNvSpPr/>
            <p:nvPr/>
          </p:nvSpPr>
          <p:spPr>
            <a:xfrm>
              <a:off x="285840" y="47102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85840" y="47181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적시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분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절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속성의 보장을 위한 서비스 전달 및 실행과정 추적 및 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계획의 수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직사각형 29"/>
            <p:cNvSpPr/>
            <p:nvPr/>
          </p:nvSpPr>
          <p:spPr>
            <a:xfrm>
              <a:off x="285840" y="4325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점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AutoShape 2"/>
            <p:cNvSpPr/>
            <p:nvPr/>
          </p:nvSpPr>
          <p:spPr>
            <a:xfrm>
              <a:off x="285840" y="574200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Text Box 6"/>
            <p:cNvSpPr/>
            <p:nvPr/>
          </p:nvSpPr>
          <p:spPr>
            <a:xfrm>
              <a:off x="285840" y="57513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종결과 효과성 평가 단계로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면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회의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록검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이용자료 등을 근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평가하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래 계획 및 사후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직사각형 32"/>
            <p:cNvSpPr/>
            <p:nvPr/>
          </p:nvSpPr>
          <p:spPr>
            <a:xfrm>
              <a:off x="285840" y="53974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평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>
            <a:off x="0" y="3929040"/>
            <a:ext cx="85716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6" name="그룹 37"/>
          <p:cNvGrpSpPr/>
          <p:nvPr/>
        </p:nvGrpSpPr>
        <p:grpSpPr>
          <a:xfrm>
            <a:off x="250920" y="1425600"/>
            <a:ext cx="8699400" cy="4146480"/>
            <a:chOff x="250920" y="1425600"/>
            <a:chExt cx="8699400" cy="4146480"/>
          </a:xfrm>
        </p:grpSpPr>
        <p:sp>
          <p:nvSpPr>
            <p:cNvPr id="557" name="AutoShape 4"/>
            <p:cNvSpPr/>
            <p:nvPr/>
          </p:nvSpPr>
          <p:spPr>
            <a:xfrm>
              <a:off x="1622520" y="2097000"/>
              <a:ext cx="7307280" cy="6699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실천의 의미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입수준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체계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8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1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564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6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8"/>
              <p:cNvSpPr/>
              <p:nvPr/>
            </p:nvSpPr>
            <p:spPr>
              <a:xfrm>
                <a:off x="642960" y="357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4"/>
            <p:cNvGrpSpPr/>
            <p:nvPr/>
          </p:nvGrpSpPr>
          <p:grpSpPr>
            <a:xfrm>
              <a:off x="642960" y="4857120"/>
              <a:ext cx="856800" cy="714600"/>
              <a:chOff x="642960" y="4857120"/>
              <a:chExt cx="856800" cy="714600"/>
            </a:xfrm>
          </p:grpSpPr>
          <p:sp>
            <p:nvSpPr>
              <p:cNvPr id="569" name="Oval 15"/>
              <p:cNvSpPr/>
              <p:nvPr/>
            </p:nvSpPr>
            <p:spPr>
              <a:xfrm>
                <a:off x="664200" y="4857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664200" y="48589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1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8610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8"/>
              <p:cNvSpPr/>
              <p:nvPr/>
            </p:nvSpPr>
            <p:spPr>
              <a:xfrm>
                <a:off x="642960" y="4861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3" name="AutoShape 4"/>
            <p:cNvSpPr/>
            <p:nvPr/>
          </p:nvSpPr>
          <p:spPr>
            <a:xfrm>
              <a:off x="1643040" y="3614760"/>
              <a:ext cx="7307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상담의 특성과 과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기술의 이해와 습득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1643040" y="4897440"/>
              <a:ext cx="730728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 사례관리의 모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구성요소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과정의 이해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>
              <a:off x="250920" y="14256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99760" y="274680"/>
            <a:ext cx="73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1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그룹 16"/>
          <p:cNvGrpSpPr/>
          <p:nvPr/>
        </p:nvGrpSpPr>
        <p:grpSpPr>
          <a:xfrm>
            <a:off x="285840" y="0"/>
            <a:ext cx="8643960" cy="6555240"/>
            <a:chOff x="285840" y="0"/>
            <a:chExt cx="8643960" cy="6555240"/>
          </a:xfrm>
        </p:grpSpPr>
        <p:grpSp>
          <p:nvGrpSpPr>
            <p:cNvPr id="745" name="그룹 12"/>
            <p:cNvGrpSpPr/>
            <p:nvPr/>
          </p:nvGrpSpPr>
          <p:grpSpPr>
            <a:xfrm>
              <a:off x="285840" y="0"/>
              <a:ext cx="7643880" cy="1071360"/>
              <a:chOff x="285840" y="0"/>
              <a:chExt cx="7643880" cy="1071360"/>
            </a:xfrm>
          </p:grpSpPr>
          <p:pic>
            <p:nvPicPr>
              <p:cNvPr id="746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85840" y="0"/>
                <a:ext cx="1099080" cy="107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Rectangle 4"/>
              <p:cNvGrpSpPr/>
              <p:nvPr/>
            </p:nvGrpSpPr>
            <p:grpSpPr>
              <a:xfrm>
                <a:off x="1430280" y="42480"/>
                <a:ext cx="6499440" cy="902160"/>
                <a:chOff x="1430280" y="42480"/>
                <a:chExt cx="6499440" cy="902160"/>
              </a:xfrm>
            </p:grpSpPr>
            <p:pic>
              <p:nvPicPr>
                <p:cNvPr id="748" name="Rectangl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30280" y="42480"/>
                  <a:ext cx="649944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9" name=""/>
                <p:cNvSpPr/>
                <p:nvPr/>
              </p:nvSpPr>
              <p:spPr>
                <a:xfrm>
                  <a:off x="1485360" y="142560"/>
                  <a:ext cx="638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 </a:t>
                  </a: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노인복지론 강의를 마무리 하며</a:t>
                  </a:r>
                  <a:r>
                    <a:rPr b="0" lang="en-US" sz="2800" spc="-1" strike="noStrike">
                      <a:solidFill>
                        <a:srgbClr val="827305"/>
                      </a:solidFill>
                      <a:latin typeface="HY강B"/>
                    </a:rPr>
                    <a:t>…</a:t>
                  </a:r>
                  <a:endParaRPr b="0" lang="en-US" sz="2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0" name="AutoShape 2"/>
            <p:cNvSpPr/>
            <p:nvPr/>
          </p:nvSpPr>
          <p:spPr>
            <a:xfrm>
              <a:off x="428400" y="1303200"/>
              <a:ext cx="8501400" cy="625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571320" y="1303200"/>
              <a:ext cx="835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술이라는 세가지 조건을 갖추기 위한 최선의 노력을 지속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경주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직사각형 10"/>
            <p:cNvSpPr/>
            <p:nvPr/>
          </p:nvSpPr>
          <p:spPr>
            <a:xfrm>
              <a:off x="428400" y="94608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차가운 머리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뜨거운 가슴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움직이는 손과 발을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AutoShape 2"/>
            <p:cNvSpPr/>
            <p:nvPr/>
          </p:nvSpPr>
          <p:spPr>
            <a:xfrm>
              <a:off x="428400" y="238428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571320" y="238428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는 실천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과 이념에만 얽매이는 복지는 무의미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모든 삶의 영역에 개입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ar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부터 전문적 임상개입에 이르기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 노인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felt nee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충족시키기 위하여 노력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직사각형 13"/>
            <p:cNvSpPr/>
            <p:nvPr/>
          </p:nvSpPr>
          <p:spPr>
            <a:xfrm>
              <a:off x="428400" y="20271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책 속의 복지가 아닌 삶 속의 복지를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AutoShape 2"/>
            <p:cNvSpPr/>
            <p:nvPr/>
          </p:nvSpPr>
          <p:spPr>
            <a:xfrm>
              <a:off x="428400" y="374184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571320" y="374184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는 수없이 직면하는 딜레마를 극복하면서 성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흰머리가 되어서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'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제부터 수학을 시작해보려 하네’라고 말한 대수학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Whitehea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늘 처음 그대로의 열정으로 헌신할 것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직사각형 17"/>
            <p:cNvSpPr/>
            <p:nvPr/>
          </p:nvSpPr>
          <p:spPr>
            <a:xfrm>
              <a:off x="428400" y="338472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dilemma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와 ‘처음 처럼’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AutoShape 2"/>
            <p:cNvSpPr/>
            <p:nvPr/>
          </p:nvSpPr>
          <p:spPr>
            <a:xfrm>
              <a:off x="428400" y="5089680"/>
              <a:ext cx="8501400" cy="1411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Text Box 6"/>
            <p:cNvSpPr/>
            <p:nvPr/>
          </p:nvSpPr>
          <p:spPr>
            <a:xfrm>
              <a:off x="571320" y="5089680"/>
              <a:ext cx="835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무드는 ‘많은 지혜가 포함되어 있지만 시작조차 못했다’는 의미에서 첫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쪽이 백지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앞으로도 지속적으로 지혜의 보완이 요구되므로 마지막 쪽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지인 것처럼 늘 부족함을 채워가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재의 뒷 표지에 나오는 효빈잡기의 젊은 쥐처럼 뒤늦게 후회하는 자녀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가 되지 않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직사각형 20"/>
            <p:cNvSpPr/>
            <p:nvPr/>
          </p:nvSpPr>
          <p:spPr>
            <a:xfrm>
              <a:off x="428400" y="47325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탈무드와 효빈잡기에서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6"/>
          <p:cNvGrpSpPr/>
          <p:nvPr/>
        </p:nvGrpSpPr>
        <p:grpSpPr>
          <a:xfrm>
            <a:off x="0" y="0"/>
            <a:ext cx="9215280" cy="6429240"/>
            <a:chOff x="0" y="0"/>
            <a:chExt cx="9215280" cy="6429240"/>
          </a:xfrm>
        </p:grpSpPr>
        <p:pic>
          <p:nvPicPr>
            <p:cNvPr id="57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실천의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2"/>
            <p:cNvSpPr/>
            <p:nvPr/>
          </p:nvSpPr>
          <p:spPr>
            <a:xfrm>
              <a:off x="71280" y="1285920"/>
              <a:ext cx="9001080" cy="5143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14200" y="1500120"/>
              <a:ext cx="90010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 및 지역사회 수준에서 원조와 서비스를 제공하여 노인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을 향상시키려는 통합적인 노인복지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과 환경과의 상호작용과정에서 갖게 되는 욕구와 문제를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여 노인의 사회적 기능 향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사회적 기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회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욕구충족과 능력개발에 필요한 사회정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의 계획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에 직면한 노인의 역량강화와 사회경제적 정의의 증진을 위한 옹호와 사회행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와 관련된 전문지식과 기술의 개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검증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의 회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나 장애의 해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업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지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교육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연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알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자 케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훈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활동 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역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력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옹호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상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발굴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동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문서비스제공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및 정책개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기획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동원가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4"/>
            <p:cNvSpPr/>
            <p:nvPr/>
          </p:nvSpPr>
          <p:spPr>
            <a:xfrm>
              <a:off x="357120" y="92844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념과 목적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그룹 17"/>
          <p:cNvGrpSpPr/>
          <p:nvPr/>
        </p:nvGrpSpPr>
        <p:grpSpPr>
          <a:xfrm>
            <a:off x="285840" y="71280"/>
            <a:ext cx="8643960" cy="6429600"/>
            <a:chOff x="285840" y="71280"/>
            <a:chExt cx="8643960" cy="6429600"/>
          </a:xfrm>
        </p:grpSpPr>
        <p:sp>
          <p:nvSpPr>
            <p:cNvPr id="584" name="AutoShape 2"/>
            <p:cNvSpPr/>
            <p:nvPr/>
          </p:nvSpPr>
          <p:spPr>
            <a:xfrm>
              <a:off x="285840" y="356760"/>
              <a:ext cx="8643960" cy="6144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644400"/>
              <a:ext cx="8501400" cy="57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수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 및 문제가 서로 다르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실천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는 다양한 수준의 개입이 요구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하고 활동적인 노인의 문제 사전예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기능 유지와 복리증진을 위한 문제해결모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건강증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봉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스트레스 대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적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편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으로부터의 보호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개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화로 인한 위기나 질병과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ADL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저하로 인해 의존성을 보이는 노인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기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대처능력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적 생활유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과제중심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기개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지행동모델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상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가서비스 제공과 사례발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력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임상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이 어려운 기능상의 문제를 지닌 노인과 가족을 대상으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역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의 최소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잔존능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회복 위한 재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 및 심리사회적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활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클라이언트 발굴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동원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AutoShape 4"/>
            <p:cNvSpPr/>
            <p:nvPr/>
          </p:nvSpPr>
          <p:spPr>
            <a:xfrm>
              <a:off x="357120" y="71280"/>
              <a:ext cx="521496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입수준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7"/>
          <p:cNvGrpSpPr/>
          <p:nvPr/>
        </p:nvGrpSpPr>
        <p:grpSpPr>
          <a:xfrm>
            <a:off x="285840" y="285840"/>
            <a:ext cx="8715240" cy="5929200"/>
            <a:chOff x="285840" y="285840"/>
            <a:chExt cx="8715240" cy="5929200"/>
          </a:xfrm>
        </p:grpSpPr>
        <p:sp>
          <p:nvSpPr>
            <p:cNvPr id="588" name="AutoShape 2"/>
            <p:cNvSpPr/>
            <p:nvPr/>
          </p:nvSpPr>
          <p:spPr>
            <a:xfrm>
              <a:off x="285840" y="493560"/>
              <a:ext cx="8715240" cy="572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357120" y="904680"/>
              <a:ext cx="8501040" cy="51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과적 노인복지실천을 위해 사회복지사는 차가운 머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식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뜨거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슴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치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리고 움직이는 손과 발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라는 세가지 조건을 갖추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야 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식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환경간의 상호작용을 이해하는데 필요한 기초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미시 및 거시적 수준의 개입에 필요한 실천적 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장 경험을 토대로 체득한 실천지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기술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촉진적 원조관계를 맺을 수 있는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 사회를 변화시킬 수 있는 개입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질적 원조행위에 수반되어야 할 서비스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치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람 사랑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세상 사랑’이란 용어로 은유적으로 표현되는 사회복지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유가치를 기반으로 만들어진 윤리강령을 지식과 기술체계를 안내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토로 삼아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AutoShape 4"/>
            <p:cNvSpPr/>
            <p:nvPr/>
          </p:nvSpPr>
          <p:spPr>
            <a:xfrm>
              <a:off x="357120" y="285840"/>
              <a:ext cx="5214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구성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36360" y="0"/>
            <a:ext cx="9144000" cy="6429240"/>
            <a:chOff x="36360" y="0"/>
            <a:chExt cx="9144000" cy="6429240"/>
          </a:xfrm>
        </p:grpSpPr>
        <p:pic>
          <p:nvPicPr>
            <p:cNvPr id="59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3636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"/>
            <p:cNvSpPr/>
            <p:nvPr/>
          </p:nvSpPr>
          <p:spPr>
            <a:xfrm>
              <a:off x="1320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상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4" name="그룹 17"/>
            <p:cNvGrpSpPr/>
            <p:nvPr/>
          </p:nvGrpSpPr>
          <p:grpSpPr>
            <a:xfrm>
              <a:off x="214920" y="1849320"/>
              <a:ext cx="8606160" cy="4579920"/>
              <a:chOff x="214920" y="1849320"/>
              <a:chExt cx="8606160" cy="4579920"/>
            </a:xfrm>
          </p:grpSpPr>
          <p:sp>
            <p:nvSpPr>
              <p:cNvPr id="595" name="AutoShape 2"/>
              <p:cNvSpPr/>
              <p:nvPr/>
            </p:nvSpPr>
            <p:spPr>
              <a:xfrm>
                <a:off x="214920" y="2221920"/>
                <a:ext cx="8606160" cy="420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Text Box 25"/>
              <p:cNvSpPr/>
              <p:nvPr/>
            </p:nvSpPr>
            <p:spPr>
              <a:xfrm>
                <a:off x="286920" y="2425320"/>
                <a:ext cx="8391960" cy="38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필요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은 노화로 인한 기능저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정서적 유대 약화로 고독과 소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심리사회적 욕구 미충족과 문제를 경험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욕구충족과 문제해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생활 적응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질 제고를 위하여 노인상담이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되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특히 노인상담을 통해 관계망을 보완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숨겨진 욕구나 문제를 탐색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에 대한 지지를 위한 상담의 필요성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과 가족을 대상으로 한 상담과 임상적 개입은 매우 미흡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통 중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주의의식으로 외부에 원조요청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대한 정보 제한과 상담기관의 낮은 접근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늙으면 다 그렇다’는 식의 상담 필요성 자체에 대한 인식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관한 연구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센터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 전문가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AutoShape 4"/>
              <p:cNvSpPr/>
              <p:nvPr/>
            </p:nvSpPr>
            <p:spPr>
              <a:xfrm>
                <a:off x="429480" y="1849320"/>
                <a:ext cx="43912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상담의 필요성과 현상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8" name="그룹 22"/>
            <p:cNvGrpSpPr/>
            <p:nvPr/>
          </p:nvGrpSpPr>
          <p:grpSpPr>
            <a:xfrm>
              <a:off x="176760" y="928440"/>
              <a:ext cx="8643960" cy="714240"/>
              <a:chOff x="176760" y="928440"/>
              <a:chExt cx="8643960" cy="714240"/>
            </a:xfrm>
          </p:grpSpPr>
          <p:sp>
            <p:nvSpPr>
              <p:cNvPr id="599" name="AutoShape 2"/>
              <p:cNvSpPr/>
              <p:nvPr/>
            </p:nvSpPr>
            <p:spPr>
              <a:xfrm>
                <a:off x="176760" y="928440"/>
                <a:ext cx="864396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Text Box 6"/>
              <p:cNvSpPr/>
              <p:nvPr/>
            </p:nvSpPr>
            <p:spPr>
              <a:xfrm>
                <a:off x="248760" y="928440"/>
                <a:ext cx="8358480" cy="6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상담은 노인의 문제해결 뿐 아니라 다른 서비스의 매개체로서의 기능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시에 지니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의 핵심 접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10"/>
          <p:cNvGrpSpPr/>
          <p:nvPr/>
        </p:nvGrpSpPr>
        <p:grpSpPr>
          <a:xfrm>
            <a:off x="179280" y="142920"/>
            <a:ext cx="8715600" cy="6357960"/>
            <a:chOff x="179280" y="142920"/>
            <a:chExt cx="8715600" cy="6357960"/>
          </a:xfrm>
        </p:grpSpPr>
        <p:sp>
          <p:nvSpPr>
            <p:cNvPr id="602" name="AutoShape 2"/>
            <p:cNvSpPr/>
            <p:nvPr/>
          </p:nvSpPr>
          <p:spPr>
            <a:xfrm>
              <a:off x="179280" y="500040"/>
              <a:ext cx="8715600" cy="314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10"/>
            <p:cNvGrpSpPr/>
            <p:nvPr/>
          </p:nvGrpSpPr>
          <p:grpSpPr>
            <a:xfrm>
              <a:off x="250560" y="142920"/>
              <a:ext cx="8501400" cy="3530880"/>
              <a:chOff x="250560" y="142920"/>
              <a:chExt cx="8501400" cy="3530880"/>
            </a:xfrm>
          </p:grpSpPr>
          <p:sp>
            <p:nvSpPr>
              <p:cNvPr id="604" name="AutoShape 4"/>
              <p:cNvSpPr/>
              <p:nvPr/>
            </p:nvSpPr>
            <p:spPr>
              <a:xfrm>
                <a:off x="25056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개념과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Text Box 6"/>
              <p:cNvSpPr/>
              <p:nvPr/>
            </p:nvSpPr>
            <p:spPr>
              <a:xfrm>
                <a:off x="250560" y="642960"/>
                <a:ext cx="8501400" cy="30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움을 필요로 하는 노인이 상담자와 전문적 원조관계를 통하여 제반 문제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 감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동 측면의 성장을 도모하여 성공적인 노후생활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영위하기 위하여 노력하는 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특성</a:t>
                </a:r>
                <a:r>
                  <a:rPr b="0" lang="en-US" sz="19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이나 치료보다는 삶에 대한 지지를 강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의 성과를 실제 생활에 적용하는 것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면 손상 방지를 위해 심층상담 지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계획적 종결이 많으므로 종결과정에 더 많은 에너지 투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AutoShape 2"/>
            <p:cNvSpPr/>
            <p:nvPr/>
          </p:nvSpPr>
          <p:spPr>
            <a:xfrm>
              <a:off x="179280" y="414360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10"/>
            <p:cNvGrpSpPr/>
            <p:nvPr/>
          </p:nvGrpSpPr>
          <p:grpSpPr>
            <a:xfrm>
              <a:off x="250560" y="3786120"/>
              <a:ext cx="8287200" cy="2627280"/>
              <a:chOff x="250560" y="3786120"/>
              <a:chExt cx="8287200" cy="2627280"/>
            </a:xfrm>
          </p:grpSpPr>
          <p:sp>
            <p:nvSpPr>
              <p:cNvPr id="608" name="AutoShape 4"/>
              <p:cNvSpPr/>
              <p:nvPr/>
            </p:nvSpPr>
            <p:spPr>
              <a:xfrm>
                <a:off x="250560" y="3786120"/>
                <a:ext cx="468036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영역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Text Box 6"/>
              <p:cNvSpPr/>
              <p:nvPr/>
            </p:nvSpPr>
            <p:spPr>
              <a:xfrm>
                <a:off x="321840" y="4357800"/>
                <a:ext cx="8215920" cy="20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영역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목적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 직면한 문제해결과 성공적 노후적응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필요한 자원의 동원과 이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체적 강점의 강화와 건강약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보호 및 주거시설 욕구 충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에서의 새로운 역할 획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관계 재조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요 타인의 상실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은퇴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정변화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주도권과 자율적 의사결정의 원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Burlingame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그룹 8"/>
          <p:cNvGrpSpPr/>
          <p:nvPr/>
        </p:nvGrpSpPr>
        <p:grpSpPr>
          <a:xfrm>
            <a:off x="250920" y="71280"/>
            <a:ext cx="8643960" cy="6286680"/>
            <a:chOff x="250920" y="71280"/>
            <a:chExt cx="8643960" cy="6286680"/>
          </a:xfrm>
        </p:grpSpPr>
        <p:sp>
          <p:nvSpPr>
            <p:cNvPr id="611" name="AutoShape 4"/>
            <p:cNvSpPr/>
            <p:nvPr/>
          </p:nvSpPr>
          <p:spPr>
            <a:xfrm>
              <a:off x="250920" y="71280"/>
              <a:ext cx="6357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상담의 원조관계와 상담자의 태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2"/>
            <p:cNvSpPr/>
            <p:nvPr/>
          </p:nvSpPr>
          <p:spPr>
            <a:xfrm>
              <a:off x="322200" y="999720"/>
              <a:ext cx="8501400" cy="1231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Text Box 6"/>
            <p:cNvSpPr/>
            <p:nvPr/>
          </p:nvSpPr>
          <p:spPr>
            <a:xfrm>
              <a:off x="465120" y="1071360"/>
              <a:ext cx="8358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의 원조관계는 일반상담과 대동소이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원조관계의 원칙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도적 감정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제된 정서적 관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심판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죽음에 대한 적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직사각형 7"/>
            <p:cNvSpPr/>
            <p:nvPr/>
          </p:nvSpPr>
          <p:spPr>
            <a:xfrm>
              <a:off x="3222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상담의 원조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AutoShape 2"/>
            <p:cNvSpPr/>
            <p:nvPr/>
          </p:nvSpPr>
          <p:spPr>
            <a:xfrm>
              <a:off x="322200" y="2643120"/>
              <a:ext cx="85014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465120" y="2714400"/>
              <a:ext cx="8429760" cy="35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자가 범하기 쉬운 오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고통과 노인을 별개의 존재로 간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법만으로 문제를 해결하려 하므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에 대한 신뢰감 부여와 노인 존중이 어려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간으로서의 상담자와 전문가로서의 상담자를 분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에 대한 전문성의 확보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론 인간적 자질의 동시 연마가 요구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과정에서의 상담자의 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존중과 예의를 갖추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령이 적어도 위축되지 말아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단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보다는 장점을 발견하여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약화 보완하는 상담환경 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자발적 문제해결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존성 조장하고 자립능력 훼손해서는 안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의 차이 인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로서의 역할 성실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생활에 도움되는 구체적 서비스 연결 및 제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청과 지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내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죽음 불안에 대처할 수 있도록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직사각형 10"/>
            <p:cNvSpPr/>
            <p:nvPr/>
          </p:nvSpPr>
          <p:spPr>
            <a:xfrm>
              <a:off x="322200" y="23176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 상담자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그룹 7"/>
          <p:cNvGrpSpPr/>
          <p:nvPr/>
        </p:nvGrpSpPr>
        <p:grpSpPr>
          <a:xfrm>
            <a:off x="179280" y="142920"/>
            <a:ext cx="8715600" cy="6000480"/>
            <a:chOff x="179280" y="142920"/>
            <a:chExt cx="8715600" cy="6000480"/>
          </a:xfrm>
        </p:grpSpPr>
        <p:sp>
          <p:nvSpPr>
            <p:cNvPr id="619" name="AutoShape 2"/>
            <p:cNvSpPr/>
            <p:nvPr/>
          </p:nvSpPr>
          <p:spPr>
            <a:xfrm>
              <a:off x="179280" y="428400"/>
              <a:ext cx="871560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0" name="그룹 10"/>
            <p:cNvGrpSpPr/>
            <p:nvPr/>
          </p:nvGrpSpPr>
          <p:grpSpPr>
            <a:xfrm>
              <a:off x="250560" y="142920"/>
              <a:ext cx="8501400" cy="2593440"/>
              <a:chOff x="250560" y="142920"/>
              <a:chExt cx="8501400" cy="2593440"/>
            </a:xfrm>
          </p:grpSpPr>
          <p:sp>
            <p:nvSpPr>
              <p:cNvPr id="621" name="AutoShape 4"/>
              <p:cNvSpPr/>
              <p:nvPr/>
            </p:nvSpPr>
            <p:spPr>
              <a:xfrm>
                <a:off x="25056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상담의 종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Text Box 6"/>
              <p:cNvSpPr/>
              <p:nvPr/>
            </p:nvSpPr>
            <p:spPr>
              <a:xfrm>
                <a:off x="250560" y="642960"/>
                <a:ext cx="8501400" cy="20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인상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면적 상담을 통해 위급하거나 원인이 복잡한 문제해결에 적합하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낮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접근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언어표현능력의 제한 등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집단상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한 문제를 가진 노인과 지도자의 공동활동을 통해 노인의 교육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 및 행동변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호지지적 관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自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형성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3" name="Text Box 6"/>
            <p:cNvSpPr/>
            <p:nvPr/>
          </p:nvSpPr>
          <p:spPr>
            <a:xfrm>
              <a:off x="250560" y="2746440"/>
              <a:ext cx="850140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족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문제 뿐 아니라 전체 가족관계의 문제해결을 도모하는 접근방법으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상담의 방법을 동시에 활용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화상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접근성과 익명성 보장에 대한 요구를 수용하여 즉시적 원조가 가능한 상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지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언어적 의사소통의 이해에 어려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Text Box 6"/>
            <p:cNvSpPr/>
            <p:nvPr/>
          </p:nvSpPr>
          <p:spPr>
            <a:xfrm>
              <a:off x="250560" y="4797720"/>
              <a:ext cx="850140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터넷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홈페이지의 상담코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메일 비공개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시간 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카페를 이용한 동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등의 비대면 상담 영역이 확대되고 있으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낮은 정보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으로 인한 제한이 따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2:02:16Z</dcterms:modified>
  <cp:revision>33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